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4BD8F-A829-48D4-BDBF-1B026F5A0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2BC99-2B83-4B2D-89FF-251D4D8E9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EC91C-E518-4D8A-8409-B5CC3E5E4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B2ABF-CB30-4C58-ADF9-8CA217698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335D6-2F0B-4164-9EFB-8AE35FA27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EE026-5A59-4F75-94F7-CEBDC3149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E6795-E5DD-4A6E-9B51-D819BAFB4F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B41C0-1009-4AB1-B59B-5A8CD738B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CCAD8-1FD6-4809-8EAE-D65229990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1131D-B98F-411C-8F05-BF0147C65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6647B-E02E-4DA3-9C84-EA750615F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AB2DC-3821-4AA2-80D3-71B77AAB2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7304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FFDEA1-C914-455D-BDD8-48C748E70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2/0368r1</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46" name="Footer Placeholder 4"/>
          <p:cNvSpPr/>
          <p:nvPr/>
        </p:nvSpPr>
        <p:spPr>
          <a:xfrm>
            <a:off x="7702200" y="6475320"/>
            <a:ext cx="1216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99DA9B-C78C-443F-BFF9-34C85B267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Qbu</a:t>
            </a:r>
            <a:endParaRPr b="1" lang="en-US" sz="3200" spc="-1" strike="noStrike">
              <a:solidFill>
                <a:srgbClr val="000000"/>
              </a:solidFill>
              <a:latin typeface="Times New Roman"/>
            </a:endParaRPr>
          </a:p>
        </p:txBody>
      </p:sp>
      <p:sp>
        <p:nvSpPr>
          <p:cNvPr id="4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Should “the transmission of the preempted frame” really be “the transmission of the preempted frames”?</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ular seemed incorrect.</a:t>
            </a:r>
            <a:endParaRPr b="1" lang="en-US" sz="2000" spc="-1" strike="noStrike">
              <a:solidFill>
                <a:srgbClr val="000000"/>
              </a:solidFill>
              <a:latin typeface="Times New Roman"/>
            </a:endParaRPr>
          </a:p>
          <a:p>
            <a:pPr lvl="2" marL="1085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he text is correct. There is only one level of preemption being defined; therefore only one frame that can be preempted at a given time.</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3 Would other 802 WGs need to provide “support of pre-emptive forwarding in MAC Services” for end stations?  Why only 802.3?</a:t>
            </a:r>
            <a:endParaRPr b="1" lang="en-US" sz="2000" spc="-1" strike="noStrike">
              <a:solidFill>
                <a:srgbClr val="000000"/>
              </a:solidFill>
              <a:latin typeface="Times New Roman"/>
            </a:endParaRPr>
          </a:p>
          <a:p>
            <a:pPr lvl="2" marL="1085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ight now, the only use case that we know of is for preemption in 802.3 networks. It is conceivable that other use cases may emerge in due course, but there are none on the table at present.</a:t>
            </a:r>
            <a:endParaRPr b="0" lang="en-US" sz="16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3 Why should this PAR start prior to 802.3 being ready to start?</a:t>
            </a:r>
            <a:endParaRPr b="1" lang="en-US" sz="2000" spc="-1" strike="noStrike">
              <a:solidFill>
                <a:srgbClr val="000000"/>
              </a:solidFill>
              <a:latin typeface="Times New Roman"/>
            </a:endParaRPr>
          </a:p>
          <a:p>
            <a:pPr lvl="2" marL="108576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he requirement as far as the SA is concerned is that Qbu does not complete before any project upon which it is contingent. There is therefore no reason not to start work on the project before the 802.3 project sta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51" name="Footer Placeholder 4"/>
          <p:cNvSpPr/>
          <p:nvPr/>
        </p:nvSpPr>
        <p:spPr>
          <a:xfrm>
            <a:off x="7702200" y="6475320"/>
            <a:ext cx="12168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F1415D5-AD0A-4C9A-B9C7-56A1EB282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Xbx</a:t>
            </a:r>
            <a:endParaRPr b="1" lang="en-US" sz="32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2 and 4.3 the time for doing sponsor ballot seems too short.  NesCom generally expects as a minimum 6 months between dates.</a:t>
            </a:r>
            <a:endParaRPr b="1" lang="en-US" sz="2400" spc="-1" strike="noStrike">
              <a:solidFill>
                <a:srgbClr val="000000"/>
              </a:solidFill>
              <a:latin typeface="Times New Roman"/>
            </a:endParaRPr>
          </a:p>
          <a:p>
            <a:pPr lvl="2" marL="10857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We have amended the submittal date to 02/2014 which allows 8 months between initial SB and submission.</a:t>
            </a:r>
            <a:endParaRPr b="0" lang="en-US" sz="1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18:34:31Z</dcterms:created>
  <dc:creator>Jon Rosdahl</dc:creator>
  <dc:description/>
  <dc:language>en-US</dc:language>
  <cp:lastModifiedBy>Tony</cp:lastModifiedBy>
  <cp:lastPrinted>1998-02-10T13:28:06Z</cp:lastPrinted>
  <dcterms:modified xsi:type="dcterms:W3CDTF">2012-03-14T20:17:24Z</dcterms:modified>
  <cp:revision>13</cp:revision>
  <dc:subject/>
  <dc:title>WG11 review of Proposed 802 PARs</dc:title>
</cp:coreProperties>
</file>