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A9D5E69-BB4D-47F0-8941-0D63BC2167B0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6-10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st Palm Beach, F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6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6, 0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a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resolve the bal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permitting: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  |  Tuesday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MAC!DS!FH!IR|MAC!DS!FH!IR|MAC!DS!FH!IR|MAC!DS!FH!IR| 802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!  |   !  !  !  |   !  !  !  |   !  !  !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!  |   !  !  !  |   !  !  !  |   !........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!  |   !  !  !  |   !  !  !  |   !   PHY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!            |MAC!DS!FH!IR|Full 802.11 |Full 802.11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ln!   !  !  !  |   !  !  !  |Resolve     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!   !  !  !  |   !  !  !  |  outputs  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..|   !  !  !  |Cross issues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Full 802.11  |   !  !  !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Full 802.11    |MAC!DS!FH!IR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   |   !  !  ! 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ine Village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ter ballot result,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ter ballot result, San Jose Recommend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ch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 DS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2 IR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3 FH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ch 9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ch 9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March 17 and March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