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457200"/>
            <a:ext cx="7924680" cy="58672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0" y="38088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15840" y="9828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3" name=""/>
          <p:cNvSpPr/>
          <p:nvPr/>
        </p:nvSpPr>
        <p:spPr>
          <a:xfrm>
            <a:off x="15840" y="647712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0" y="6523200"/>
            <a:ext cx="971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bmission</a:t>
            </a:r>
            <a:endParaRPr b="0" lang="en-US" sz="1200" spc="-1" strike="noStrike">
              <a:solidFill>
                <a:srgbClr val="000000"/>
              </a:solidFill>
              <a:latin typeface="Arial"/>
            </a:endParaRPr>
          </a:p>
        </p:txBody>
      </p:sp>
      <p:sp>
        <p:nvSpPr>
          <p:cNvPr id="5" name=""/>
          <p:cNvSpPr txBox="1"/>
          <p:nvPr/>
        </p:nvSpPr>
        <p:spPr>
          <a:xfrm>
            <a:off x="7924680" y="6523200"/>
            <a:ext cx="1047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vid Bagby</a:t>
            </a:r>
            <a:endParaRPr b="0" lang="en-US" sz="1200" spc="-1" strike="noStrike">
              <a:solidFill>
                <a:srgbClr val="000000"/>
              </a:solidFill>
              <a:latin typeface="Arial"/>
            </a:endParaRPr>
          </a:p>
        </p:txBody>
      </p:sp>
      <p:sp>
        <p:nvSpPr>
          <p:cNvPr id="6" name=""/>
          <p:cNvSpPr txBox="1"/>
          <p:nvPr/>
        </p:nvSpPr>
        <p:spPr>
          <a:xfrm>
            <a:off x="4114800" y="6523200"/>
            <a:ext cx="7524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age </a:t>
            </a:r>
            <a:fld id="{4C64839B-4178-4697-89D9-AFAD193EAE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 name=""/>
          <p:cNvSpPr txBox="1"/>
          <p:nvPr/>
        </p:nvSpPr>
        <p:spPr>
          <a:xfrm>
            <a:off x="6683400" y="98280"/>
            <a:ext cx="2347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65</a:t>
            </a:r>
            <a:endParaRPr b="0" lang="en-US" sz="1400" spc="-1" strike="noStrike">
              <a:solidFill>
                <a:srgbClr val="000000"/>
              </a:solidFill>
              <a:latin typeface="Arial"/>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5 MAC group Report</a:t>
            </a:r>
            <a:endParaRPr b="0" lang="en-US" sz="3600" spc="-1" strike="noStrike">
              <a:solidFill>
                <a:srgbClr val="000000"/>
              </a:solidFill>
              <a:latin typeface="Arial"/>
            </a:endParaRPr>
          </a:p>
        </p:txBody>
      </p:sp>
      <p:sp>
        <p:nvSpPr>
          <p:cNvPr id="47"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49"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1"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2" name=""/>
          <p:cNvSpPr txBox="1"/>
          <p:nvPr/>
        </p:nvSpPr>
        <p:spPr>
          <a:xfrm>
            <a:off x="4098960" y="21099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6094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68" name=""/>
          <p:cNvSpPr txBox="1"/>
          <p:nvPr/>
        </p:nvSpPr>
        <p:spPr>
          <a:xfrm>
            <a:off x="990720" y="160020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1: Section 4 &amp; 7 cleanup comment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change the name of PSPM to PSM</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6, 2, 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1, 1,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76212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0" name=""/>
          <p:cNvSpPr txBox="1"/>
          <p:nvPr/>
        </p:nvSpPr>
        <p:spPr>
          <a:xfrm>
            <a:off x="990720" y="1752480"/>
            <a:ext cx="716292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6: Proposal to include a "Preferred IV list" in a Beacon frame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95/146</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 6, 4 - fai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68580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2" name=""/>
          <p:cNvSpPr txBox="1"/>
          <p:nvPr/>
        </p:nvSpPr>
        <p:spPr>
          <a:xfrm>
            <a:off x="990720" y="1676520"/>
            <a:ext cx="716292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50: A delivery only PCF</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text changes to explicitly allow and to indicate the capability of a delivery only PCF, as contained in doc 95/150, be adopted and placed into the draf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9,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0, 1,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14400" y="91440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4" name=""/>
          <p:cNvSpPr txBox="1"/>
          <p:nvPr/>
        </p:nvSpPr>
        <p:spPr>
          <a:xfrm>
            <a:off x="914400" y="190512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 Updated mac state machin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updated state machines from 95/14 be adopted as an improvement to D1.2 and be incorporated into the next draft revis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4, 3,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6, 2,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By section a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1</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changes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2</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nor changes resulting from 95/138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e sec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3</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nor changes resulting from 95/13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e sec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changed text from 95/142 with exception of last sentence of para 3, pg 4 of paper (relating to concatenated TIM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9,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9,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from 95/139 (re encoding of duration fiel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8, 0, 0</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9,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rom May 95</a:t>
            </a:r>
            <a:endParaRPr b="0" lang="en-US" sz="3600" spc="-1" strike="noStrike">
              <a:solidFill>
                <a:srgbClr val="000000"/>
              </a:solidFill>
              <a:latin typeface="Arial"/>
            </a:endParaRPr>
          </a:p>
        </p:txBody>
      </p:sp>
      <p:sp>
        <p:nvSpPr>
          <p:cNvPr id="54" name=""/>
          <p:cNvSpPr txBox="1"/>
          <p:nvPr/>
        </p:nvSpPr>
        <p:spPr>
          <a:xfrm>
            <a:off x="990720" y="10666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end D1.3 (D1.2 + July work) MAC chapters for 802.11 LB approval to forward to Sponsor ballo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perating rule will be “no putting decisions off”. There will be a decision for all LB issues in D1.3 by he end of the mt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Change sec 4.3.1.2 - change one octet to two octets as correction to not limit beacon interval to 256 m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1,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43,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concepts from 95/144 as modified by s4 gr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ds listen interval from MIB to assoc req and reassoc req).</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7 (updated sec 4 from this week)</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0,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5,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motion 1 from 95/149A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s of ms to Kmicro seconds per paper).</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9, 0,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moot as already adopted in Wed WG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5</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5: RSA letter</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istributed, no action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5</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Adopt text from 95/138 w/ additional corrections identified during small group review and to add an alignment octet to the IV field to make IV field 4 octets lo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n doc 95/138R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4, 0, 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3,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operating rules for processing responses to the D1.3 (and subsequent) letter ballots within 802.11 be updated as follow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Explicitly allowing the rejection of comments which request the addition or removal of significant functionality, but do not provide analytical, empirical, or simulation results that support the technical decision being reques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Explicitly allow votes of “approve, with comments” for the purpose of placing into the technical record of this working group analytical, empirical, or simulation results in support of (disputed) functionality already in the standar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ruled out of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text changes relating to the PCF, contained in document 95/140 be adopted and placed into the draft standar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0, 0, 1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6,0,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10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following text be added to the end of section 4.4:</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Beacon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 – 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 – *CF-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Data+CF-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RTS – CTS – Data – 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Null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ere “Data*” can be any of the Data sub–types,</a:t>
            </a:r>
            <a:br>
              <a:rPr sz="1800"/>
            </a:br>
            <a:r>
              <a:rPr b="1" lang="en-US" sz="1800" spc="-1" strike="noStrike">
                <a:solidFill>
                  <a:srgbClr val="00279f"/>
                </a:solidFill>
                <a:latin typeface="Arial"/>
                <a:ea typeface="Arial"/>
              </a:rPr>
              <a:t>“Data/end*” can be any of the Data or CF–End sub–types, </a:t>
            </a:r>
            <a:br>
              <a:rPr sz="1800"/>
            </a:br>
            <a:r>
              <a:rPr b="1" lang="en-US" sz="1800" spc="-1" strike="noStrike">
                <a:solidFill>
                  <a:srgbClr val="00279f"/>
                </a:solidFill>
                <a:latin typeface="Arial"/>
                <a:ea typeface="Arial"/>
              </a:rPr>
              <a:t>and “*CF-Ack” can be Data+CF–Ack or CF–Ack(no data)</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7, 0,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7, 0,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That the connection mechanism be removed from the draft standard, but the means by which to encode connection IDs in the Duration/ID field be reserved in order to allow the future inclusion of connection–oriented services.  This involv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moving sections 3.2.3, 4.3.2.6, and 6.3.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difying section 4.1.2.3 to list the coding of connection IDs as a reserved usage (exact text to be written by editors, as this section is undergoing update by the section 4 sub–group)</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Editorial changes to other sections as needed for consistency.</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4, 2,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3,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7</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changes from MAC work - section filled in by 95/118 adopted in Wed WG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5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y MAC minutes approv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arolyn took minutes thi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on screen from Bob O’s machine in 8.1.2 re TSF timer languag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efined TSF timer sync mechanism.</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1, 4, 6</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6, 1,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8.1.2.3 text re sync timer accuracy as shown by Bob’s screen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SF timer complement to previous motion’s text for recv en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2, 2, 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0,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ccept text on screen from bob O in sec 8.1.3.2.2 re active scanning procedure text improvemen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6, 1,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0, 0,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shown on screen in sec 8.2.1.4 re descriptive text for fig 8-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2, 0, 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2, 0,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improved MIB text in 8.4.1.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1,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9, 0,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ccept changes to MIB and associated text in sec 8 by the sec 8 working group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is completes all the D1 LB comment process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8,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0,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D1.3 LB motion:</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800" spc="-1" strike="noStrike">
                <a:solidFill>
                  <a:srgbClr val="00279f"/>
                </a:solidFill>
                <a:latin typeface="Arial"/>
                <a:ea typeface="Arial"/>
              </a:rPr>
              <a:t>Moved:</a:t>
            </a:r>
            <a:endParaRPr b="0" lang="en-US" sz="2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1) That  D1.3 be submitted to the 802.11 voting membership via letter ballot for approval to forward for sponsor group ballo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6, 1,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postponed until right after the PHY repor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mended to remove restriction of 1-8.</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5,1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Aug 95</a:t>
            </a:r>
            <a:endParaRPr b="0" lang="en-US" sz="3600" spc="-1" strike="noStrike">
              <a:solidFill>
                <a:srgbClr val="000000"/>
              </a:solidFill>
              <a:latin typeface="Arial"/>
            </a:endParaRPr>
          </a:p>
        </p:txBody>
      </p:sp>
      <p:sp>
        <p:nvSpPr>
          <p:cNvPr id="121"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on D1.3 LB comments (if any...)</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sider Ad-hoc, ad-hoc pwr mgt group’s inpu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utline Conformance Statements to correspond to D1.3, flesh out to match draft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5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 New MAC State Machin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09: Response on deferred RTS/CTS Commen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11: Updated Comments on Section 4.0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5: RSA letter</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7: Power Management in an Ad-Hoc Network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8: Application of WEP to MPDU vs MSDU payload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9: Duration ID cod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6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0: Corrections and simplification to PCF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1: Section 4 &amp; 7 cleanup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2: Proposal to correct the DTIM and TIM elements defined in section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3: Definition of the Power management bits in section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4: Proposal to add a Data Aging field to the Association and Reassociation frame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5: Proposal to extend the Capability Information fiel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6: Proposal to include a "Preferred IV list" in a Beacon frame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7: Proposal to include resource indication in beacon fram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9: Harmonization of  time encod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50: A delivery only PC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 subjects / m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14400" y="8380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66" name=""/>
          <p:cNvSpPr txBox="1"/>
          <p:nvPr/>
        </p:nvSpPr>
        <p:spPr>
          <a:xfrm>
            <a:off x="990720" y="198108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7: Power Management in an Ad-Hoc Network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proposal and text from 95/13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4,4,6 - fai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R22 Standards</cp:lastModifiedBy>
  <cp:revision>0</cp:revision>
  <dc:subject/>
  <dc:title>November '94 MAC group agenda</dc:title>
</cp:coreProperties>
</file>