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8380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292800" y="555480"/>
            <a:ext cx="2516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–95/139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541680" y="555480"/>
            <a:ext cx="2001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ration/ID En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9320" y="1447920"/>
            <a:ext cx="808380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116240" y="63324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4D284D70-C009-49B9-890B-2ECB29344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938920" y="6308640"/>
            <a:ext cx="2824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hael Fischer, Digital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28480" y="633240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41520" y="555480"/>
            <a:ext cx="103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,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mproved encoding of Duration/I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600200"/>
            <a:ext cx="7924680" cy="177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iciency of certain aspects of the Duration/ID field can be improved, with no loss of functionality, by adding usage–identification bits to this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ed encoding uses the most–significant bits to indicate the type of information in th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828800" y="3505320"/>
            <a:ext cx="6095880" cy="2144520"/>
            <a:chOff x="1828800" y="3505320"/>
            <a:chExt cx="6095880" cy="2144520"/>
          </a:xfrm>
        </p:grpSpPr>
        <p:sp>
          <p:nvSpPr>
            <p:cNvPr id="50" name=""/>
            <p:cNvSpPr/>
            <p:nvPr/>
          </p:nvSpPr>
          <p:spPr>
            <a:xfrm>
              <a:off x="182880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460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42670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112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388620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889280" y="3639960"/>
              <a:ext cx="641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2575080" y="3639960"/>
              <a:ext cx="641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260880" y="3639960"/>
              <a:ext cx="9129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S 13–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2468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50532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2670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041560" y="40212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47242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51814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8800" y="56386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04156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2041560" y="49356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2041560" y="53928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727360" y="49356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72736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727360" y="53928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56544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260880" y="49356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– 163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3260880" y="53928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– 163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2879640" y="40212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– 327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5394240" y="3639960"/>
              <a:ext cx="725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4251240" y="4021200"/>
              <a:ext cx="3638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ation (microseconds from end of this fram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251240" y="4478400"/>
              <a:ext cx="3579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ion free frames without a CID or an 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251240" y="4935600"/>
              <a:ext cx="2757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 ID (CID) for TBS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251240" y="5392800"/>
              <a:ext cx="2622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 ID (SID) in PS–Poll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enefits of this improve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isting Duration/ID field is unambiguous to the pair of communicating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during the contention–free period, the Duration/ID field may be ambiguous to other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is en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that miss the CF–End frame can clear their NAVs upon detection of DCF traffic, beca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CF traffic has a Duration/ID value &gt;327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V update is simpler since stations do not have to decode frame type/subtype to know if this field contains a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(slight) risk is eliminated  that a station might set its NAV too high by misinterpreting a CID as a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period integrity is improved because newly active stations can passively detect a CF–period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wbacks to this improved en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rawbacks are appa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s as long as 32767 microseconds can be repres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ongest duration that needs to be represented (assuming the PHY could handle a full–length MSDU with WEP without fragmentation) is about 20K micro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16383 connections can be identified per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practical number of connections with the available bandwidth of the wireless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16383 stations can be identified per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practical number of stations associated with a single acces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number of power–managed stations that can receive traffic advisories using the defined TIM en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modified encoding for the Duration/ID field proposed in document 95/139 be adopted and the modified text on Duration/ID encoding in 95/139 be placed into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 #2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:  The subject matter of Motion #2 is fully independent of the encoding used for duration values.  Motion #2 can be adopted whether or not Motion #1 is ado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new text from document 95/139 that specifies how duration values are calculated for the various frame types &amp; subtypes be adopted and placed into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White</dc:creator>
  <dc:description/>
  <dc:language>en-US</dc:language>
  <cp:lastModifiedBy>R22 Standards</cp:lastModifiedBy>
  <cp:revision>0</cp:revision>
  <dc:subject/>
  <dc:title>Improved encoding of Duration/ID field</dc:title>
</cp:coreProperties>
</file>