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44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13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5232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098960" y="6523200"/>
            <a:ext cx="77796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9F4DC85-2A3E-4AED-B9EC-D014294E0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523200"/>
            <a:ext cx="15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in an Ad 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 of buffered frames for Power Save (PS) mode stations is done using an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IMs are sent during the ATIM Window following the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are awake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receives an ATIM, it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not receive an ATIM, it can go back to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428840"/>
            <a:ext cx="485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tat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monitor the Power Management bits within the frames generated by other stations in the network. A station that intends on using PS mode must indicate that in all frames trans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transmit the frame when received from the LLC and assume the destination station is in PS mode if an Ack is not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use RTS/CTS to transmit a frame. If a CTS is not received, the destination station can be assumed to be in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always assume all other stations are operating in PS Mode. In this case, the station will always transmit an ATIM in the ATIM Window before transmitting 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Window and Beacon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193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ATIM window is defined in the Ad Hoc Parameter Set element in the Beacon. A station that receives a beacon will update its aATIM_Window MIB variable with the value contained in the beacon. A station that transmits a beacon will use the value of the aATIM_Window MIB variable for the ATIM Window parameter in the Ad Hoc Parameter Set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receives/transmits a Beacon. The procedure for generating Beacons is defined in Section 8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a Beacon is received/transmitted, a station may transmit ATIMs for all buffered frames until the end of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has an ATIM to transmit and is unable to do so before the end of the ATIM Window, it must wait until the next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and Fram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send an ATIM during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ATIMs shall be transmitted during the ATIM Window. ATIMs can only be transmitted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the ATIM Window, the station will transmit the buffered frame/s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transmitting the ATIM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ered frames may be frag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ore than one frame is buffered for a given station, multiple frames can be transmitted using the DCF Access procedure. A frame will indicate if more frames are buffered via the Power Management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 Operation for Power Sa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remain awake for the duration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n ATIM addressed to the station is not received, the station may go back to Power Save mode at the end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station receives an ATIM frame, then the station shall remain awake for the entire Beacon Interval to receive the subsequent Data frame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hanges to the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Frame  -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Element, Ad Hoc Parameter Set, to Beacon and Probe Respons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TIM_Window MIB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e that the draft text for ad hoc power management in 95/137 be adopted and  added to the next version of the Draf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Power Management in an Ad Hoc Network</dc:title>
</cp:coreProperties>
</file>