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280200" y="555480"/>
            <a:ext cx="2576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09A</a:t>
            </a:r>
            <a:endParaRPr b="0" lang="en-US" sz="1400" spc="-1" strike="noStrike">
              <a:solidFill>
                <a:srgbClr val="000000"/>
              </a:solidFill>
              <a:latin typeface="Arial"/>
            </a:endParaRPr>
          </a:p>
        </p:txBody>
      </p:sp>
      <p:sp>
        <p:nvSpPr>
          <p:cNvPr id="2"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4192560" y="6283440"/>
            <a:ext cx="735120" cy="34164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Slide </a:t>
            </a:r>
            <a:fld id="{20FA03DE-0A68-4EE9-9B3D-8F8D87F5DF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 name=""/>
          <p:cNvSpPr txBox="1"/>
          <p:nvPr/>
        </p:nvSpPr>
        <p:spPr>
          <a:xfrm>
            <a:off x="5938920" y="628344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5" name=""/>
          <p:cNvSpPr txBox="1"/>
          <p:nvPr/>
        </p:nvSpPr>
        <p:spPr>
          <a:xfrm>
            <a:off x="528480" y="628344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6"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7" name=""/>
          <p:cNvSpPr txBox="1"/>
          <p:nvPr/>
        </p:nvSpPr>
        <p:spPr>
          <a:xfrm>
            <a:off x="3537000" y="555480"/>
            <a:ext cx="2041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TS/CTS Patent Issue</a:t>
            </a:r>
            <a:endParaRPr b="0" lang="en-US" sz="1400" spc="-1" strike="noStrike">
              <a:solidFill>
                <a:srgbClr val="000000"/>
              </a:solidFill>
              <a:latin typeface="Arial"/>
            </a:endParaRPr>
          </a:p>
        </p:txBody>
      </p:sp>
      <p:sp>
        <p:nvSpPr>
          <p:cNvPr id="8" name=""/>
          <p:cNvSpPr/>
          <p:nvPr/>
        </p:nvSpPr>
        <p:spPr>
          <a:xfrm>
            <a:off x="609480" y="6248520"/>
            <a:ext cx="8153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RTS/CTS Patent Issue</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A D1 Letter Ballot comment on section 5.2 (now 6.2) suggested that RTS/CTS be removed from the 802.11 MAC due to patents identified by Apple Computer but not available for license.  The ballot comment did not cite patent numbers — the assumption is the 2 patents identified in an Apple document from 1993.</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is submission presents a technical opinion,</a:t>
            </a:r>
            <a:r>
              <a:rPr b="1" i="1" lang="en-US" sz="2000" spc="-1" strike="noStrike">
                <a:solidFill>
                  <a:srgbClr val="000000"/>
                </a:solidFill>
                <a:latin typeface="Arial"/>
                <a:ea typeface="Arial"/>
              </a:rPr>
              <a:t> NOT a legal opinion,</a:t>
            </a:r>
            <a:r>
              <a:rPr b="1" lang="en-US" sz="2000" spc="-1" strike="noStrike">
                <a:solidFill>
                  <a:srgbClr val="000000"/>
                </a:solidFill>
                <a:latin typeface="Arial"/>
                <a:ea typeface="Arial"/>
              </a:rPr>
              <a:t> that the Apple patents to not apply to the 802.11 MA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Patent 4,689,786 is not relevant to 802.11 because its claims depend upon self–assigned network addre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Patent 4,661,902 (the ‘902 patent) is not relevant to 802.11 because its claims related to RTS/CTS are too narrow and because 802.11’s use of RTS/CTS more closely resembles prior art networks than those inLocalTalk™ (which is the basis of the ‘902 pa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Limitations on the ‘902 Patent</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902 patent is </a:t>
            </a:r>
            <a:r>
              <a:rPr b="1" lang="en-US" sz="2400" spc="-1" strike="noStrike" u="sng">
                <a:solidFill>
                  <a:srgbClr val="000000"/>
                </a:solidFill>
                <a:uFillTx/>
                <a:latin typeface="Arial"/>
                <a:ea typeface="Arial"/>
              </a:rPr>
              <a:t>not</a:t>
            </a:r>
            <a:r>
              <a:rPr b="1" lang="en-US" sz="2400" spc="-1" strike="noStrike">
                <a:solidFill>
                  <a:srgbClr val="000000"/>
                </a:solidFill>
                <a:latin typeface="Arial"/>
                <a:ea typeface="Arial"/>
              </a:rPr>
              <a:t> a fundamental patent on collision avoidance LA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basic mechanisms were in use much earlier than March, 1985 when the patent application was filed:</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SMA:  since the early 1970s (Aloha)</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ollision avoidance:  since the mid 1970s (HyperChanne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TS/CTS packets in a LAN prococol:  since 1977 (ARCNE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TS/CTS exchanges to detect collisions indirectly when using a medium where the PHY transceiver cannot detect collisions directly:  since about 1980 (Cambridge R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nformation on the RTS/CTS packet exchange mechanisms of ARCNET and the Cambridge Ring were published and publicly available long before March, 1984.</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refore, the scope of the ‘902 claims relating to RTS/CTS are quite narrow (or the claims are invalid due to prior 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Differences in RTS/CTS Mechanisms</a:t>
            </a:r>
            <a:endParaRPr b="0" lang="en-US" sz="3200" spc="-1" strike="noStrike">
              <a:solidFill>
                <a:srgbClr val="000000"/>
              </a:solidFill>
              <a:latin typeface="Arial"/>
            </a:endParaRPr>
          </a:p>
        </p:txBody>
      </p:sp>
      <p:sp>
        <p:nvSpPr>
          <p:cNvPr id="52"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RTS/CTS mechanism in the 802.11 MAC has significant differences from the ‘902 paten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RTS before all data frames, including broadcasts; 802.11, like ARCNET, uses RTS only before unicas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a 3–stage exchange (RTS–CTS–Data);</a:t>
            </a:r>
            <a:br>
              <a:rPr sz="2000"/>
            </a:br>
            <a:r>
              <a:rPr b="1" lang="en-US" sz="2000" spc="-1" strike="noStrike">
                <a:solidFill>
                  <a:srgbClr val="000000"/>
                </a:solidFill>
                <a:latin typeface="Arial"/>
                <a:ea typeface="Arial"/>
              </a:rPr>
              <a:t>802.11, like ARCNET, uses 4–stages (RTS–CTS–Data–ACK)</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has no collision avoidance mechanism, just a method of reducing collisions of data frames;</a:t>
            </a:r>
            <a:br>
              <a:rPr sz="2000"/>
            </a:br>
            <a:r>
              <a:rPr b="1" lang="en-US" sz="2000" spc="-1" strike="noStrike">
                <a:solidFill>
                  <a:srgbClr val="000000"/>
                </a:solidFill>
                <a:latin typeface="Arial"/>
                <a:ea typeface="Arial"/>
              </a:rPr>
              <a:t>802.11 uses the RTS/CTS information as input to a virtual carrier sense mechanism that provides collision avoidanc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a unique end delimiter to know end of “carrier;”</a:t>
            </a:r>
            <a:br>
              <a:rPr sz="2000"/>
            </a:br>
            <a:r>
              <a:rPr b="1" lang="en-US" sz="2000" spc="-1" strike="noStrike">
                <a:solidFill>
                  <a:srgbClr val="000000"/>
                </a:solidFill>
                <a:latin typeface="Arial"/>
                <a:ea typeface="Arial"/>
              </a:rPr>
              <a:t>802.11 uses a CRC–protected length in the frame head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on RTS/CTS issue</a:t>
            </a:r>
            <a:endParaRPr b="0" lang="en-US" sz="3200" spc="-1" strike="noStrike">
              <a:solidFill>
                <a:srgbClr val="000000"/>
              </a:solidFill>
              <a:latin typeface="Arial"/>
            </a:endParaRPr>
          </a:p>
        </p:txBody>
      </p:sp>
      <p:sp>
        <p:nvSpPr>
          <p:cNvPr id="54"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use of RTS/CTS in the 802.11 MAC is significantly different than the RTS/CTS mechanism claimed in the ‘902 patent.  If the claims of the ‘902 patent were interpreted broadly enough to cover 802.11, they would be invalid due to prior art disclosed in networks operational in the 1970s.</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unresolved D1 letter ballot comment on calling for removal of RTS/CTS from the 802.11 MAC due to Apple’s patents be resolved as “not accepted,” leaving the draft standard unmodif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ck White</dc:creator>
  <dc:description/>
  <dc:language>en-US</dc:language>
  <cp:lastModifiedBy>R22 Standards</cp:lastModifiedBy>
  <cp:revision>0</cp:revision>
  <dc:subject/>
  <dc:title>Summary of RTS/CTS Patent Issue</dc:title>
</cp:coreProperties>
</file>