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21376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6AF2A250-6357-4498-9A16-99E1B50499D4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0492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1st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89548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 28-31, 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haum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ssion starts on Monday, August 28, 8:3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doc.: IEEE P802.11-95/126 for 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findings ad-hoc power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utline conformance clause to correspond to D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rt Conformance Test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k on comments on Draft Standard (under L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990720"/>
            <a:ext cx="90676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Monday    |   Tuesday  | Wednesday  |  Thursday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802.11    |PH!PH!CF!MAC|PH!PH!CF!MAC|PH!PH!CF!MAC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MAC / PHY  |DS!FH!TS!   |DS!FH!TS!   |DS!FH!TS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............|  !  !  !   |..!..!  !   |  !  ! 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PH!PH!PH!MAC|  !  !  !   | PHY !  !   |  !  ! 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DS!FH!IR!MAC|  !  !  !   |     !  !   |  !  ! 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PH!PH!PH!MAC|Conformance |PH!PH!CF!MAC|   802.11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DS!FH!IR!   |    Test    |DS!FH!TS!   |  Reports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!  !  !   |            |  !  !  !   |  Outputs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!  !  !   |            |  !  !  !   | Next mtng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Aug 28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:3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lt Lake City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88 + 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subject to quor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ui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159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subject to quor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August 28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gistration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:0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:1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5/1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Aug 31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 Test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Aug 31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September 1 and October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8-3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aumburg, 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riot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tor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P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en Elizabeth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 Marriot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haina, HI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 Mau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BC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/>
  <dc:title>31st Session of meetings of IEEE P802.11 Wireless Local Area Networks  Tentative Agenda</dc:title>
</cp:coreProperties>
</file>