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DAAE07E-2627-4BC6-BA00-C4DC7202E08C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10-14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July 10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July 10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draft D2.0 for letter ballot among working group for approval for Sponsor lette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InterOperability Lab invol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Monday      |  Tuesday   |  Wednesday |   Thursday |Frida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c! MAC !  FH  |MAC!DS!FH!IR|MAC!DS!FH!IR|MAC!DS!FH!IR| 802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  !      |   !  !  !  |   !  !  !  |   !  !  !  |Plen-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  !      |   !  !  !  |   !  !  !  |   !........|   ar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  !      |   !  !  !  |   !  !  !  |   !   PHY  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   |MAC!  PHY   |Full 802.11 |Full 802.11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Plenary      |   !        |Resolve     |   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   |   !........|  outputs   |   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...|   !DS!FH!IR|Cross issues|  Next mt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Full 802.11  |   !  !  !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    |            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   |            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st Palm Beach mee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#1 Salt Lake Cit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#2 Salt Lake City 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Lab sign-u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y 12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1 DS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2 IR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3 FH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uly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