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48738D0-61BB-4990-B5AF-2F491560B760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9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8-1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t Lak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8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the remaining issues from the letter ballot on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7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PH!MAC|PH!PH!PH!MAC|PH!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IR!   |DS!FH!IR!   |DS!FH!IR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..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   PHY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 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 802.11   |PH!PH!PH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MAC / PHY  |DS!FH!IR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Interface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!  !  !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3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uesday PM, Ma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en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y 19 and Ju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t Lake City, 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