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21376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312220FB-745A-4663-A389-06488590A3A2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3rd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95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nuary 8-11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n D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ssion starts on Monday, January 8, 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doc.: IEEE P802.11-95/229 for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n Diego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st gate       MA/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unresolved LB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D2 draft editing using D2.1 as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output of this meeting (D2.1) to complete D2 LB comment processing resulting in D2.2 (D3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ize result of ad-hoc on Multi Rate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ize the PICS pro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mit D3.0 for WG Letter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Monday  | Tuesday |Wednesday|Thursday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802.11  |PH!PH!MAC|PH!PH!MAC|PH!PH!MAC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ADMIN  |DS!FH!   |DS!FH!   |DS!FH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MAC / PHY|  !  !   |..!..!   |.....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|  !  !   | PHY !   | PHY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PHY !MAC|PH!PH!MAC|  802.11 | 802.11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!   |DS!FH!   |MAC/PHY  |Repor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.....!   |  !  !   |.........|Outpu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   |  !  !   |PH!PH!MAC|   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   |  !  !   |DS!FH!   |Next mtng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OPT   |         |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IR   |         |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Jan 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Jan 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 from the ad-hoc on Multi-Rate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stration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5/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Jan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an 1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an 1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J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Aug 3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September 1 and October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