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52280"/>
            <a:ext cx="8915400" cy="640080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990720" y="762120"/>
            <a:ext cx="7162560" cy="0"/>
          </a:xfrm>
          <a:prstGeom prst="line">
            <a:avLst/>
          </a:prstGeom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213760" y="608004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E9D59DFC-F9AE-435B-A340-CF54E2B64D77}" type="slidenum"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304920"/>
            <a:ext cx="73152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33rd Session of meetings of</a:t>
            </a:r>
            <a:br>
              <a:rPr sz="36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EEE P802.11</a:t>
            </a:r>
            <a:br>
              <a:rPr sz="18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reless Local Area Networks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ntative 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2895480"/>
            <a:ext cx="838188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bject to changes by commit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anuary 8-11, 19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an Di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ssion starts on Monday, January 8, 8:30 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doc.: IEEE P802.11-95/229 for ve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ntative Meeting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at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nth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Year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lac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yp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cation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ost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-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a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n Diego 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st gate       MA/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 Jolla, 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-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therlan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ncouver,  B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tel Vancou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-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rvine, CA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rvine Marriot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-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haina, H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 Ma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-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real, QU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tel Vancouver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BJECTIVES Working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lete unresolved LB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lete D2 draft editing using D2.1 as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 output of this meeting (D2.1) to complete D2 LB comment processing resulting in D2.2 (D3.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alize result of ad-hoc on Multi Rate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alize the PICS pro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bmit D3.0 for WG Letter Bal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ough graphic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990720"/>
            <a:ext cx="906768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|---------|---------|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Monday  | Tuesday |Wednesday|Thursday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|---------|---------|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802.11  |PH!PH!MAC|PH!PH!MAC|PH!PH!MAC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ADMIN  |DS!FH!   |DS!FH!   |DS!FH!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AM |MAC / PHY|  !  !   |..!..!   |.....!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     |  !  !   | PHY !   | PHY !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|---------|---------|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PHY !MAC|PH!PH!MAC|  802.11 | 802.11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 !   |DS!FH!   |MAC/PHY  |Reports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PM |.....!   |  !  !   |.........|Outputs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PH!PH!   |  !  !   |PH!PH!MAC|     !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DS!FH!   |  !  !   |DS!FH!   |Next mtng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|---------|---------|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Eve-|   OPT   |         |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ning|    IR   |         |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|---------|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AM, Jan 8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33520" y="91440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8:30 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oting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tendance list,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gistics (breaks, lunch, copying, document distrib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proval of the minutes of previous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ntreal mee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1-95/234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subject to quor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tters arising from the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AM, Jan 8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om the Executiv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om the e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3 from the ad-hoc on Multi-Rate 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gistration of contribu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:00 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option of the Agend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:1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-95/2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 for sub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t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ednesday PM, Jan 10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ross group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HY re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C re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formance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Jan 11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C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Y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7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output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296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4000680"/>
                <a:tab algn="l" pos="4743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llot on Draft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document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Jan 11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Objectives for 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Mailing Dates: J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uture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Intermediate Meetings requir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9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os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Aug 31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1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Objectives for 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Mailing Dates: September 1 and October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1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uture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1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Intermediate Meetings requir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os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ic Hayes</dc:creator>
  <dc:description/>
  <dc:language>en-US</dc:language>
  <cp:lastModifiedBy>Vic Hayes</cp:lastModifiedBy>
  <cp:revision>0</cp:revision>
  <dc:subject/>
  <dc:title>33rd Session of meetings of IEEE P802.11 Wireless Local Area Networks  Tentative Agenda</dc:title>
</cp:coreProperties>
</file>