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D0943D2-A550-45C5-9F1E-6EF999889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28F3C48F-E3E2-4A01-BFA6-A6CCABF7EF9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Stuart J. Kerry</cp:lastModifiedBy>
  <cp:revision>0</cp:revision>
  <dc:subject/>
  <dc:title/>
</cp:coreProperties>
</file>