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81120" y="426960"/>
            <a:ext cx="2338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s for document 95/014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83059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95160" y="8352000"/>
            <a:ext cx="158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tat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370400" y="835200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Fischer, 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954160" y="83520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413160" y="8352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9665CF4-B279-4329-84B6-F433292FA80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100400" y="426960"/>
            <a:ext cx="217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–95/014A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66680" y="4191120"/>
            <a:ext cx="4876920" cy="152280"/>
            <a:chOff x="1066680" y="4191120"/>
            <a:chExt cx="4876920" cy="152280"/>
          </a:xfrm>
        </p:grpSpPr>
        <p:sp>
          <p:nvSpPr>
            <p:cNvPr id="47" name=""/>
            <p:cNvSpPr/>
            <p:nvPr/>
          </p:nvSpPr>
          <p:spPr>
            <a:xfrm>
              <a:off x="1066680" y="426708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91120" y="41911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 txBox="1"/>
          <p:nvPr/>
        </p:nvSpPr>
        <p:spPr>
          <a:xfrm>
            <a:off x="776160" y="192240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3840" y="1922400"/>
            <a:ext cx="576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2554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5401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1880" y="232560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08280" y="2554200"/>
            <a:ext cx="1871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149640"/>
            <a:ext cx="312444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36800" y="316404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2935440"/>
            <a:ext cx="22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OPTIONAL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0" y="3164040"/>
            <a:ext cx="246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OPTIONAL state transi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2120" y="377352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7591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49200" y="3544920"/>
            <a:ext cx="284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 without associated 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Machin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6668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89320" y="27068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25920" y="23256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84600" y="2706840"/>
            <a:ext cx="1193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4960" y="4281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98680" y="3925800"/>
            <a:ext cx="20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transition arrow from X2 to X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rosses, but does not enter, X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649840" y="1922400"/>
            <a:ext cx="59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581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89320" y="36212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78200" y="32400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54440" y="3621240"/>
            <a:ext cx="1054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781520" y="2376360"/>
            <a:ext cx="1730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NAV(aCFP_Max_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60480" y="6993000"/>
            <a:ext cx="322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TSF := Max((T_TSF * !F_Assoc),(mrTs + mOffset)), mSndBcn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affic := mrTIM[0] | mrTIM[mSID], LoadNAV(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F_Awake := !F_PSM | (mTraffic !=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beacon, DTIM, CFP and F_CFavail  settings from mrMS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03240" y="3214800"/>
            <a:ext cx="1617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LoadNAV(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2), 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013360" y="5729400"/>
            <a:ext cx="137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Awake, 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0" y="129528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77120" y="1447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72000" y="2133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45000" y="1461960"/>
            <a:ext cx="19400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!F_Asso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1, F_DTIM := F_Assoc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 F_CFavail, Clear(F_BC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:=(mCFPcnt=aCFP_Interv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362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362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572000" y="2971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638600" y="2147760"/>
            <a:ext cx="185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CFavail &amp; (T_CFDR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3200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572000" y="3581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275440" y="2986200"/>
            <a:ext cx="57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572000" y="4800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56160" y="4129200"/>
            <a:ext cx="201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1) &amp; (!F_Mbusy) &amp; (NAV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6120" y="4357800"/>
            <a:ext cx="18003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nDly := T_BCN – ( aSlot_Time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(aCW_Min * Random(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11520" y="5500800"/>
            <a:ext cx="2104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&amp; (T_Awake=L_Awake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773600" y="382428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214960" y="359568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33840" y="1461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38160" y="1157400"/>
            <a:ext cx="1506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1800" y="1386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1447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305320" y="1233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165560" y="906480"/>
            <a:ext cx="816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3809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572000" y="4114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571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5715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33840" y="57294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720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14400" y="17524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1295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mrType = (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7848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30600" y="64911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572000" y="8077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30600" y="6033960"/>
            <a:ext cx="1916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Addr2 != 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30600" y="78627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013360" y="6491160"/>
            <a:ext cx="1407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17480" y="3649680"/>
            <a:ext cx="1306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058760" y="4662360"/>
            <a:ext cx="352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mrType = { Authentication | Deauthentication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701800" y="420516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946080" y="54244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complete) | (auth req compete/ad–hoc) | (deauth pr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67816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65530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90720" y="655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38240" y="6338880"/>
            <a:ext cx="3417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Probe Request) &amp; (mSndBcn = 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059360" y="61102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63720" y="65674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6477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572000" y="6858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77120" y="6477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74920" y="5653080"/>
            <a:ext cx="23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service state based on sequence and resul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55800" y="1386000"/>
            <a:ext cx="3668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P, F_PC, F_Assoc, CF_Avail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_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Reset(T_CFDR), mDTIMcnt :=0, Clear(F_DTIM), SeqNum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:=aPower_Save_Mode, Set(F_Awake), L_Awake := &lt;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SCAN, aCurrent_BSS_ID := 0, (reset service state &amp; 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29160" y="23763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3564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29160" y="38242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33840" y="4357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50292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72000" y="5486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621320" y="4815000"/>
            <a:ext cx="1886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2) &amp; (T_BCN = mBcnDl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08360" y="5043600"/>
            <a:ext cx="1874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77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385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754380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70102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7010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19280" y="6796080"/>
            <a:ext cx="390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mrTs) &amp; (mrType=Beacon) &amp; (mrAddr2=aCu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073400" y="70246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90720" y="8001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7772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90720" y="777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81520" y="687240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Traffic = 1) &amp; F_P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078440" y="7786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r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48240" y="7101000"/>
            <a:ext cx="1932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S–Poll, m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rrent_BSS_ID,mSID), mTraffic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666880" y="2514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9144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443320" y="22017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2 –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100400" y="2529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336840" y="2300400"/>
            <a:ext cx="110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759040" y="2529000"/>
            <a:ext cx="134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Pr1), Set(F_Pr2)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171520" y="2604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835200" y="2224080"/>
            <a:ext cx="183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{ Beacon | Probe Resp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09720" y="260496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ord capability &amp; PHY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144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9144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7332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017720" y="290988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r1 ^ F_Pr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ore channels to sc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666880" y="3124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625840" y="3138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2711520" y="2700360"/>
            <a:ext cx="1424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DIFS) &amp; F_Pr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666880" y="38862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625840" y="390060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043080" y="3900600"/>
            <a:ext cx="14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Pr1),Restart(T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4114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894040" y="3595680"/>
            <a:ext cx="137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F_Mbusy &amp; (T_Pr1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914400" y="388620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9144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714760" y="3138480"/>
            <a:ext cx="1736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que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U), Enqueue(mMSDU,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obe1),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023840" y="3824280"/>
            <a:ext cx="1612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ponder selected @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197080" y="405288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278000" y="4433760"/>
            <a:ext cx="333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 mMSDU, mrAddr2), Enqueue(m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163520" y="4052880"/>
            <a:ext cx="102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n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4419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876240" y="44337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14400" y="4876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102200" y="489096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5638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873000" y="51958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886280" y="3214800"/>
            <a:ext cx="165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:=0,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Awake), Set(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541760" y="71010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7086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572000" y="7543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77120" y="708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52640" y="7558200"/>
            <a:ext cx="308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Disassociation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09800" y="7786800"/>
            <a:ext cx="2712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ssoc), set service state =2, aScan_State :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114800" y="7467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7467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90720" y="63244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279440" y="6110280"/>
            <a:ext cx="278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ssoc := (mrStatus = 0), (if successful set service state =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403280" y="51958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 Req, mMSDU, mLength), Enqueue(mMSDU, 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206360" y="5881680"/>
            <a:ext cx="292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Association Respon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365120" y="4967280"/>
            <a:ext cx="245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successful/infrastructure) &amp; !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78040" y="565308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0720" y="609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90720" y="60958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073400" y="6567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4772160" y="2522520"/>
            <a:ext cx="169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 UpdatePoll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859280" y="5348160"/>
            <a:ext cx="15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26160" y="5958000"/>
            <a:ext cx="1590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mPSawake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182600" y="1386000"/>
            <a:ext cx="33386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AP), F_PC := (aCF_Max_Duration != 0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, F_DTIM), Reset(T_CFDR), 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:= 0, Set(F_PSawake), (clear power save and association info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vail := F_PC, (inform distribution system that this BSS is pres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1295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572000" y="2209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33840" y="1309680"/>
            <a:ext cx="1874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 1, F_DTIM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1,F_CFP:=(T_CFDR !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mCFPcnt = aCFP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TIM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320040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25146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72000" y="29718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730760" y="2300400"/>
            <a:ext cx="16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4572000" y="4572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854600" y="3672000"/>
            <a:ext cx="1415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 &amp; (mPS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672080" y="3900600"/>
            <a:ext cx="174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DTIM(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c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Awake := &lt; station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Awake), mPSawake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57200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180040" y="511956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729320" y="5729400"/>
            <a:ext cx="167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PSawake = 1) &amp; (T_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773600" y="481500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214960" y="45864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59400" y="13096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843200" y="1157400"/>
            <a:ext cx="149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76240" y="13860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2952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836960" y="1081080"/>
            <a:ext cx="129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 &amp; (mSndBcn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316400" y="906480"/>
            <a:ext cx="97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1 – AP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56160" y="25290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400800" y="3886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56160" y="39006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0840" y="48150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5720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65520" y="53481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5943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59400" y="59580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572000" y="6248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14400" y="182880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14400" y="1295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04880" y="2735280"/>
            <a:ext cx="1179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2 – Assoc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40080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7848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67320" y="725328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72000" y="807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14400" y="3429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14400" y="31240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30600" y="694836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56160" y="78627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606920" y="633888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89680" y="7253280"/>
            <a:ext cx="1407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5132520" y="664380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949560" y="31384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96920" y="2909880"/>
            <a:ext cx="3449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29718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14400" y="41911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973080" y="3976560"/>
            <a:ext cx="3546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Re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1378080" y="5805360"/>
            <a:ext cx="319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Dis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6697800"/>
            <a:ext cx="1370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6934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7010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73152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178000" y="6719760"/>
            <a:ext cx="23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rType = { Authentication | Deauthentication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1209600" y="3443400"/>
            <a:ext cx="338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iation Response, mMSDU, mrAddr2,mrSI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nd set service state =3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 &amp; PSM set up to buffer and indicate traffic by assigned S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01800" y="34434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984320" y="321480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946680" y="42051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1940040" y="428148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130400" y="4510080"/>
            <a:ext cx="3387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Reassociation Response, mMSDU,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bout reassociation of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898560" y="4510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214280" y="49672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about association/re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14400" y="54864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951360" y="519588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598760" y="5272200"/>
            <a:ext cx="22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525680" y="6338880"/>
            <a:ext cx="305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move association for mrAddr2, set service state =2, inform D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PSM reclaim buffers and stop buffering and indicating traffi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662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6629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4572000" y="6858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56160" y="66438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3240" y="5500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565280" y="5500800"/>
            <a:ext cx="266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association information &amp; reply to DS as nee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6019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6324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2095560" y="6110280"/>
            <a:ext cx="12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association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898560" y="63388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975120" y="70246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901800" y="73296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863720" y="710100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512720" y="7329600"/>
            <a:ext cx="307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mMSDU,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TXq), (if successful, set service state =2, els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7924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898560" y="7939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812960" y="771048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26668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2438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1440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1370160" y="22240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Probe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932280" y="24526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887400" y="24526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0" y="7238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572000" y="7467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400800" y="723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139840" y="7939080"/>
            <a:ext cx="105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service stat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683240" y="3290760"/>
            <a:ext cx="1752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cfp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CFparms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791240" y="2986200"/>
            <a:ext cx="17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!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0" y="32004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572000" y="3581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251460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560840" y="3214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946680" y="60339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1143000"/>
            <a:ext cx="0" cy="7010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9380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979640" y="906480"/>
            <a:ext cx="122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990960" y="906480"/>
            <a:ext cx="857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90720" y="1295280"/>
            <a:ext cx="0" cy="4496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990720" y="16905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565360" y="1766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792520" y="1386000"/>
            <a:ext cx="143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WEP &amp; (tType != Data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5909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90720" y="1676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03400" y="1461960"/>
            <a:ext cx="145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tMPDU, t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330200" y="1690560"/>
            <a:ext cx="1152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TxDone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0hFFFFFF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1752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419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248520" y="2057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4419720" y="2743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419720" y="20718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762440" y="2071800"/>
            <a:ext cx="1447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MDP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MPD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933800" y="18432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004840" y="4487760"/>
            <a:ext cx="1176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5909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962520" y="5348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670120" y="5119560"/>
            <a:ext cx="167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 &amp; tOctet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778120" y="5348160"/>
            <a:ext cx="1152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END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99072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133720" y="5195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276200" y="496728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243080" y="5195880"/>
            <a:ext cx="87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TxDon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5108400" y="3824280"/>
            <a:ext cx="90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t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922560" y="4487760"/>
            <a:ext cx="99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4197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419720" y="4038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4852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5257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48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419720" y="5638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419720" y="52722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811760" y="52722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Crc[tOctet] ), 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933800" y="50436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419720" y="4052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68920" y="4052880"/>
            <a:ext cx="143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 0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tCrc ^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920960" y="2887560"/>
            <a:ext cx="13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590920" y="3276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143000" y="350532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43000" y="3505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143000" y="411480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2155680" y="35193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093680" y="3519360"/>
            <a:ext cx="1469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1200240" y="329076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590920" y="3657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59092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2778120" y="3214800"/>
            <a:ext cx="1608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24 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FrameType = ProbeResponse 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rame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762280" y="3672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s := T_TSF + tOff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962520" y="36720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97080" y="3976560"/>
            <a:ext cx="665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590920" y="4205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90920" y="2438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35160" y="2452680"/>
            <a:ext cx="1400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(tMPDU, t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035160" y="1766880"/>
            <a:ext cx="1400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590920" y="1295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419720" y="144792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779560" y="2224080"/>
            <a:ext cx="130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 (tType =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565360" y="24526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4543560" y="547524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rDuration &lt; 0h8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112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01312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870280" y="906480"/>
            <a:ext cx="11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152960" y="906480"/>
            <a:ext cx="9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5699160" y="906480"/>
            <a:ext cx="642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990720" y="1295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209680" y="12952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90720" y="14479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988920" y="14619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008000" y="1995480"/>
            <a:ext cx="118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209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1751040" y="22240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995400" y="123336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29000" y="12952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209680" y="1523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676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48320" y="1295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4832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144792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0824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006560" y="1461960"/>
            <a:ext cx="1214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RST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970360" y="21477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2211480" y="2147760"/>
            <a:ext cx="932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160720" y="130968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427560" y="1690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16088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508200" y="1690560"/>
            <a:ext cx="1139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c :=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4832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913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64832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618080" y="21477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705200" y="1843200"/>
            <a:ext cx="1106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ind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[rOctet]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851360" y="2147760"/>
            <a:ext cx="9684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rCr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PDU[rOctet] 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743360" y="275760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END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64652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9920" y="533412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209680" y="35812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4419720" y="6324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71800" y="54864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386160" y="1309680"/>
            <a:ext cx="130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START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790720" y="290988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82680" y="191916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06668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6668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0666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75104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533680" y="153828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963720" y="2712960"/>
            <a:ext cx="127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_Busy &gt;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992160" y="3062160"/>
            <a:ext cx="9572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1447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1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64832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621320" y="1461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072040" y="1233360"/>
            <a:ext cx="676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=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5019840" y="146196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:= T_TS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78560" y="494496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NA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94120" y="4335480"/>
            <a:ext cx="105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1747800" y="6087960"/>
            <a:ext cx="620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427120" y="5097600"/>
            <a:ext cx="1090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Dupl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7440" y="3138480"/>
            <a:ext cx="1990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Clear(F_Mbusy), Tally(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209680" y="40384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1641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8120" y="245268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&gt; aMax_Frame_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209680" y="2666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973240" y="26812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627360" y="3367080"/>
            <a:ext cx="234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!= No_Error) | (rOctet != rPLCP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5535720" y="3595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125880" y="35956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532480" y="4052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406600" y="3824280"/>
            <a:ext cx="35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= No_Error) &amp; ( (rCrc != 0hC704DD7B) | (rProtocol_Version !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125880" y="4052880"/>
            <a:ext cx="2274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UpdNAV( * see notes * 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48640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86400" y="4648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86400" y="54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60920" y="4662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815000" y="4281480"/>
            <a:ext cx="125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Crc =0hC704DD7B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= No_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419720" y="7696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419720" y="6858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205740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971800" y="5715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2096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762120" y="57913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5532480" y="6338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822920" y="611028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lt; 0h8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05400" y="6338880"/>
            <a:ext cx="1098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13320" y="7481880"/>
            <a:ext cx="112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gt;= 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487760" y="7710480"/>
            <a:ext cx="11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Ps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553716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5537160" y="68724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486320" y="6567480"/>
            <a:ext cx="1611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 &amp; ThisBSS(rMPDU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h8000&lt;= rDuration &lt;0hC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2028960" y="7024680"/>
            <a:ext cx="2414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Addr1 = Broadcast_Address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 = {aGroup_Addresses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romiscuous_Status = true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BSS(rMPDU) &amp; (rAddr3 !=aMAC_Address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024360" y="6567480"/>
            <a:ext cx="874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ype = Bea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049560" y="542448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073320" y="595800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1) &amp; 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2963880" y="4662360"/>
            <a:ext cx="841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954600" y="4878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973240" y="4890960"/>
            <a:ext cx="822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935520" y="57294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057400" y="7620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252960" y="572940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363760" y="75963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3932280" y="6262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71800" y="6248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252960" y="62625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932280" y="759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933720" y="67960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438280" y="6324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722600" y="5576760"/>
            <a:ext cx="1190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(rMPDU)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13160" y="5805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9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317680" y="60339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)=1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438280" y="6324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2057400" y="6629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44197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5105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513160" y="63388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8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44520" y="6948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WEP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925560" y="7253280"/>
            <a:ext cx="115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=1) &amp; (Decr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,rOctet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2120" y="7696080"/>
            <a:ext cx="12952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62120" y="6705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36640" y="6033960"/>
            <a:ext cx="97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 = 1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WEP=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ypt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) 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82760" y="3726000"/>
            <a:ext cx="565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62120" y="42670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762120" y="7162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73200" y="6719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569960" y="7176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57464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35120" y="4433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057400" y="64771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1092240" y="4433760"/>
            <a:ext cx="1139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ctet–4), rDir, rT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92400" y="6796080"/>
            <a:ext cx="177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 0, UpdNAV(rCF_Dur_Re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941400" y="67197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779480" y="5805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17720" y="42051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!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31880" y="5119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1035000" y="48909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1162080" y="5119560"/>
            <a:ext cx="9828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41972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41972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341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41792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371840" y="4713120"/>
            <a:ext cx="11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ype={any CFack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81360" y="519588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19720" y="47242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419720" y="5791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4505400" y="5805360"/>
            <a:ext cx="11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NAV(rDuratio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5535720" y="5805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429080" y="687240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aCF_Max_Du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45000" y="7176960"/>
            <a:ext cx="1492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h8000&lt;= rDuration &lt;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419720" y="7391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5532480" y="7405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Popular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523880" y="2209680"/>
            <a:ext cx="1828800" cy="1828800"/>
            <a:chOff x="1523880" y="2209680"/>
            <a:chExt cx="1828800" cy="1828800"/>
          </a:xfrm>
        </p:grpSpPr>
        <p:sp>
          <p:nvSpPr>
            <p:cNvPr id="1192" name=""/>
            <p:cNvSpPr/>
            <p:nvPr/>
          </p:nvSpPr>
          <p:spPr>
            <a:xfrm>
              <a:off x="152388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9868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414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41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9704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5908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4343400" y="2209680"/>
            <a:ext cx="1828800" cy="1828800"/>
            <a:chOff x="4343400" y="2209680"/>
            <a:chExt cx="1828800" cy="1828800"/>
          </a:xfrm>
        </p:grpSpPr>
        <p:sp>
          <p:nvSpPr>
            <p:cNvPr id="1199" name=""/>
            <p:cNvSpPr/>
            <p:nvPr/>
          </p:nvSpPr>
          <p:spPr>
            <a:xfrm>
              <a:off x="434340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182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66092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6108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16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7860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3352680" y="3048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971800" y="4952880"/>
            <a:ext cx="1828800" cy="1828800"/>
            <a:chOff x="2971800" y="4952880"/>
            <a:chExt cx="1828800" cy="1828800"/>
          </a:xfrm>
        </p:grpSpPr>
        <p:sp>
          <p:nvSpPr>
            <p:cNvPr id="1207" name=""/>
            <p:cNvSpPr/>
            <p:nvPr/>
          </p:nvSpPr>
          <p:spPr>
            <a:xfrm>
              <a:off x="2971800" y="49528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4660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462"/>
                  </a:moveTo>
                  <a:lnTo>
                    <a:pt x="1549" y="462"/>
                  </a:lnTo>
                  <a:lnTo>
                    <a:pt x="1549" y="462"/>
                  </a:lnTo>
                  <a:cubicBezTo>
                    <a:pt x="1549" y="381"/>
                    <a:pt x="1477" y="301"/>
                    <a:pt x="1341" y="231"/>
                  </a:cubicBezTo>
                  <a:cubicBezTo>
                    <a:pt x="1206" y="161"/>
                    <a:pt x="1010" y="102"/>
                    <a:pt x="774" y="62"/>
                  </a:cubicBezTo>
                  <a:cubicBezTo>
                    <a:pt x="539" y="21"/>
                    <a:pt x="27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8932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0"/>
                  </a:moveTo>
                  <a:lnTo>
                    <a:pt x="1549" y="0"/>
                  </a:lnTo>
                  <a:cubicBezTo>
                    <a:pt x="1277" y="0"/>
                    <a:pt x="1010" y="21"/>
                    <a:pt x="774" y="62"/>
                  </a:cubicBezTo>
                  <a:cubicBezTo>
                    <a:pt x="539" y="102"/>
                    <a:pt x="343" y="161"/>
                    <a:pt x="208" y="231"/>
                  </a:cubicBezTo>
                  <a:cubicBezTo>
                    <a:pt x="72" y="301"/>
                    <a:pt x="0" y="381"/>
                    <a:pt x="0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948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4496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07000" y="58672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H="1">
            <a:off x="4267080" y="3962520"/>
            <a:ext cx="60984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133720" y="5791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21337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33720" y="4724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76720" y="472428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836800" y="7132680"/>
            <a:ext cx="179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smiley fac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914400"/>
            <a:ext cx="1523880" cy="3505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81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84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87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828800" y="4572000"/>
            <a:ext cx="1219320" cy="685800"/>
            <a:chOff x="1828800" y="4572000"/>
            <a:chExt cx="1219320" cy="685800"/>
          </a:xfrm>
        </p:grpSpPr>
        <p:sp>
          <p:nvSpPr>
            <p:cNvPr id="90" name=""/>
            <p:cNvSpPr/>
            <p:nvPr/>
          </p:nvSpPr>
          <p:spPr>
            <a:xfrm>
              <a:off x="1828800" y="4572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835280" y="471636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14800" y="3657600"/>
            <a:ext cx="1219320" cy="685800"/>
            <a:chOff x="4114800" y="3657600"/>
            <a:chExt cx="1219320" cy="685800"/>
          </a:xfrm>
        </p:grpSpPr>
        <p:sp>
          <p:nvSpPr>
            <p:cNvPr id="93" name=""/>
            <p:cNvSpPr/>
            <p:nvPr/>
          </p:nvSpPr>
          <p:spPr>
            <a:xfrm>
              <a:off x="4114800" y="36576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132440" y="372600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19320" y="5715000"/>
            <a:ext cx="1219320" cy="685800"/>
            <a:chOff x="1219320" y="5715000"/>
            <a:chExt cx="1219320" cy="685800"/>
          </a:xfrm>
        </p:grpSpPr>
        <p:sp>
          <p:nvSpPr>
            <p:cNvPr id="96" name=""/>
            <p:cNvSpPr/>
            <p:nvPr/>
          </p:nvSpPr>
          <p:spPr>
            <a:xfrm>
              <a:off x="121932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289160" y="585936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66880" y="5715000"/>
            <a:ext cx="1219320" cy="685800"/>
            <a:chOff x="2666880" y="5715000"/>
            <a:chExt cx="1219320" cy="685800"/>
          </a:xfrm>
        </p:grpSpPr>
        <p:sp>
          <p:nvSpPr>
            <p:cNvPr id="99" name=""/>
            <p:cNvSpPr/>
            <p:nvPr/>
          </p:nvSpPr>
          <p:spPr>
            <a:xfrm>
              <a:off x="266688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757600" y="585936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14600" y="3573360"/>
            <a:ext cx="762480" cy="396720"/>
            <a:chOff x="2514600" y="3573360"/>
            <a:chExt cx="762480" cy="396720"/>
          </a:xfrm>
        </p:grpSpPr>
        <p:sp>
          <p:nvSpPr>
            <p:cNvPr id="102" name=""/>
            <p:cNvSpPr/>
            <p:nvPr/>
          </p:nvSpPr>
          <p:spPr>
            <a:xfrm>
              <a:off x="2514600" y="35812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29000" y="35733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2963880"/>
            <a:ext cx="762480" cy="396720"/>
            <a:chOff x="3276720" y="2963880"/>
            <a:chExt cx="762480" cy="396720"/>
          </a:xfrm>
        </p:grpSpPr>
        <p:sp>
          <p:nvSpPr>
            <p:cNvPr id="105" name=""/>
            <p:cNvSpPr/>
            <p:nvPr/>
          </p:nvSpPr>
          <p:spPr>
            <a:xfrm>
              <a:off x="3276720" y="29718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290760" y="296388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954600"/>
            <a:ext cx="762480" cy="396720"/>
            <a:chOff x="1066680" y="3954600"/>
            <a:chExt cx="762480" cy="396720"/>
          </a:xfrm>
        </p:grpSpPr>
        <p:sp>
          <p:nvSpPr>
            <p:cNvPr id="108" name=""/>
            <p:cNvSpPr/>
            <p:nvPr/>
          </p:nvSpPr>
          <p:spPr>
            <a:xfrm>
              <a:off x="1066680" y="39625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109520" y="39546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00200" y="3268800"/>
            <a:ext cx="762480" cy="396720"/>
            <a:chOff x="1600200" y="3268800"/>
            <a:chExt cx="762480" cy="396720"/>
          </a:xfrm>
        </p:grpSpPr>
        <p:sp>
          <p:nvSpPr>
            <p:cNvPr id="111" name=""/>
            <p:cNvSpPr/>
            <p:nvPr/>
          </p:nvSpPr>
          <p:spPr>
            <a:xfrm>
              <a:off x="1600200" y="32767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92360" y="32688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114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120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19480" y="5029200"/>
            <a:ext cx="896760" cy="465120"/>
            <a:chOff x="4119480" y="5029200"/>
            <a:chExt cx="896760" cy="465120"/>
          </a:xfrm>
        </p:grpSpPr>
        <p:sp>
          <p:nvSpPr>
            <p:cNvPr id="127" name=""/>
            <p:cNvSpPr/>
            <p:nvPr/>
          </p:nvSpPr>
          <p:spPr>
            <a:xfrm>
              <a:off x="4181400" y="5029200"/>
              <a:ext cx="770400" cy="457560"/>
            </a:xfrm>
            <a:custGeom>
              <a:avLst/>
              <a:gdLst/>
              <a:ahLst/>
              <a:rect l="0" t="0" r="r" b="b"/>
              <a:pathLst>
                <a:path w="2140" h="1271">
                  <a:moveTo>
                    <a:pt x="0" y="380"/>
                  </a:moveTo>
                  <a:lnTo>
                    <a:pt x="0" y="890"/>
                  </a:lnTo>
                  <a:lnTo>
                    <a:pt x="642" y="1271"/>
                  </a:lnTo>
                  <a:lnTo>
                    <a:pt x="1498" y="1271"/>
                  </a:lnTo>
                  <a:lnTo>
                    <a:pt x="2140" y="890"/>
                  </a:lnTo>
                  <a:lnTo>
                    <a:pt x="2140" y="380"/>
                  </a:lnTo>
                  <a:lnTo>
                    <a:pt x="1498" y="0"/>
                  </a:lnTo>
                  <a:lnTo>
                    <a:pt x="642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119480" y="509760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65760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76720" y="3809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81080" y="2590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590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33526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6708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817640" y="6850080"/>
            <a:ext cx="1243080" cy="244440"/>
            <a:chOff x="1817640" y="6850080"/>
            <a:chExt cx="1243080" cy="244440"/>
          </a:xfrm>
        </p:grpSpPr>
        <p:sp>
          <p:nvSpPr>
            <p:cNvPr id="153" name=""/>
            <p:cNvSpPr/>
            <p:nvPr/>
          </p:nvSpPr>
          <p:spPr>
            <a:xfrm>
              <a:off x="190512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817640" y="685008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5740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640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2578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76600" y="6850080"/>
            <a:ext cx="1257480" cy="244440"/>
            <a:chOff x="4476600" y="6850080"/>
            <a:chExt cx="1257480" cy="244440"/>
          </a:xfrm>
        </p:grpSpPr>
        <p:sp>
          <p:nvSpPr>
            <p:cNvPr id="160" name=""/>
            <p:cNvSpPr/>
            <p:nvPr/>
          </p:nvSpPr>
          <p:spPr>
            <a:xfrm>
              <a:off x="457200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476600" y="685008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02920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8148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24280" y="4343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167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33720" y="41148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37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172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4812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76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78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 flipH="1">
            <a:off x="3048120" y="4952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914400"/>
            <a:ext cx="1523880" cy="32767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83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85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188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191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4600" y="3497400"/>
            <a:ext cx="762480" cy="396720"/>
            <a:chOff x="2514600" y="3497400"/>
            <a:chExt cx="762480" cy="396720"/>
          </a:xfrm>
        </p:grpSpPr>
        <p:sp>
          <p:nvSpPr>
            <p:cNvPr id="194" name=""/>
            <p:cNvSpPr/>
            <p:nvPr/>
          </p:nvSpPr>
          <p:spPr>
            <a:xfrm>
              <a:off x="2514600" y="35053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529000" y="349740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00400" y="2887560"/>
            <a:ext cx="762480" cy="396720"/>
            <a:chOff x="3200400" y="2887560"/>
            <a:chExt cx="762480" cy="396720"/>
          </a:xfrm>
        </p:grpSpPr>
        <p:sp>
          <p:nvSpPr>
            <p:cNvPr id="197" name=""/>
            <p:cNvSpPr/>
            <p:nvPr/>
          </p:nvSpPr>
          <p:spPr>
            <a:xfrm>
              <a:off x="3200400" y="28954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14800" y="28875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66680" y="3726000"/>
            <a:ext cx="762480" cy="396720"/>
            <a:chOff x="1066680" y="3726000"/>
            <a:chExt cx="762480" cy="396720"/>
          </a:xfrm>
        </p:grpSpPr>
        <p:sp>
          <p:nvSpPr>
            <p:cNvPr id="200" name=""/>
            <p:cNvSpPr/>
            <p:nvPr/>
          </p:nvSpPr>
          <p:spPr>
            <a:xfrm>
              <a:off x="1066680" y="37339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109520" y="37260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00200" y="3192480"/>
            <a:ext cx="762480" cy="396720"/>
            <a:chOff x="1600200" y="3192480"/>
            <a:chExt cx="762480" cy="396720"/>
          </a:xfrm>
        </p:grpSpPr>
        <p:sp>
          <p:nvSpPr>
            <p:cNvPr id="203" name=""/>
            <p:cNvSpPr/>
            <p:nvPr/>
          </p:nvSpPr>
          <p:spPr>
            <a:xfrm>
              <a:off x="1600200" y="32004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1692360" y="319248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209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16480" y="4724280"/>
            <a:ext cx="896760" cy="465120"/>
            <a:chOff x="3516480" y="4724280"/>
            <a:chExt cx="896760" cy="465120"/>
          </a:xfrm>
        </p:grpSpPr>
        <p:sp>
          <p:nvSpPr>
            <p:cNvPr id="216" name=""/>
            <p:cNvSpPr/>
            <p:nvPr/>
          </p:nvSpPr>
          <p:spPr>
            <a:xfrm>
              <a:off x="3581280" y="4724280"/>
              <a:ext cx="762480" cy="457560"/>
            </a:xfrm>
            <a:custGeom>
              <a:avLst/>
              <a:gdLst/>
              <a:ahLst/>
              <a:rect l="0" t="0" r="r" b="b"/>
              <a:pathLst>
                <a:path w="2118" h="1271">
                  <a:moveTo>
                    <a:pt x="0" y="380"/>
                  </a:moveTo>
                  <a:lnTo>
                    <a:pt x="0" y="890"/>
                  </a:lnTo>
                  <a:lnTo>
                    <a:pt x="636" y="1271"/>
                  </a:lnTo>
                  <a:lnTo>
                    <a:pt x="1482" y="1271"/>
                  </a:lnTo>
                  <a:lnTo>
                    <a:pt x="2118" y="890"/>
                  </a:lnTo>
                  <a:lnTo>
                    <a:pt x="2118" y="380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516480" y="479268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590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3352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27672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87692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981080" y="3581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2590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590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343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81280" y="32767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495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67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19112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8120" y="4648320"/>
            <a:ext cx="13716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495288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1952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60958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1952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148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91120"/>
            <a:ext cx="0" cy="8380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254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76600" y="6469200"/>
            <a:ext cx="1257480" cy="244440"/>
            <a:chOff x="4476600" y="6469200"/>
            <a:chExt cx="1257480" cy="244440"/>
          </a:xfrm>
        </p:grpSpPr>
        <p:sp>
          <p:nvSpPr>
            <p:cNvPr id="257" name=""/>
            <p:cNvSpPr/>
            <p:nvPr/>
          </p:nvSpPr>
          <p:spPr>
            <a:xfrm>
              <a:off x="4572000" y="647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476600" y="646920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114800" y="3505320"/>
            <a:ext cx="1219320" cy="685800"/>
            <a:chOff x="4114800" y="3505320"/>
            <a:chExt cx="1219320" cy="685800"/>
          </a:xfrm>
        </p:grpSpPr>
        <p:sp>
          <p:nvSpPr>
            <p:cNvPr id="260" name=""/>
            <p:cNvSpPr/>
            <p:nvPr/>
          </p:nvSpPr>
          <p:spPr>
            <a:xfrm>
              <a:off x="4114800" y="35053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132440" y="357336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28800" y="4267080"/>
            <a:ext cx="1219320" cy="685800"/>
            <a:chOff x="1828800" y="4267080"/>
            <a:chExt cx="1219320" cy="685800"/>
          </a:xfrm>
        </p:grpSpPr>
        <p:sp>
          <p:nvSpPr>
            <p:cNvPr id="263" name=""/>
            <p:cNvSpPr/>
            <p:nvPr/>
          </p:nvSpPr>
          <p:spPr>
            <a:xfrm>
              <a:off x="1828800" y="4267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835280" y="441180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266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269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93960" y="6469200"/>
            <a:ext cx="1243080" cy="244440"/>
            <a:chOff x="1893960" y="6469200"/>
            <a:chExt cx="1243080" cy="244440"/>
          </a:xfrm>
        </p:grpSpPr>
        <p:sp>
          <p:nvSpPr>
            <p:cNvPr id="272" name=""/>
            <p:cNvSpPr/>
            <p:nvPr/>
          </p:nvSpPr>
          <p:spPr>
            <a:xfrm>
              <a:off x="1905120" y="647712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893960" y="646920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666880" y="5410080"/>
            <a:ext cx="1219320" cy="685800"/>
            <a:chOff x="2666880" y="5410080"/>
            <a:chExt cx="1219320" cy="685800"/>
          </a:xfrm>
        </p:grpSpPr>
        <p:sp>
          <p:nvSpPr>
            <p:cNvPr id="275" name=""/>
            <p:cNvSpPr/>
            <p:nvPr/>
          </p:nvSpPr>
          <p:spPr>
            <a:xfrm>
              <a:off x="266688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757600" y="555480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5410080"/>
            <a:ext cx="1219320" cy="685800"/>
            <a:chOff x="1143000" y="5410080"/>
            <a:chExt cx="1219320" cy="685800"/>
          </a:xfrm>
        </p:grpSpPr>
        <p:sp>
          <p:nvSpPr>
            <p:cNvPr id="278" name=""/>
            <p:cNvSpPr/>
            <p:nvPr/>
          </p:nvSpPr>
          <p:spPr>
            <a:xfrm>
              <a:off x="114300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212840" y="555480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281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90920" y="4952880"/>
            <a:ext cx="0" cy="1524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3962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906480"/>
            <a:ext cx="45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98640" y="906480"/>
            <a:ext cx="111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61040" y="906480"/>
            <a:ext cx="755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2952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92240" y="14619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301920" y="16905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447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13000" y="1004760"/>
            <a:ext cx="1293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ll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Route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1467000"/>
            <a:ext cx="0" cy="46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362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73240" y="1766880"/>
            <a:ext cx="2084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ngth(mdData) &gt; aMax_Frame_Length)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Route != null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!= {contention | contention_free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!= {asynchronous | time_bounded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43200" y="23763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31880" y="23763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4724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301920" y="4738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3505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129200" y="146196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va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623960" y="4738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30440" y="4030560"/>
            <a:ext cx="917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91120" y="4510080"/>
            <a:ext cx="138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essState(mdDA)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!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29200" y="48909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5867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066680" y="6400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92240" y="5881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01720" y="5881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mdMSDU, 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57150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90880" y="517356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01840" y="6415200"/>
            <a:ext cx="1316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A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68760" y="64152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960560" y="565308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R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56080" y="2583000"/>
            <a:ext cx="663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276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36576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1690560"/>
            <a:ext cx="167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MAC header to cre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MSDU which incl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FromDS := 0, mdType := Da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2 := aMAC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130720" y="35193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301920" y="36720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76440" y="3672000"/>
            <a:ext cx="14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048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41760" y="30621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31880" y="30621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95280" y="2681280"/>
            <a:ext cx="198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= contention_free &amp; !F_CFavail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= time_boun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53040" y="306216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5943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27760" y="595800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76720" y="550080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129528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21280" y="35193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121280" y="48909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21280" y="595800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Management Service State Machin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438280" y="4952880"/>
            <a:ext cx="3505320" cy="152640"/>
            <a:chOff x="2438280" y="4952880"/>
            <a:chExt cx="3505320" cy="152640"/>
          </a:xfrm>
        </p:grpSpPr>
        <p:sp>
          <p:nvSpPr>
            <p:cNvPr id="33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49528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4952880"/>
              <a:ext cx="0" cy="15264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480" bIns="69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38280" y="4419720"/>
            <a:ext cx="1981440" cy="152280"/>
            <a:chOff x="2438280" y="4419720"/>
            <a:chExt cx="1981440" cy="152280"/>
          </a:xfrm>
        </p:grpSpPr>
        <p:sp>
          <p:nvSpPr>
            <p:cNvPr id="343" name=""/>
            <p:cNvSpPr/>
            <p:nvPr/>
          </p:nvSpPr>
          <p:spPr>
            <a:xfrm>
              <a:off x="2438280" y="44956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29000" y="44197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>
            <a:off x="990720" y="1676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74840" y="830160"/>
            <a:ext cx="1033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8680" y="2757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511960" y="830160"/>
            <a:ext cx="865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oDS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454720" y="2604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58680" y="5272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24160" y="830160"/>
            <a:ext cx="409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4012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523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46400" y="1538280"/>
            <a:ext cx="13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dsMSDU,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30480" y="1461960"/>
            <a:ext cx="166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available from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397320" y="1538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348080" y="1309680"/>
            <a:ext cx="601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oD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20760" y="169056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DSM reception in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6320" y="204156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20600" y="252900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2438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2743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44760" y="2757600"/>
            <a:ext cx="876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63600" y="3946680"/>
            <a:ext cx="54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32767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27600" y="2879640"/>
            <a:ext cx="981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43434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13360" y="5318280"/>
            <a:ext cx="6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5530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24160" y="50436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3581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257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64008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371600" y="4800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3124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42900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5486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61722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42670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2670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60199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429000" y="5867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47800" y="29098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40660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16440" y="237636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44880" y="2604960"/>
            <a:ext cx="12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714840" y="35956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30480" y="3824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3048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6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724120" y="527220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0660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71920" y="48150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547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30760" y="5043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4940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38280" y="33670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353960" y="35956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71840" y="5881680"/>
            <a:ext cx="64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565360" y="420516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406600" y="4510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406600" y="6186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471840" y="45100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749840" y="3290760"/>
            <a:ext cx="10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45472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649680" y="5653080"/>
            <a:ext cx="47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one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87680" y="4281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13200" y="40528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82960" y="42814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916360" y="6186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454720" y="6415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74920" y="633888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75320" y="618660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58680" y="6567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68440" y="656748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30680" y="6415200"/>
            <a:ext cx="110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38520" y="35956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57150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506600" y="527220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438280" y="2514600"/>
            <a:ext cx="3505320" cy="152280"/>
            <a:chOff x="2438280" y="2514600"/>
            <a:chExt cx="3505320" cy="152280"/>
          </a:xfrm>
        </p:grpSpPr>
        <p:sp>
          <p:nvSpPr>
            <p:cNvPr id="424" name=""/>
            <p:cNvSpPr/>
            <p:nvPr/>
          </p:nvSpPr>
          <p:spPr>
            <a:xfrm>
              <a:off x="2438280" y="259092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429000" y="251460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429000" y="12193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505320" y="76960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75280" y="199548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30640" y="1766880"/>
            <a:ext cx="1144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Poll &amp; (TxSt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50920" y="633888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 – (2 * cCFnex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+= 1, cCFnex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05080" y="25290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Addr1, 0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1120" y="982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371600" y="28954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800680" y="95868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56120" y="189720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400" y="2811600"/>
            <a:ext cx="801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22600" y="98280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3716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1523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8892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36052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528920" y="130968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27080" y="1843200"/>
            <a:ext cx="176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 &amp; (Tx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2819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2666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213000" y="2681280"/>
            <a:ext cx="127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25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08640" y="2604960"/>
            <a:ext cx="16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494240" y="2833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271520" y="2300400"/>
            <a:ext cx="157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crAddr1) &amp; (TxS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33532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520" y="4191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444920" y="3316320"/>
            <a:ext cx="163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494240" y="3519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916360" y="3976560"/>
            <a:ext cx="3314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RTS) &amp; (NAV =0) &amp; !F_Mbusy &amp; (T_IFS =aSIFS) &amp; !F_CF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688000" y="42051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603600" y="420516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TS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819520" y="73152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684760" y="4738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819520" y="4724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262320" y="4484520"/>
            <a:ext cx="24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{Management | Data} ) &amp; (cr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29080" y="4713120"/>
            <a:ext cx="195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689440" y="52722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19520" y="52578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949480" y="5018040"/>
            <a:ext cx="31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Management) &amp; (crFragLast = 1) ) | (c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440160" y="5246640"/>
            <a:ext cx="2130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crMSDU, 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8476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19520" y="5867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35160" y="5627520"/>
            <a:ext cx="293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1) &amp; F_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16480" y="5881680"/>
            <a:ext cx="19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r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19520" y="6477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8840" y="6237360"/>
            <a:ext cx="255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688000" y="73296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052960" y="28335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813040" y="1843200"/>
            <a:ext cx="1693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rDir = 1) &amp; (crType 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anagement | data | PS–Poll}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843280" y="2986200"/>
            <a:ext cx="1569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Dir, crTs) &amp; ( (crDir = 0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control) 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3581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78928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819520" y="7010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05200" y="6770520"/>
            <a:ext cx="32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={CF–End | CF–End+Ack} ) &amp; (crAddr2=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130560" y="6999120"/>
            <a:ext cx="152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NAV(0), 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695920" y="702468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76760" y="7151760"/>
            <a:ext cx="87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fr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505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819520" y="3886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99072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907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74760" y="3798720"/>
            <a:ext cx="142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FrDSq &amp; (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98440" y="4167360"/>
            <a:ext cx="12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Fr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335320" y="3519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46320" y="3525840"/>
            <a:ext cx="11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332080" y="4129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9907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20680" y="4484520"/>
            <a:ext cx="1739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Addr1 = multicast) &amp; !F_DTI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PsMode(cAddr1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527120" y="4815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MSDU,P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63720" y="4815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0480" y="53481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233360" y="5094360"/>
            <a:ext cx="135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oll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30360" y="7089840"/>
            <a:ext cx="21589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1 continues, subsequ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s enabled when TxSt != 0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1 | 2 } for DCF trans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1 | –2 } for CF–Poll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3 | –4 } for Point Coordin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19520" y="1600200"/>
            <a:ext cx="33526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7467480"/>
            <a:ext cx="0" cy="38124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817720" y="1614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333600" y="1157400"/>
            <a:ext cx="2224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ware &amp; !F_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Dir = 1) &amp; (crType = { any with CF–Poll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60800" y="161460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150920" y="534816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65440" y="153828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902120" y="35193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720" y="63244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65160" y="6338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279440" y="608472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oll | (cCFnex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08000" y="3189240"/>
            <a:ext cx="181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 &amp; ( F_CFpoll |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105520" y="198108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19810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05520" y="236232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713560" y="1995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1523880"/>
            <a:ext cx="0" cy="6324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1371600"/>
            <a:ext cx="0" cy="6095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320040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067200" y="7537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668760" y="7684920"/>
            <a:ext cx="213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rocess frame received during CF period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689440" y="64911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846520" y="6491160"/>
            <a:ext cx="2994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crMPDU,crLength),Enqueue(cr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066680" y="4738680"/>
            <a:ext cx="10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47920" y="7024680"/>
            <a:ext cx="24750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–1) | ( (TxSt = 1) &amp; (FragNum &gt; 0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cAddr1 = individual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17440" y="699300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81000" y="54500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0224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20720" y="1233360"/>
            <a:ext cx="1303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NAV != 0) | F_Mbusy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xSt = 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6765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54120" y="1690560"/>
            <a:ext cx="1781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 (Int(cCW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Start(T_Backof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Min((cCW * 2), aCW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4940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438280" y="2514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1905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511360" y="1919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160020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338720" y="1211400"/>
            <a:ext cx="925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43040" y="1233360"/>
            <a:ext cx="19256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F_Backoff &amp; (NAV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gt;=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, R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940120" y="1919160"/>
            <a:ext cx="1668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RTS(cMPDU), 1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24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2057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800600" y="2362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78400" y="18432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79736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0880" y="20718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700360" y="2147760"/>
            <a:ext cx="161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31496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773440" y="2529000"/>
            <a:ext cx="131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478400" y="3421080"/>
            <a:ext cx="646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65200" y="3421080"/>
            <a:ext cx="698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409840" y="4129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33600" y="3443400"/>
            <a:ext cx="214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(FragNum =0) &amp; (NAV =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ackoff &amp; !F_Mbusy &amp; (T_IFS &gt;=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lt;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819520" y="4129200"/>
            <a:ext cx="19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 (cRetryCnt &gt; 0), cMore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, 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800600" y="44197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807080" y="272556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SDU, , ,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CTS) &amp; (T_IFS =aS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79736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203800" y="3062160"/>
            <a:ext cx="1106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 F_TXq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244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00600" y="5029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800600" y="5334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02080" y="48150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79736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407200" y="50436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38280" y="3124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671920" y="275760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31172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65320" y="31384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38280" y="4876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685960" y="4510080"/>
            <a:ext cx="164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314960" y="4890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584440" y="489096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(2 * TxSt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438280" y="54864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658960" y="5119560"/>
            <a:ext cx="169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31172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1640" y="550080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66880" y="3900600"/>
            <a:ext cx="1625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914400" y="4724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03240" y="5164200"/>
            <a:ext cx="14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c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120680" y="7373880"/>
            <a:ext cx="857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58880" y="569736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0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4382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52640" y="4738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541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885960" y="54244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66880" y="6186600"/>
            <a:ext cx="1625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&gt;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914400" y="6934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49400" y="6948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7696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82720" y="7710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52600" y="774864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463840" y="605952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316400" y="60339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676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29528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87600" y="7481880"/>
            <a:ext cx="2297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F_CFpol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F_ TXq, cRetry :=(cRetryCn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36920" y="645948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3828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3080" y="67960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311720" y="6796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438280" y="74674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406600" y="7481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95320" y="2909880"/>
            <a:ext cx="100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65000" y="2681280"/>
            <a:ext cx="1133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lt; 0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32767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54080" y="2909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777240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38280" y="1523880"/>
            <a:ext cx="0" cy="6248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1025640" y="4967280"/>
            <a:ext cx="23367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(cRetryCnt &gt;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PollList(cAddr1) | F_CFack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ack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52680" y="1690560"/>
            <a:ext cx="1247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3, cCFnext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914400" y="1676520"/>
            <a:ext cx="236232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63720" y="16905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9880" y="1919160"/>
            <a:ext cx="2433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0) &amp; ( (NAV != 0) | F_Mbusy 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TxSt = –3) &amp; (Duration(cFragLng,A) &gt; T_Dwell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68400" y="2427120"/>
            <a:ext cx="2097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T_Backoff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(aCW_Min * 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Backoff), TxSt := Min(TxSt, –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28880" y="1309680"/>
            <a:ext cx="2057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 (TxSt = 0) &amp; (NAV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P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67160" y="906480"/>
            <a:ext cx="1419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CF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530520" y="3214800"/>
            <a:ext cx="154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338640" y="2757600"/>
            <a:ext cx="23194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 &lt;= {T_Dwell &amp; T_CFDR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!= individual 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68800" y="1538280"/>
            <a:ext cx="2441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 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 cFragNum, cFragL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cCFnext := 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732120" y="1309680"/>
            <a:ext cx="1224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Fnext = 1) &amp; F_T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276720" y="32004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273480" y="153828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280120" y="32148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405240" y="3976560"/>
            <a:ext cx="141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dr1 = individual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712880" y="3519360"/>
            <a:ext cx="40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 ( (Duration(Length(cMPDU)) &lt;= T_CFDR) | !F_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12952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508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120760" y="3747960"/>
            <a:ext cx="31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), 16), 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43480" y="906480"/>
            <a:ext cx="104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1523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14400" y="30481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60480" y="237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12952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914400" y="2362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48120" y="2362320"/>
            <a:ext cx="0" cy="6858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914400" y="37339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23623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70240" y="23763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987720" y="2147760"/>
            <a:ext cx="7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73480" y="2408400"/>
            <a:ext cx="259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+= 1,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cFragLng,cFragLast), cCFnext :=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914400" y="41911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280120" y="37479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276880" y="42051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92200" y="4205160"/>
            <a:ext cx="291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0, cRetryCnt := 0, Set(F_Backoff), Clear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7880" y="4411800"/>
            <a:ext cx="1128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F–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49528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861840" y="49672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25560" y="4510080"/>
            <a:ext cx="2392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SIFS) &amp; F_Backoff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A) &lt;= {T_Dwell &amp; T_CFDR}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12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581280" y="5181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235400" y="46623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578400" y="48909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111560" y="489096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655308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529080" y="65674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810400" y="6394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605040" y="618660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14400" y="32767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089000" y="3062160"/>
            <a:ext cx="2087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2) &amp; F_PC &amp; F_CFP &amp; F_Back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30520" y="32907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914400" y="3505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3276720"/>
            <a:ext cx="0" cy="2286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965160" y="32907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05040" y="5424480"/>
            <a:ext cx="2614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76240" y="5653080"/>
            <a:ext cx="2187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(Int(aCW_Min*Random(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Slot_Time), aTotal_Backoff_Time +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, Start(T_Backoff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52560" y="6110280"/>
            <a:ext cx="26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987720" y="659304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14400" y="56386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71880" y="56530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63244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68640" y="63388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73080" y="6338880"/>
            <a:ext cx="178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1, cRetryCn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73915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525840" y="74055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810400" y="723276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605040" y="702468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7431120"/>
            <a:ext cx="1482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cCFnex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66880" y="6567480"/>
            <a:ext cx="2665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!F_TXq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Duration(aMax_Frame_Length, 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 {T_Dwell &amp; T_CFDR}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14400" y="70102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858960" y="70246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630600" y="5272200"/>
            <a:ext cx="23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TXq &amp; !F_RXq &amp; !PollList(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!F_TXa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aMax_Frame_Length,A) &gt; T_CFDR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5715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81280" y="6019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575160" y="57294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381560" y="572940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01800" y="7405560"/>
            <a:ext cx="23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sSt = –4) | (Duration(cFragLng,A) &gt; T_CFD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00400" y="762012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7620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14400" y="800100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480060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1600200"/>
            <a:ext cx="0" cy="6553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12920" y="7634160"/>
            <a:ext cx="1868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F_CFack), 16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95320" y="763416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181160" y="702468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aACK_Retry_Max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poll(PollList(next),F_CFack), 2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129528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Fischer</dc:creator>
  <dc:description/>
  <dc:language>en-US</dc:language>
  <cp:lastModifiedBy>Vic Hayes</cp:lastModifiedBy>
  <cp:revision>0</cp:revision>
  <dc:subject/>
  <dc:title>State Machine Notation</dc:title>
</cp:coreProperties>
</file>