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EE4253A2-8191-49DA-A385-FB153BCA6EA9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real, PQ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Nov 6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votes on Letter Ballot reference papers (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all D2 letter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ess on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Tuesday   |  Wednesday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 FH |MAC!DS!FH!  |MAC!DS!FH!  |MAC!DS!FH!IR| 802 !MAC!P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  |   !  !  !  |   !  !  !  |   !  !  !  |Plen-|   ! 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........|  ary|OPT!O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   PHY  |-----|   ! T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802      |MAC!  PHY   |Full 802.11 |Full 802.11 | OPT  ! OPT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lenary    |   !        |Resolve     |   Reports  | MAC  ! PH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|   !........|  outputs   |   Outputs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|   !DS!FH!  |Cross issues|  Next mtng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Full 802.11 |   !  !  !  |Conform Tst |          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IR!OPT !OPT |IR!OPT !OPT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!MAC !PHY |  !MAC !PHY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2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2nd Session of meetings of IEEE P802.11 Wireless Local Area Networks  Tentative Agenda</dc:title>
</cp:coreProperties>
</file>