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3591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Aug 199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5/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g ‘95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802.11 decisions made but not edited into D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nection mgt stuff hanging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 will email as 95/212 for LB comment re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P MSDU vs M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P IV drawing edit correction also in 95/2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perseded by 95/196 (WEP MSDU vs MP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mat &amp; figures in Clau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IM diagram out of date (4.3.2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6.2.6.3 retry li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6.2.6.3 modified to correct motivation for mib vars in sec 8 re retry li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1 will be this proposed text for LB com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bob Ohara, TOm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g vs dwell bound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orth doing frag adjustment to fit remaining dwell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Use fixed frag size of A_fragmentation_threshold per MSDU (except for last fra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ccept rec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ave D2 as is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ke F will write up in doc 95/206 people can cite if they like in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e machine known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xt vs state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roup drafts Mike and Joh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9 will be further updated state machines - avail before LB closes (9/10 pro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 desc inadequ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b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clear language re unicast data and/or mgt frames at any rate in last para sec 6.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e transition R41b - plcp header is ok, but rate indicated is not one the phy supports, what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consensus, people to consider and make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: MSDU vs MPDU revis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to reconsider MPDU decision and change back to MS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veral strong MSDU supporters and a couple fence sitters, no strong MPDU suppo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 to include in 95/196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ref paper 95/187 for background, new paper will be changed text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: ICV al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bable rec: change back to CRC-16 from CR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: to put in 95/197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ref mike’s’ paper 95/187 for background, new paper will be changed text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ate breaking consideration: San Jose 95/06 minutes:  Kerry Lynn says 32 bits is shortest ICV that govt will accept for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may nullify rec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B to check with Kerry Ly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: Non-accept of non-WEP Data frames MIB 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ke F to create 95/198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ref paper 95/187 for background, new paper will be changed text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: Multiple default key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87 prob 4 for background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 support to ask Mike F to write up text for people to review - Doc 95/211 for LB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vote: 8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pec when to set To-DS b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mmary: When bit set not spe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ry direct first vs. try AP first;  mandate or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ome want speced, some do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-DS bit definition not the issue, when to invok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consensus after three attem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g Goals from July 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cess D2.0 LB comments (if any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work on Section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utline Conformance Statements to correspond to D2.0, flesh out to match D2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ncompress T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m’s proposal uncompress and delete trailing zeros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c 95/208 for LB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Johnny’s modification - delete leading and trailing zeros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c 95/209R1 for LB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ave D2 alone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, side discussion: people also concerned re interaction with SID allocation strategy (not speced in D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ow are beacon interval times coordinated in an ad-hoc n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ne as side effect of ad-hoc pwr mgt paper see 95/137R2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soc / Reassoc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 will correct in 95/203 for LB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mbine auth and assoc func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posal: Combine Auth frame contents into Assoc and Reassoc frames, leave auth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proposal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ave D2 as is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sociation - different states between s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d sent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f  STA 1 receives a class 3 frame from STA 2 which is not associated with the STA 1, STA 1 shall send a Disassociation frame to STA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 to adopt: 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 to put in paper 95/210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SF timer alg probl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uch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consen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eacon / Scanning / BSS joining / BSS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blem with PHY specs re time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ef 11.3.3.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re research needed, ripe area for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MSDU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hould min req for multi simul MSDUs be &gt; for APs than S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raw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reducing to &lt; 6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leaving as is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hat happens if implemented limit exceed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eed to spec behav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raw: Need to spec behavi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rst straw: 8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nd straw: 4, 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iverging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ft for indv LB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hat to do if data frame not recv in time after po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uch discussion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ing useful to capture from this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e machine known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text vs state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roup drafts Mike and Simon and Joh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9 will be further updated state machines - avail before LB closes (9/10 pro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us code fill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m B started ef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ll be in 95/213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July MAC minutes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rolyn took minutes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37R2 - IBSS pwr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vail lat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6 - WEP: MSDU vs MPDU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7 - WEP: ICV a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ometime next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8 - WEP: Non-accept of non-WEP Data frames MIB to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9 - state machine known limitations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opefully avail before LB closes, prob not until 9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1 - 6.2.6.3 retry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hara, To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ready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2 - MAC Conformance stm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imon, 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expected before LB cl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3 - Assoc / Reassoc relation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6 - frag vs dwell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trib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7 - 6.2.5 Back off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8 - Uncompress TIM / trailing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9R1 - Uncompress Tim / trailing &amp; leading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Johnn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10 - Association: different states between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11 - WEP: Multiple default ke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at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12 - Connection mgt stuff hanging around  in D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13 - Status code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m will let vic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Nov 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Quick votes on LB referenc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extended discussion, &lt; 5 min each 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ces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2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view initial MAC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apers (numerical or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37R1 - ad hoc pwr mgt (impro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82 - rts/cts authors not present at mtg - univ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83 - modified backoff algs - univ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87 bumps on road to privacy - mik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88 how far should an ESS extend - mik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ull MAC group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official votes due to pending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y recs in small papers to be avail ASAP for reference in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 pwr m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sensus is for this feature, details of mechanism to be in 95/137R2 from Rick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Conformance stm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mon to create straw man, mike F to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c 95/202 will be avail before Nov mt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 expected before LB cl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6.2.5 Back off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vote to change D2 text to  CWmin = 7, CWmax = 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zero relative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lues required not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11,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m B will create doc 95/207 and dist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ke F; ref to ftp://ftp.cs.toronto.edu/csri-technical-reports/2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enet capture effect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Vic Hayes</cp:lastModifiedBy>
  <cp:revision>0</cp:revision>
  <dc:subject/>
  <dc:title>November '94 MAC group agenda</dc:title>
</cp:coreProperties>
</file>