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838080" y="8380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DSSS 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 GHz ISM band (FCC 15.2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and 2 Mbit/s datarate (DBPSK and DQPSK modul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10 dB processing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ing sequence 11 chip Barker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nna 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defined in standard, but should be conform FCC 15.2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rier sup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rier suppresion shall be at least 15 dB below the peak sin(x)/x power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frequency 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 to 2.4835 G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overlapping channels with centerfrequencies from 2412 MHz to 2462 MHz with 5 MHz sp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ing 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ymbol is spreaded with 11 chip Barker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, -1, +1, +1, -1, +1, +1, +1, -1, -1,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ping rate 11 M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ping rate of 11 MHz over 1 MHz symbols gives a processing gain of theoretical 10.4 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rates and Mod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bit/s Differential Binary Phase Shift Ke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Mbit/s Differential Quadrature Phase Shift Ke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rate is 1 MH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ding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16040" y="1593720"/>
            <a:ext cx="74930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amb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bits are being scrambled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7238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Power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ximum allowable output power is 1000mW according to FCC 15.2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Spectrum M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7640" y="2362320"/>
            <a:ext cx="71596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urious Emi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SSS PHY shall conform with in-band and out of band spurious emissions  as set by regulatory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USA: refer to FCC 15.247, FCC 15.205 and FCC 15.2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