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292DF1EB-255B-4B04-9FF7-4A4C1DABB3C5}"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237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61563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6</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ncreasing the reliability of delivery of multicast frames in an IBSS network</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7. first paragraph needs to be modified</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as found in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new paragraph, case of ad-hoc multicast, uses modified mechanism for multica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then multicast frames shall be announced with a multicast ATIM and the multicast frame shall be transmitted following PIFS medium idle time following the completion of the transmission of the multicast ATIM. No backoff shall be invoked during this frame sequence.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ext changes</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2.1.</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1st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a:t>
            </a:r>
            <a:r>
              <a:rPr b="1" i="1" lang="en-US" sz="1800" spc="-1" strike="noStrike">
                <a:solidFill>
                  <a:srgbClr val="fc0128"/>
                </a:solidFill>
                <a:latin typeface="Arial"/>
                <a:ea typeface="Arial"/>
              </a:rPr>
              <a:t>multicast MSDUs</a:t>
            </a:r>
            <a:r>
              <a:rPr b="1" lang="en-US" sz="1800" spc="-1" strike="noStrike">
                <a:solidFill>
                  <a:srgbClr val="000000"/>
                </a:solidFill>
                <a:latin typeface="Arial"/>
                <a:ea typeface="Arial"/>
              </a:rPr>
              <a:t>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power conserving station listens for these announcements to determine if its receiver must be left on.</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a:t>
            </a:r>
            <a:r>
              <a:rPr b="1" i="1" lang="en-US" sz="1800" spc="-1" strike="noStrike">
                <a:solidFill>
                  <a:srgbClr val="fc0128"/>
                </a:solidFill>
                <a:latin typeface="Arial"/>
                <a:ea typeface="Arial"/>
              </a:rPr>
              <a:t>STA in the power save mode</a:t>
            </a:r>
            <a:r>
              <a:rPr b="1" lang="en-US" sz="1800" spc="-1" strike="noStrike">
                <a:solidFill>
                  <a:srgbClr val="000000"/>
                </a:solidFill>
                <a:latin typeface="Arial"/>
                <a:ea typeface="Arial"/>
              </a:rPr>
              <a:t> listens for these announcements to determine if </a:t>
            </a:r>
            <a:r>
              <a:rPr b="1" i="1" lang="en-US" sz="1800" spc="-1" strike="noStrike">
                <a:solidFill>
                  <a:srgbClr val="fc0128"/>
                </a:solidFill>
                <a:latin typeface="Arial"/>
                <a:ea typeface="Arial"/>
              </a:rPr>
              <a:t>the STA</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shall remain in the awake state</a:t>
            </a:r>
            <a:r>
              <a:rPr b="1" lang="en-US" sz="1800" spc="-1" strike="noStrike">
                <a:solidFill>
                  <a:srgbClr val="fc0128"/>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 MSDU is to be transmitted to a destination station that is in a Power Save (PS) mode, the transmitting station first transmits an ATIM frame during the ATIM Window, in which all the stations including those operating in a Power Save (PS) mode are awake. The ATIM Window is defined as a specific period of time following a beacon during which only ATIM frames can be transmitted. ATIMs are randomized after the beacon using the backoff procedure. ATIMs are acknowledged. If a station receives an ATIM frame during the ATIM Window, it will acknowledge the ATIM and stay awake for the entire Beacon Interval waiting for the announced MSDU(s) to be received. If a Station does not receive an ATIM, it can go back to PS Mode after the end of the ATIM Window. MSDUs announced by ATIMs are randomized after the ATIM Window using the backoff procedure. If a station transmitting the ATIM does not receive an acknowledgment, the station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to be replaced with the following three paragraph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is to be transmitted to a destination station that is in a Power Save (PS) mode, the transmitting station first transmits an ATIM during the ATIM Window, in which all the stations including those operating in a Power Save (PS) mode are awake. The ATIM Window is defined as </a:t>
            </a:r>
            <a:r>
              <a:rPr b="1" i="1" lang="en-US" sz="1800" spc="-1" strike="noStrike">
                <a:solidFill>
                  <a:srgbClr val="fc0128"/>
                </a:solidFill>
                <a:latin typeface="Arial"/>
                <a:ea typeface="Arial"/>
              </a:rPr>
              <a:t>aATIM_Window</a:t>
            </a:r>
            <a:r>
              <a:rPr b="1" lang="en-US" sz="1800" spc="-1" strike="noStrike">
                <a:solidFill>
                  <a:srgbClr val="000000"/>
                </a:solidFill>
                <a:latin typeface="Arial"/>
                <a:ea typeface="Arial"/>
              </a:rPr>
              <a:t> time following </a:t>
            </a:r>
            <a:r>
              <a:rPr b="1" i="1" lang="en-US" sz="1800" spc="-1" strike="noStrike">
                <a:solidFill>
                  <a:srgbClr val="fc0128"/>
                </a:solidFill>
                <a:latin typeface="Arial"/>
                <a:ea typeface="Arial"/>
              </a:rPr>
              <a:t>a TBTT</a:t>
            </a:r>
            <a:r>
              <a:rPr b="1" lang="en-US" sz="1800" spc="-1" strike="noStrike">
                <a:solidFill>
                  <a:srgbClr val="000000"/>
                </a:solidFill>
                <a:latin typeface="Arial"/>
                <a:ea typeface="Arial"/>
              </a:rPr>
              <a:t>. During the ATIM window, only beacons, ATIMs and multicast frames shall be transmitted. ATIM transmission times are randomized by the transmitting STA after a beacon is either transmitted or received at that STA. ATIM transmission randomization is performed using the backoff procedure with </a:t>
            </a:r>
            <a:r>
              <a:rPr b="1" i="1" lang="en-US" sz="1800" spc="-1" strike="noStrike">
                <a:solidFill>
                  <a:srgbClr val="fc0128"/>
                </a:solidFill>
                <a:latin typeface="Arial"/>
                <a:ea typeface="Arial"/>
              </a:rPr>
              <a:t>CWmax</a:t>
            </a:r>
            <a:r>
              <a:rPr b="1" lang="en-US" sz="1800" spc="-1" strike="noStrike">
                <a:solidFill>
                  <a:srgbClr val="000000"/>
                </a:solidFill>
                <a:latin typeface="Arial"/>
                <a:ea typeface="Arial"/>
              </a:rPr>
              <a:t> valu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acknowledged. </a:t>
            </a:r>
            <a:r>
              <a:rPr b="1" i="1" lang="en-US" sz="1800" spc="-1" strike="noStrike">
                <a:solidFill>
                  <a:srgbClr val="fc0128"/>
                </a:solidFill>
                <a:latin typeface="Arial"/>
                <a:ea typeface="Arial"/>
              </a:rPr>
              <a:t>Multicast ATIMs are not acknowledged</a:t>
            </a:r>
            <a:r>
              <a:rPr b="1" lang="en-US" sz="1800" spc="-1" strike="noStrike">
                <a:solidFill>
                  <a:srgbClr val="fc0128"/>
                </a:solidFill>
                <a:latin typeface="Arial"/>
                <a:ea typeface="Arial"/>
              </a:rPr>
              <a:t>. </a:t>
            </a:r>
            <a:r>
              <a:rPr b="1" lang="en-US" sz="1800" spc="-1" strike="noStrike">
                <a:solidFill>
                  <a:srgbClr val="000000"/>
                </a:solidFill>
                <a:latin typeface="Arial"/>
                <a:ea typeface="Arial"/>
              </a:rPr>
              <a:t>If a STA transmitting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does not receive an acknowledgment, the STA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a STA receives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rame during the ATIM Window, it shall acknowledge th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ollowing an SIFS interval shall and stay awake for the entire Beacon Interval waiting for the announced MSDU(s) to be received. If a STA does not receive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the STA </a:t>
            </a:r>
            <a:r>
              <a:rPr b="1" i="1" lang="en-US" sz="1800" spc="-1" strike="noStrike">
                <a:solidFill>
                  <a:srgbClr val="fc0128"/>
                </a:solidFill>
                <a:latin typeface="Arial"/>
                <a:ea typeface="Arial"/>
              </a:rPr>
              <a:t>shall</a:t>
            </a:r>
            <a:r>
              <a:rPr b="1" lang="en-US" sz="1800" spc="-1" strike="noStrike">
                <a:solidFill>
                  <a:srgbClr val="000000"/>
                </a:solidFill>
                <a:latin typeface="Arial"/>
                <a:ea typeface="Arial"/>
              </a:rPr>
              <a:t> go back to </a:t>
            </a:r>
            <a:r>
              <a:rPr b="1" i="1" lang="en-US" sz="1800" spc="-1" strike="noStrike">
                <a:solidFill>
                  <a:srgbClr val="fc0128"/>
                </a:solidFill>
                <a:latin typeface="Arial"/>
                <a:ea typeface="Arial"/>
              </a:rPr>
              <a:t>the doze state</a:t>
            </a:r>
            <a:r>
              <a:rPr b="1" lang="en-US" sz="1800" spc="-1" strike="noStrike">
                <a:solidFill>
                  <a:srgbClr val="000000"/>
                </a:solidFill>
                <a:latin typeface="Arial"/>
                <a:ea typeface="Arial"/>
              </a:rPr>
              <a:t> after the end of the ATIM Window </a:t>
            </a:r>
            <a:r>
              <a:rPr b="1" i="1" lang="en-US" sz="1800" spc="-1" strike="noStrike">
                <a:solidFill>
                  <a:srgbClr val="fc0128"/>
                </a:solidFill>
                <a:latin typeface="Arial"/>
                <a:ea typeface="Arial"/>
              </a:rPr>
              <a:t>and a medium idle condition have both been detected</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MSDUs announced by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randomized after the ATIM Window using the </a:t>
            </a:r>
            <a:r>
              <a:rPr b="1" i="1" lang="en-US" sz="1800" spc="-1" strike="noStrike">
                <a:solidFill>
                  <a:srgbClr val="fc0128"/>
                </a:solidFill>
                <a:latin typeface="Arial"/>
                <a:ea typeface="Arial"/>
              </a:rPr>
              <a:t>normal</a:t>
            </a:r>
            <a:r>
              <a:rPr b="1" lang="en-US" sz="1800" spc="-1" strike="noStrike">
                <a:solidFill>
                  <a:srgbClr val="000000"/>
                </a:solidFill>
                <a:latin typeface="Arial"/>
                <a:ea typeface="Arial"/>
              </a:rPr>
              <a:t> backoff procedure.</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Multicast frames are transmitted following PIFS idle medium time that begins with the completion of the transmission of a multicast ATIM</a:t>
            </a:r>
            <a:r>
              <a:rPr b="1" i="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4th paragraph:</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n ATIM will have a destination address of broadcast/multicast for broadcast/multicast MSDUs. All stations will remain awake if they receive an ATIM with a broadcast/multicast destination addres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ATIM will have a destination address of broadcast/multicast for broadcast/multicast MSD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d-hoc</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proposed new mechanism</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nd multicast frames following PIFS idle time after multicast ATIM transmission</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my ATIM collides, then it has collided with another ATIM (or possibly a beacon, see next paragraph), and the overlap is nearly completely coincident, so PIFS after my ATIM, the medium should be free and my multicast will successfully be delivered </a:t>
            </a:r>
            <a:r>
              <a:rPr b="1" i="1" lang="en-US" sz="1800" spc="-1" strike="noStrike" u="sng">
                <a:solidFill>
                  <a:srgbClr val="fc0128"/>
                </a:solidFill>
                <a:uFillTx/>
                <a:latin typeface="Arial"/>
                <a:ea typeface="Arial"/>
              </a:rPr>
              <a:t>UNLESS the colliding ATIM was also announcing a multicast frame</a:t>
            </a:r>
            <a:r>
              <a:rPr b="1" lang="en-US" sz="1800" spc="-1" strike="noStrike">
                <a:solidFill>
                  <a:srgbClr val="000000"/>
                </a:solidFill>
                <a:latin typeface="Arial"/>
                <a:ea typeface="Arial"/>
              </a:rPr>
              <a:t>, in which case, both STA colliding will wait PIFS and the ATIM colliding STA will both collide their multicast transmissions as well</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multicast ATIM might collide with a beacon - a beacon is longer than an ATIM, and therefore there would be continued carrier after completion of my ATIM transmission, but there should be 70% chance of detecting the continued beacon carrier, and after the drop in that carrier, I will count PIFS and send the multicast frame, so roughly 70% of the time, things should work out reasonably well (again, there could be another multicasting STA inv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oved that the MAC committee adopt the text changes described within this presentation to change the multicast transmission mechanism in the ad-hoc case in order to effect more reliable delivery of multicast fr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3.2. modified to include statement about PIFS use in multicast in ad-hoc case</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text of first sentence of first paragraph, section 6.2.3.2., as amended by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 use note</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of first sentence of first paragraph, section 6.2.3.2., as amended by 96/16:</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 as well as by STA in an IBSS that transmit multicast frames following multicast ATI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inserted paragraph from 96/15,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before m-cast</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a:t>
            </a:r>
            <a:r>
              <a:rPr b="1" i="1" lang="en-US" sz="1800" spc="-1" strike="noStrike">
                <a:solidFill>
                  <a:srgbClr val="00ae00"/>
                </a:solidFill>
                <a:latin typeface="Arial"/>
                <a:ea typeface="Arial"/>
              </a:rPr>
              <a:t>with the To_DS bit clear</a:t>
            </a:r>
            <a:r>
              <a:rPr b="1" lang="en-US" sz="1800" spc="-1" strike="noStrike">
                <a:solidFill>
                  <a:srgbClr val="fc0128"/>
                </a:solidFill>
                <a:latin typeface="Arial"/>
                <a:ea typeface="Arial"/>
              </a:rPr>
              <a:t>. In this case,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utilize both the physical and virtual carrier sense functions to determine the state of the medium. If the medium is busy,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defer until after a PIFS is detected, and then, without generating a random backoff period, shall immediately commence transmission of the multicast frame. This techinique shall be applied to the transmission of all multicast frames, including the Beacon frame. </a:t>
            </a:r>
            <a:r>
              <a:rPr b="1" i="1" lang="en-US" sz="1800" spc="-1" strike="noStrike">
                <a:solidFill>
                  <a:srgbClr val="00ae00"/>
                </a:solidFill>
                <a:latin typeface="Arial"/>
                <a:ea typeface="Arial"/>
              </a:rPr>
              <a:t>Note that in the IBSS case, the STA shall transmit a multicast ATIM before the transmission of the multicast DATA frame commences as described in detail in section 8</a:t>
            </a:r>
            <a:r>
              <a:rPr b="1" lang="en-US" sz="1800" spc="-1" strike="noStrike">
                <a:solidFill>
                  <a:srgbClr val="00ae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96/15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but NOT a multicast ATIM, which does use the special backoff described in section 8</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with the To_DS bit clear, but NOT a multicast ATIM, which does use the special backoff described in section 8</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