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51640" y="6529320"/>
            <a:ext cx="9399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67879630-2089-4476-8F73-4A4B5285D2DD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IEEE P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Vic Hayes, Chair, AT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recht,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76320"/>
            <a:ext cx="8153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62040" y="3898800"/>
            <a:ext cx="7620120" cy="22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Medium Access Control Protocol” using an Ethernet like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SMA/CA + A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 “Avoidance” rather then a “Detection” sch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36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ness demonstrated in </a:t>
            </a:r>
            <a:r>
              <a:rPr b="0" i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MAC level recovery of “Lost Packet” using a retransmission algori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rovisions to deal with “Hidden Nod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03360" y="1449360"/>
            <a:ext cx="5553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Perform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76320" y="5300640"/>
            <a:ext cx="76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and stable through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Based on 2 Mbps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0000" y="1263600"/>
            <a:ext cx="6062760" cy="404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95560" y="1876320"/>
            <a:ext cx="11955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Other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3320" y="137016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 through the Wireless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Continuous conn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will “Re-Associate” with Access Points based on “Signal / Link Qualit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multi channel ro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System” will adapt to logical location changes of the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s to use minimum Battery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: Switch nodes off as much as possible, while maintaining network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buffering functions are included in the Access Point to support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Equivalent Privacy” encryption algorithm is inclu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 radio work on the 2.4 GHz band (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mising glob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allowed to start work in 1.9, 5.2 and 5.8 GHz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ctivity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uses an 11 chip Barker Sequence to multiply the transmit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divides received signal by same Sequence to recover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row band interference dem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can resolve multipath in the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of 2 Mbit/s in DQPSK (Differential Quadrature Phase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back modulation of 1 Mbit/s in DBPSK (Differential Binary P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uses one of out 79 channels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s from one frequency channel to the next at a 2.5 hop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ets of 22 hop sequence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in 2 level GFSK (Gaussian Frequency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in 4 level GFSK, channel perm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Infra-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(basic rate) in 16-PPM (Pulse Position Mod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(enhanced rate) in 4 -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illuminates the ceiling with diffused Infra-re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read from ceiling, so there is no requirements to line transmitter and receiver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ballot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.5 % approval (75 % required, unanimous prefer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(17) 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(66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(1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ing negative votes at November/January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sent to ISO annexed to a Proposed New Work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1200" y="1114560"/>
            <a:ext cx="76201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Confirmation ballot Jan/Feb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rch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Ballot Mar/Apr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Confirmation ballot Jun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Jul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7-18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nference, Januar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Layer Group assembled at the Westgate Hotel, San Diego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CC staff at the Federal Communications Building, Washington,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nd Metropolitan Standards Committee (L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in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by the Computer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35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s (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LAN standards development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tandards adopted as International Standard by ISO/I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Standards Organization and International Electrical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politan Are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450 Voting Members, over 600 Ob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Working Groups, 2 Technical Advisory Grou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 through 802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 -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to high signal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1 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ly sized geographic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m  to campu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owned, used and operated by singl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trast to wide area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shared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ocal Area Networks Standard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July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voting members, 28 aspirant voting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 is by individual, not by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mailing list with over 180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, Canada, Europe, Israel, Japan, Korea,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-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study showed two types of networking nee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, that is bursty traffic, but when something to send: need for very fast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chronous, that is regular traffic, in small amounts at a time, but at a constant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802.11 adopted the following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MSDU delivery on al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U is the MAC Service Data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"time-bound MSDU delivery 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estrian speed and vehicular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ise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first review 802.10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MAC to support various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03240"/>
            <a:ext cx="89028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H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00400" y="1380960"/>
            <a:ext cx="10573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57760" y="1400040"/>
            <a:ext cx="12096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2666880"/>
            <a:ext cx="102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0" y="2000160"/>
            <a:ext cx="155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62560" y="200016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19600" y="2405160"/>
            <a:ext cx="1542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ROAD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62560" y="239220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0520" y="280836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400720" y="2808360"/>
            <a:ext cx="1452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9880" y="3162240"/>
            <a:ext cx="1533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24400" y="318132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14760" y="3543120"/>
            <a:ext cx="150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4320" y="2494080"/>
            <a:ext cx="14860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l Ethernet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19200" y="4514760"/>
            <a:ext cx="89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7840" y="421488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838760" y="461016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19680" y="5010120"/>
            <a:ext cx="118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0" y="4214880"/>
            <a:ext cx="142884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ly all 802.11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81200" y="2647800"/>
            <a:ext cx="95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4476600"/>
            <a:ext cx="1238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