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898FB0-0849-431D-9E16-4EB8545DF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 for 802.11 Letter Bal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contains the time line to go through the various ballots for 802.1, assuming posi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ly proposed by Vic Hayes, and presented at the Januar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jections were raised from the attend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 WORKING GROUP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5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7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2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3 (Sun) (thirty days from mailing date, thirty-eight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7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1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INITIAL SPONSOR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5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3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9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 (Thu) (thirty days from mail arrive date, forty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8 (W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3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SPONSOR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3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5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7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1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4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19 (Wed) (fifteen days from mail arrive, twenty-five days from ftp-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August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opportunity (but needs ExCom e-mail ballo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t IEEE office: Nove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: December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