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6CC47C-EFD1-417D-AAF2-35F848846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39680" y="6629400"/>
            <a:ext cx="146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0617082A-5EC1-4599-84E0-9A4764442457}" type="slidenum"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&lt;number&gt;</a:t>
            </a:fld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</a:t>
            </a:r>
            <a:r>
              <a:rPr b="0" lang="en-US" sz="500" spc="-1" strike="noStrike">
                <a:solidFill>
                  <a:srgbClr val="081d58"/>
                </a:solidFill>
                <a:latin typeface="Book Antiqua"/>
                <a:ea typeface="Book Antiqua"/>
              </a:rPr>
              <a:t>BreezeNET       </a:t>
            </a:r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 01/09/9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67652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read Spectrum subpart of the 802.11 Wireless LAN Stand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71600" y="3886200"/>
            <a:ext cx="6400800" cy="19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- 802.11 meeting, Jan. 5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ftali Chay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 Scien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HSS Modulation Specif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per bounded by FCC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bounded to maintain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pe accura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ro crossing instants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l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Frequency accuracy - 60 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Receiver Perform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1766880"/>
            <a:ext cx="77533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CA- Clear Channel Assess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8080" y="1981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is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 frame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transmitting when the channel is bu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Sensi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80 dBm fo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20 dBm, reduced by 0.5 dB for each dB of power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ion during 0101 pattern within 20 usec with 95%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d minimum hop distance for multipath diversit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hits and adjacent channel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consecutive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15.247 requirement: Pseudorandomly ordered frequency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2286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Previous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ious 802.11 hopping sequences were based on constant frequency increment (mod 7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d better worst case hit, adjacent hit and consecutive hi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e rejected by FCC as insufficiently pseudorandom (due to constant frequency inc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FCC approval for Breez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esigned computer generated pseudorandom list of 79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hop distance of 6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hopping sequences derived from the base predesigned sequ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8 hopping patterns organized in 3 sets of 26 patterns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- c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ote frequency as 2402+b[i], b[i] is the base sequence in range 0.. 7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-th sequence is formed from the base sequence as 2402+(b[i]+k) mod 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eq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02, 2456, 2472, 244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-th seq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32, 2407, 2423, 247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-FCC Meeting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form FCC about the 802.11 WLAN Standard and its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void situation in which 802.11 standard is not acceptable by F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better understanding of what FCC does permit, in order to produce a better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ollision Avoid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hysical layer (PHY) is able to provide Carrier Detect indication, when not transmi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domized Inter-Frame Space (IFS) for reducing collision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nential Backoff is used to stabilize the network when collisions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Virtual Carrier Sense mechan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radio network, some stations may not hear a transmission from a certain station and therefore collide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TS-CTS exchange contains timing information that signals other stations for how long the medium will be bu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Carier Sense mechanism is implemented in the MAC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.S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es according to FCC 15.247 ru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MHz bandwidth at -20 dB P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pping over 79 frequencies in a pseudo-random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Watt power and 36 dBm EI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hieving at least 1 Mbit/sec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cost/familiar technology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ant Envelope- Saturated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r-Discriminator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channel operation -shaping to reduce adjacent channel inter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rates - taking advantage of short range scenarios to increas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752480"/>
            <a:ext cx="78487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ussian shaped FSK (GFS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symbol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RZ data is filtered with BT=0.5 Gaussi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or 2 Mbit/sec with multilevel G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45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amble and Header always at 1 Mbit/sec; Data at 1 or 2 Mbit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GFSK vs GMSK compari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981080"/>
            <a:ext cx="80010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popular with cellular tele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a binary GFSK with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2.11 GFSK is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 due t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/s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Hz 20 dB bandwidth 15.247 r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tivity reduced by 4-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first adjacent channel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Frame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 header indicates payload rate and length; CRC16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s formatted to limit DC offset variations, for PLL based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9880" y="979560"/>
            <a:ext cx="457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77960" y="1932120"/>
            <a:ext cx="8032680" cy="1149480"/>
            <a:chOff x="777960" y="1932120"/>
            <a:chExt cx="8032680" cy="1149480"/>
          </a:xfrm>
        </p:grpSpPr>
        <p:grpSp>
          <p:nvGrpSpPr>
            <p:cNvPr id="110" name=""/>
            <p:cNvGrpSpPr/>
            <p:nvPr/>
          </p:nvGrpSpPr>
          <p:grpSpPr>
            <a:xfrm>
              <a:off x="1628640" y="1943280"/>
              <a:ext cx="6372360" cy="295200"/>
              <a:chOff x="1628640" y="1943280"/>
              <a:chExt cx="6372360" cy="295200"/>
            </a:xfrm>
          </p:grpSpPr>
          <p:sp>
            <p:nvSpPr>
              <p:cNvPr id="111" name=""/>
              <p:cNvSpPr/>
              <p:nvPr/>
            </p:nvSpPr>
            <p:spPr>
              <a:xfrm>
                <a:off x="1628640" y="1943280"/>
                <a:ext cx="1612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43640" y="1943280"/>
                <a:ext cx="245736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4180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08600" y="1943280"/>
                <a:ext cx="76824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7684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363680" y="193212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77960" y="209232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229600" y="20988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39084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1621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12740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8639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6057720" y="197172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2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05680" y="1957320"/>
              <a:ext cx="260640" cy="303480"/>
            </a:xfrm>
            <a:custGeom>
              <a:avLst/>
              <a:gdLst/>
              <a:ahLst/>
              <a:rect l="0" t="0" r="r" b="b"/>
              <a:pathLst>
                <a:path fill="none" w="724" h="843">
                  <a:moveTo>
                    <a:pt x="0" y="843"/>
                  </a:moveTo>
                  <a:lnTo>
                    <a:pt x="0" y="0"/>
                  </a:lnTo>
                  <a:lnTo>
                    <a:pt x="724" y="421"/>
                  </a:lnTo>
                  <a:lnTo>
                    <a:pt x="0" y="84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36560" y="2728800"/>
              <a:ext cx="1612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51560" y="281448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972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16520" y="2728800"/>
              <a:ext cx="76824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476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85880" y="28782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8278920" y="286848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339876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1700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413532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8718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6066000" y="278280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4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99560" y="2655720"/>
              <a:ext cx="294120" cy="425880"/>
            </a:xfrm>
            <a:custGeom>
              <a:avLst/>
              <a:gdLst/>
              <a:ahLst/>
              <a:rect l="0" t="0" r="r" b="b"/>
              <a:pathLst>
                <a:path fill="none" w="817" h="1183">
                  <a:moveTo>
                    <a:pt x="0" y="1183"/>
                  </a:moveTo>
                  <a:lnTo>
                    <a:pt x="0" y="0"/>
                  </a:lnTo>
                  <a:lnTo>
                    <a:pt x="817" y="591"/>
                  </a:lnTo>
                  <a:lnTo>
                    <a:pt x="0" y="11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3000" y="267336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49760" y="293544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86000" y="271944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 txBox="1"/>
          <p:nvPr/>
        </p:nvSpPr>
        <p:spPr>
          <a:xfrm>
            <a:off x="843120" y="1627200"/>
            <a:ext cx="7897680" cy="2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681120"/>
                <a:tab algn="l" pos="2109960"/>
                <a:tab algn="l" pos="2860560"/>
                <a:tab algn="l" pos="3654360"/>
                <a:tab algn="l" pos="5141880"/>
                <a:tab algn="l" pos="6743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u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 timing sync patter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yn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header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 CR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load Dat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d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