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838080" y="8380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SSS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(FCC 15.2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nd 2 Mbit/s datarate (DBPSK and DQPSK mod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0 dB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 11 chip Barke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efined in standard, but should be conform FCC 15.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up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uppresion shall be at least 15 dB below the peak sin(x)/x pow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frequency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to 2.4835 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overlapping channels with centerfrequencies from 2412 MHz to 2462 MHz with 5 MHz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ymbol is spreaded with 11 chip Barke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-1, +1, +1, -1, +1, +1, +1, -1, -1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11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of 11 MHz over 1 MHz symbols gives a processing gain of theoretical 10.4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rates and Mod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 Differential Binary Phase Shift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it/s Differential Quadrature Phase Shift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rate is 1 M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040" y="1593720"/>
            <a:ext cx="749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its are being scrambl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allowable output power is 1000mW according to FCC 15.2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7640" y="2362320"/>
            <a:ext cx="7159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rious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SS PHY shall conform with in-band and out of band spurious emissions  as set by regulatory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A: refer to FCC 15.247, FCC 15.205 and FCC 15.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/>
  <dc:title>IEEE 802.11 DSSS PHY</dc:title>
</cp:coreProperties>
</file>