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0C20F4C-F795-4F6A-8AD4-D6B269A25F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 txBox="1"/>
          <p:nvPr/>
        </p:nvSpPr>
        <p:spPr>
          <a:xfrm>
            <a:off x="139680" y="6629400"/>
            <a:ext cx="146520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fld id="{FA02A83D-62DF-4C3C-9B08-05425C432EC7}" type="slidenum">
              <a:rPr b="0" lang="en-US" sz="600" spc="-1" strike="noStrike">
                <a:solidFill>
                  <a:srgbClr val="081d58"/>
                </a:solidFill>
                <a:latin typeface="Book Antiqua"/>
                <a:ea typeface="Book Antiqua"/>
              </a:rPr>
              <a:t>&lt;number&gt;</a:t>
            </a:fld>
            <a:r>
              <a:rPr b="0" lang="en-US" sz="600" spc="-1" strike="noStrike">
                <a:solidFill>
                  <a:srgbClr val="081d58"/>
                </a:solidFill>
                <a:latin typeface="Book Antiqua"/>
                <a:ea typeface="Book Antiqua"/>
              </a:rPr>
              <a:t>       </a:t>
            </a:r>
            <a:r>
              <a:rPr b="0" lang="en-US" sz="500" spc="-1" strike="noStrike">
                <a:solidFill>
                  <a:srgbClr val="081d58"/>
                </a:solidFill>
                <a:latin typeface="Book Antiqua"/>
                <a:ea typeface="Book Antiqua"/>
              </a:rPr>
              <a:t>BreezeNET       </a:t>
            </a:r>
            <a:r>
              <a:rPr b="0" lang="en-US" sz="600" spc="-1" strike="noStrike">
                <a:solidFill>
                  <a:srgbClr val="081d58"/>
                </a:solidFill>
                <a:latin typeface="Book Antiqua"/>
                <a:ea typeface="Book Antiqua"/>
              </a:rPr>
              <a:t>        01/09/96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66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1676520"/>
            <a:ext cx="7772400" cy="33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7c341"/>
                </a:solidFill>
                <a:latin typeface="Book Antiqua"/>
                <a:ea typeface="Book Antiqua"/>
              </a:rPr>
              <a:t>Frequency Hopping Spread Spectrum subpart of the 802.11 Wireless LAN Standar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1371600" y="3886200"/>
            <a:ext cx="6400800" cy="193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CC - 802.11 meeting, Jan. 5, 199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ftali Chay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ief Scient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66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685800"/>
            <a:ext cx="8077320" cy="166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7c341"/>
                </a:solidFill>
                <a:latin typeface="Book Antiqua"/>
                <a:ea typeface="Book Antiqua"/>
              </a:rPr>
              <a:t>FHSS Modulation Specification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i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pper bounded by FCC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wer bounded to maintain sensi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ape accurac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ero crossing instants accura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vel accura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enter Frequency accuracy - 60 KH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66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85800" y="22860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7c341"/>
                </a:solidFill>
                <a:latin typeface="Book Antiqua"/>
                <a:ea typeface="Book Antiqua"/>
              </a:rPr>
              <a:t>Receiver Performanc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685800" y="1766880"/>
            <a:ext cx="7753320" cy="37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66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685800" y="685800"/>
            <a:ext cx="8077320" cy="166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7c341"/>
                </a:solidFill>
                <a:latin typeface="Book Antiqua"/>
                <a:ea typeface="Book Antiqua"/>
              </a:rPr>
              <a:t>CCA- Clear Channel Assessme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838080" y="1981080"/>
            <a:ext cx="777240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A is used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itiate frame rece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void transmitting when the channel is bus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A Sensitivit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80 dBm for P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20 dBm, reduced by 0.5 dB for each dB of power incre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tection during 0101 pattern within 20 usec with 95%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66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609480"/>
            <a:ext cx="8077320" cy="166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7c341"/>
                </a:solidFill>
                <a:latin typeface="Book Antiqua"/>
                <a:ea typeface="Book Antiqua"/>
              </a:rPr>
              <a:t>Frequency Hopping Sequenc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838080" y="1828800"/>
            <a:ext cx="777240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ign Criteri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sured minimum hop distance for multipath diversity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nimizing hits and adjacent channel hits between different hopping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nimizing consecutive hits between different hopping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CC 15.247 requirement: Pseudorandomly ordered frequency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66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228600"/>
            <a:ext cx="8077320" cy="166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7c341"/>
                </a:solidFill>
                <a:latin typeface="Book Antiqua"/>
                <a:ea typeface="Book Antiqua"/>
              </a:rPr>
              <a:t>Previous Hopping Sequenc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vious 802.11 hopping sequences were based on constant frequency increment (mod 79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d better worst case hit, adjacent hit and consecutive hit perform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re rejected by FCC as insufficiently pseudorandom (due to constant frequency incre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66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685800" y="533520"/>
            <a:ext cx="8077320" cy="166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7c341"/>
                </a:solidFill>
                <a:latin typeface="Book Antiqua"/>
                <a:ea typeface="Book Antiqua"/>
              </a:rPr>
              <a:t>New Frequency Hopping Sequenc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ssed FCC approval for Breeze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designed computer generated pseudorandom list of 79 frequ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nimum hop distance of 6 chann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ditional hopping sequences derived from the base predesigned sequ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8 hopping patterns organized in 3 sets of 26 patterns eac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66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533520"/>
            <a:ext cx="8077320" cy="166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7c341"/>
                </a:solidFill>
                <a:latin typeface="Book Antiqua"/>
                <a:ea typeface="Book Antiqua"/>
              </a:rPr>
              <a:t>New Frequency Hopping Sequences- cont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ote frequency as 2402+b[i], b[i] is the base sequence in range 0.. 78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-th sequence is formed from the base sequence as 2402+(b[i]+k) mod 7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se seq: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402, 2456, 2472, 2447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0-th seq: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432, 2407, 2423, 2477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66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85800" y="685800"/>
            <a:ext cx="8077320" cy="166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7c341"/>
                </a:solidFill>
                <a:latin typeface="Book Antiqua"/>
                <a:ea typeface="Book Antiqua"/>
              </a:rPr>
              <a:t>802.11-FCC Meeting Objectiv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inform FCC about the 802.11 WLAN Standard and its stat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avoid situation in which 802.11 standard is not acceptable by F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get better understanding of what FCC does permit, in order to produce a better stand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66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685800" y="22860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7c341"/>
                </a:solidFill>
                <a:latin typeface="Book Antiqua"/>
                <a:ea typeface="Book Antiqua"/>
              </a:rPr>
              <a:t>Collision Avoidanc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Physical layer (PHY) is able to provide Carrier Detect indication, when not transmitt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andomized Inter-Frame Space (IFS) for reducing collision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ponential Backoff is used to stabilize the network when collisions occ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66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685800" y="609480"/>
            <a:ext cx="8077320" cy="166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7c341"/>
                </a:solidFill>
                <a:latin typeface="Book Antiqua"/>
                <a:ea typeface="Book Antiqua"/>
              </a:rPr>
              <a:t>Virtual Carrier Sense mechanism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radio network, some stations may not hear a transmission from a certain station and therefore collide wit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RTS-CTS exchange contains timing information that signals other stations for how long the medium will be bus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rtual Carier Sense mechanism is implemented in the MAC lay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66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685800" y="22860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7c341"/>
                </a:solidFill>
                <a:latin typeface="Book Antiqua"/>
                <a:ea typeface="Book Antiqua"/>
              </a:rPr>
              <a:t>Frequency Hopping Sp.Sp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erates according to FCC 15.247 rul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x 1 MHz bandwidth at -20 dB P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opping over 79 frequencies in a pseudo-random man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x 1 Watt power and 36 dBm EIR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66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685800" y="609480"/>
            <a:ext cx="8077320" cy="166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7c341"/>
                </a:solidFill>
                <a:latin typeface="Book Antiqua"/>
                <a:ea typeface="Book Antiqua"/>
              </a:rPr>
              <a:t>802.11 FHSS Modulation Objectiv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hieving at least 1 Mbit/sec 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w cost/familiar technology - F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tant Envelope- Saturated Amplif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miter-Discriminator det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channel operation -shaping to reduce adjacent channel interfer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ple rates - taking advantage of short range scenarios to increase 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66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685800" y="22860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7c341"/>
                </a:solidFill>
                <a:latin typeface="Book Antiqua"/>
                <a:ea typeface="Book Antiqua"/>
              </a:rPr>
              <a:t>802.11 FHSS Modul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838080" y="1752480"/>
            <a:ext cx="78487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aussian shaped FSK (GFS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 Msymbol/se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RZ data is filtered with BT=0.5 Gaussian fil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 or 2 Mbit/sec with multilevel GF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 Mbit/sec: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 level GFSK      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=0.3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 Mbit/sec: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 level GFSK      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4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=0.45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=0.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amble and Header always at 1 Mbit/sec; Data at 1 or 2 Mbit/se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66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22860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7c341"/>
                </a:solidFill>
                <a:latin typeface="Book Antiqua"/>
                <a:ea typeface="Book Antiqua"/>
              </a:rPr>
              <a:t>GFSK vs GMSK comparis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838080" y="1981080"/>
            <a:ext cx="800100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MSK is popular with cellular telepho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MSK is a binary GFSK with 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=0.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802.11 GFSK is 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=0.34 due to bo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 Mb/s objec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 MHz 20 dB bandwidth 15.247 ru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sul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nsitivity reduced by 4-5 d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creased first adjacent channel inter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66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7c341"/>
                </a:solidFill>
                <a:latin typeface="Book Antiqua"/>
                <a:ea typeface="Book Antiqua"/>
              </a:rPr>
              <a:t>802.11 FHSS Frame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85800" y="373392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HY header indicates payload rate and length; CRC16 pro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a is formatted to limit DC offset variations, for PLL based implemen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809880" y="979560"/>
            <a:ext cx="45720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 bi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777960" y="1932120"/>
            <a:ext cx="8032680" cy="1149480"/>
            <a:chOff x="777960" y="1932120"/>
            <a:chExt cx="8032680" cy="1149480"/>
          </a:xfrm>
        </p:grpSpPr>
        <p:grpSp>
          <p:nvGrpSpPr>
            <p:cNvPr id="110" name=""/>
            <p:cNvGrpSpPr/>
            <p:nvPr/>
          </p:nvGrpSpPr>
          <p:grpSpPr>
            <a:xfrm>
              <a:off x="1628640" y="1943280"/>
              <a:ext cx="6372360" cy="295200"/>
              <a:chOff x="1628640" y="1943280"/>
              <a:chExt cx="6372360" cy="295200"/>
            </a:xfrm>
          </p:grpSpPr>
          <p:sp>
            <p:nvSpPr>
              <p:cNvPr id="111" name=""/>
              <p:cNvSpPr/>
              <p:nvPr/>
            </p:nvSpPr>
            <p:spPr>
              <a:xfrm>
                <a:off x="1628640" y="1943280"/>
                <a:ext cx="1612800" cy="2952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5543640" y="1943280"/>
                <a:ext cx="2457360" cy="2952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3241800" y="1943280"/>
                <a:ext cx="766800" cy="2952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4008600" y="1943280"/>
                <a:ext cx="768240" cy="2952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4776840" y="1943280"/>
                <a:ext cx="766800" cy="2952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6" name=""/>
            <p:cNvSpPr/>
            <p:nvPr/>
          </p:nvSpPr>
          <p:spPr>
            <a:xfrm>
              <a:off x="1363680" y="1932120"/>
              <a:ext cx="267120" cy="314640"/>
            </a:xfrm>
            <a:custGeom>
              <a:avLst/>
              <a:gdLst/>
              <a:ahLst/>
              <a:rect l="0" t="0" r="r" b="b"/>
              <a:pathLst>
                <a:path fill="none" w="742" h="874">
                  <a:moveTo>
                    <a:pt x="742" y="874"/>
                  </a:moveTo>
                  <a:lnTo>
                    <a:pt x="742" y="0"/>
                  </a:lnTo>
                  <a:lnTo>
                    <a:pt x="0" y="436"/>
                  </a:lnTo>
                  <a:lnTo>
                    <a:pt x="742" y="874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777960" y="2092320"/>
              <a:ext cx="5810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8229600" y="2098800"/>
              <a:ext cx="5810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 txBox="1"/>
            <p:nvPr/>
          </p:nvSpPr>
          <p:spPr>
            <a:xfrm>
              <a:off x="3390840" y="1971720"/>
              <a:ext cx="457200" cy="21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6 bit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 txBox="1"/>
            <p:nvPr/>
          </p:nvSpPr>
          <p:spPr>
            <a:xfrm>
              <a:off x="2162160" y="1971720"/>
              <a:ext cx="457200" cy="21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80 bit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 txBox="1"/>
            <p:nvPr/>
          </p:nvSpPr>
          <p:spPr>
            <a:xfrm>
              <a:off x="4127400" y="1971720"/>
              <a:ext cx="457200" cy="21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6 bit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 txBox="1"/>
            <p:nvPr/>
          </p:nvSpPr>
          <p:spPr>
            <a:xfrm>
              <a:off x="4863960" y="1971720"/>
              <a:ext cx="457200" cy="21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6 bit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 txBox="1"/>
            <p:nvPr/>
          </p:nvSpPr>
          <p:spPr>
            <a:xfrm>
              <a:off x="6057720" y="1971720"/>
              <a:ext cx="1306440" cy="21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riable lengyh 2 level dat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8005680" y="1957320"/>
              <a:ext cx="260640" cy="303480"/>
            </a:xfrm>
            <a:custGeom>
              <a:avLst/>
              <a:gdLst/>
              <a:ahLst/>
              <a:rect l="0" t="0" r="r" b="b"/>
              <a:pathLst>
                <a:path fill="none" w="724" h="843">
                  <a:moveTo>
                    <a:pt x="0" y="843"/>
                  </a:moveTo>
                  <a:lnTo>
                    <a:pt x="0" y="0"/>
                  </a:lnTo>
                  <a:lnTo>
                    <a:pt x="724" y="421"/>
                  </a:lnTo>
                  <a:lnTo>
                    <a:pt x="0" y="843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636560" y="2728800"/>
              <a:ext cx="1612800" cy="295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51560" y="2814480"/>
              <a:ext cx="2457360" cy="130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249720" y="2728800"/>
              <a:ext cx="766800" cy="295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016520" y="2728800"/>
              <a:ext cx="768240" cy="295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784760" y="2728800"/>
              <a:ext cx="766800" cy="295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flipH="1">
              <a:off x="785880" y="2878200"/>
              <a:ext cx="5810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 flipH="1">
              <a:off x="8278920" y="2868480"/>
              <a:ext cx="5252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 txBox="1"/>
            <p:nvPr/>
          </p:nvSpPr>
          <p:spPr>
            <a:xfrm>
              <a:off x="3398760" y="2757600"/>
              <a:ext cx="457200" cy="21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6 bit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 txBox="1"/>
            <p:nvPr/>
          </p:nvSpPr>
          <p:spPr>
            <a:xfrm>
              <a:off x="2170080" y="2757600"/>
              <a:ext cx="457200" cy="21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80 bit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 txBox="1"/>
            <p:nvPr/>
          </p:nvSpPr>
          <p:spPr>
            <a:xfrm>
              <a:off x="4135320" y="2757600"/>
              <a:ext cx="457200" cy="21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6 bit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 txBox="1"/>
            <p:nvPr/>
          </p:nvSpPr>
          <p:spPr>
            <a:xfrm>
              <a:off x="4871880" y="2757600"/>
              <a:ext cx="457200" cy="21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6 bit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 txBox="1"/>
            <p:nvPr/>
          </p:nvSpPr>
          <p:spPr>
            <a:xfrm>
              <a:off x="6066000" y="2782800"/>
              <a:ext cx="1306440" cy="21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riable lengyh 4 level dat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999560" y="2655720"/>
              <a:ext cx="294120" cy="425880"/>
            </a:xfrm>
            <a:custGeom>
              <a:avLst/>
              <a:gdLst/>
              <a:ahLst/>
              <a:rect l="0" t="0" r="r" b="b"/>
              <a:pathLst>
                <a:path fill="none" w="817" h="1183">
                  <a:moveTo>
                    <a:pt x="0" y="1183"/>
                  </a:moveTo>
                  <a:lnTo>
                    <a:pt x="0" y="0"/>
                  </a:lnTo>
                  <a:lnTo>
                    <a:pt x="817" y="591"/>
                  </a:lnTo>
                  <a:lnTo>
                    <a:pt x="0" y="1183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553000" y="2673360"/>
              <a:ext cx="2457360" cy="130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549760" y="2935440"/>
              <a:ext cx="2457360" cy="130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386000" y="2719440"/>
              <a:ext cx="267120" cy="314640"/>
            </a:xfrm>
            <a:custGeom>
              <a:avLst/>
              <a:gdLst/>
              <a:ahLst/>
              <a:rect l="0" t="0" r="r" b="b"/>
              <a:pathLst>
                <a:path fill="none" w="742" h="874">
                  <a:moveTo>
                    <a:pt x="742" y="874"/>
                  </a:moveTo>
                  <a:lnTo>
                    <a:pt x="742" y="0"/>
                  </a:lnTo>
                  <a:lnTo>
                    <a:pt x="0" y="436"/>
                  </a:lnTo>
                  <a:lnTo>
                    <a:pt x="742" y="874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" name=""/>
          <p:cNvSpPr txBox="1"/>
          <p:nvPr/>
        </p:nvSpPr>
        <p:spPr>
          <a:xfrm>
            <a:off x="843120" y="1627200"/>
            <a:ext cx="7897680" cy="2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l" pos="681120"/>
                <a:tab algn="l" pos="2109960"/>
                <a:tab algn="l" pos="2860560"/>
                <a:tab algn="l" pos="3654360"/>
                <a:tab algn="l" pos="5141880"/>
                <a:tab algn="l" pos="6743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mp up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0 timing sync pattern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me sync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Y header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ader CRC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yload Data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mp dow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aftali Chayat</dc:creator>
  <dc:description/>
  <dc:language>en-US</dc:language>
  <cp:lastModifiedBy>Vic Hayes</cp:lastModifiedBy>
  <cp:revision>0</cp:revision>
  <dc:subject/>
  <dc:title>Frequency Hopping Spread Spectrum section of the 802.11 Wireless LAN Standard</dc:title>
</cp:coreProperties>
</file>