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14A226B-6CD2-409D-B828-124ABFB0769D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4th Session of meetings of IEEE P802.11 Wireless Local Area Networks  Tentative Agenda</dc:title>
</cp:coreProperties>
</file>