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B19DEA7-46BA-4ED7-AEA7-3A28E36EFF96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9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-election of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onse to IS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6/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4th Session of meetings of IEEE P802.11 Wireless Local Area Networks  Tentative Agenda</dc:title>
</cp:coreProperties>
</file>