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203480" y="6545160"/>
            <a:ext cx="25272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ultiRate Study Group Report Revised</a:t>
            </a:r>
            <a:endParaRPr b="0" lang="en-US" sz="1000" spc="-1" strike="noStrike">
              <a:solidFill>
                <a:srgbClr val="000000"/>
              </a:solidFill>
              <a:latin typeface="Arial"/>
            </a:endParaRPr>
          </a:p>
        </p:txBody>
      </p:sp>
      <p:sp>
        <p:nvSpPr>
          <p:cNvPr id="1" name=""/>
          <p:cNvSpPr txBox="1"/>
          <p:nvPr/>
        </p:nvSpPr>
        <p:spPr>
          <a:xfrm>
            <a:off x="6765840" y="6545160"/>
            <a:ext cx="18288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P. Brenner, BreezeCom Ltd</a:t>
            </a:r>
            <a:endParaRPr b="0" lang="en-US" sz="1000" spc="-1" strike="noStrike">
              <a:solidFill>
                <a:srgbClr val="000000"/>
              </a:solidFill>
              <a:latin typeface="Arial"/>
            </a:endParaRPr>
          </a:p>
        </p:txBody>
      </p:sp>
      <p:sp>
        <p:nvSpPr>
          <p:cNvPr id="2" name=""/>
          <p:cNvSpPr txBox="1"/>
          <p:nvPr/>
        </p:nvSpPr>
        <p:spPr>
          <a:xfrm>
            <a:off x="6858000" y="144360"/>
            <a:ext cx="16002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P802.11-96/94</a:t>
            </a:r>
            <a:endParaRPr b="0" lang="en-US" sz="1000" spc="-1" strike="noStrike">
              <a:solidFill>
                <a:srgbClr val="000000"/>
              </a:solidFill>
              <a:latin typeface="Arial"/>
            </a:endParaRPr>
          </a:p>
        </p:txBody>
      </p:sp>
      <p:sp>
        <p:nvSpPr>
          <p:cNvPr id="3" name=""/>
          <p:cNvSpPr txBox="1"/>
          <p:nvPr/>
        </p:nvSpPr>
        <p:spPr>
          <a:xfrm>
            <a:off x="1050840" y="76320"/>
            <a:ext cx="954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ay, 1996</a:t>
            </a:r>
            <a:endParaRPr b="0" lang="en-US" sz="1000" spc="-1" strike="noStrike">
              <a:solidFill>
                <a:srgbClr val="000000"/>
              </a:solidFill>
              <a:latin typeface="Arial"/>
            </a:endParaRPr>
          </a:p>
        </p:txBody>
      </p:sp>
      <p:sp>
        <p:nvSpPr>
          <p:cNvPr id="4" name=""/>
          <p:cNvSpPr/>
          <p:nvPr/>
        </p:nvSpPr>
        <p:spPr>
          <a:xfrm>
            <a:off x="380880" y="6553080"/>
            <a:ext cx="822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ultiple rates Study Group</a:t>
            </a:r>
            <a:endParaRPr b="0" lang="en-US" sz="3600" spc="-1" strike="noStrike">
              <a:solidFill>
                <a:srgbClr val="000000"/>
              </a:solidFill>
              <a:latin typeface="Arial"/>
            </a:endParaRPr>
          </a:p>
        </p:txBody>
      </p:sp>
      <p:sp>
        <p:nvSpPr>
          <p:cNvPr id="4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Revised Document from May Meet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dded explanations to response for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4</a:t>
            </a:r>
            <a:endParaRPr b="0" lang="en-US" sz="3600" spc="-1" strike="noStrike">
              <a:solidFill>
                <a:srgbClr val="000000"/>
              </a:solidFill>
              <a:latin typeface="Arial"/>
            </a:endParaRPr>
          </a:p>
        </p:txBody>
      </p:sp>
      <p:sp>
        <p:nvSpPr>
          <p:cNvPr id="6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wihtin the MAC is described for selecting rate at which to transmit a frame - this creates interopera bility concer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is described to allow the selection of higher ra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is specified to allow fallback to lower rat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Unclear how it does effect interoperabilit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This is not considered part of the standar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This is a decision that has to be made by the Transmitter, and we have included the basic information needed for this decision in the standar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This is available as the “Supported Rate” 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4 (ctd...)</a:t>
            </a:r>
            <a:endParaRPr b="0" lang="en-US" sz="3600" spc="-1" strike="noStrike">
              <a:solidFill>
                <a:srgbClr val="000000"/>
              </a:solidFill>
              <a:latin typeface="Arial"/>
            </a:endParaRPr>
          </a:p>
        </p:txBody>
      </p:sp>
      <p:sp>
        <p:nvSpPr>
          <p:cNvPr id="6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an describe an example policy / algorithm in an informative annex.</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t would be good when we can specify a result criteri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o how should the mechanism behav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erformance should improve by switching the r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bjective of rate switching is to increase throughput. Need to state this as a requirement. Add to 9.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eed a statement in 9.6 that specifies that a station should only transmit at rates that the destination can operate at.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eed an interface statement (not a MIB entry) with a “Rate Switching Algorithm”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4 (ctd...)</a:t>
            </a:r>
            <a:endParaRPr b="0" lang="en-US" sz="3600" spc="-1" strike="noStrike">
              <a:solidFill>
                <a:srgbClr val="000000"/>
              </a:solidFill>
              <a:latin typeface="Arial"/>
            </a:endParaRPr>
          </a:p>
        </p:txBody>
      </p:sp>
      <p:sp>
        <p:nvSpPr>
          <p:cNvPr id="6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fc0128"/>
                </a:solidFill>
                <a:latin typeface="Arial"/>
                <a:ea typeface="Arial"/>
              </a:rPr>
              <a:t>This is similar to for instance the situation that we currently do not specify when a station is to start scanning for a new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5</a:t>
            </a:r>
            <a:endParaRPr b="0" lang="en-US" sz="3600" spc="-1" strike="noStrike">
              <a:solidFill>
                <a:srgbClr val="000000"/>
              </a:solidFill>
              <a:latin typeface="Arial"/>
            </a:endParaRPr>
          </a:p>
        </p:txBody>
      </p:sp>
      <p:sp>
        <p:nvSpPr>
          <p:cNvPr id="6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en frames are sent at a non-basic rate, duration information for fragment bursts is lost to basic-rate-only stations near the source that do not hear the destination’s ACKs - results in lower reliability of CSMA/C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A solution for this problem has already been suggested in the  “Smart DIFS” proposal made in the Nov 94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5 (ctd...)</a:t>
            </a:r>
            <a:endParaRPr b="0" lang="en-US" sz="3600" spc="-1" strike="noStrike">
              <a:solidFill>
                <a:srgbClr val="000000"/>
              </a:solidFill>
              <a:latin typeface="Arial"/>
            </a:endParaRPr>
          </a:p>
        </p:txBody>
      </p:sp>
      <p:sp>
        <p:nvSpPr>
          <p:cNvPr id="70" name=""/>
          <p:cNvSpPr txBox="1"/>
          <p:nvPr/>
        </p:nvSpPr>
        <p:spPr>
          <a:xfrm>
            <a:off x="990720" y="1371600"/>
            <a:ext cx="7162920" cy="495288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This discussed that the MAC would consider all invalid receptions where the CRC was not correct (CCA stil indicating “Medium Busy”), and assume a conservative DIFS, that is SIFS+ACK+DIFS long.</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need to be able to distinct such a situ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HY does need to provide RxVect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Another mechanism that we need to settle among all the PHY’s is to specify the coexistance between the PHY’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is can be done by adopting the comments at this meeting, to specify the Length field in the PLCP Header in usec, and assure that this is translated into a “Medium Busy” indication as long as PLCP crc is corr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6</a:t>
            </a:r>
            <a:endParaRPr b="0" lang="en-US" sz="3600" spc="-1" strike="noStrike">
              <a:solidFill>
                <a:srgbClr val="000000"/>
              </a:solidFill>
              <a:latin typeface="Arial"/>
            </a:endParaRPr>
          </a:p>
        </p:txBody>
      </p:sp>
      <p:sp>
        <p:nvSpPr>
          <p:cNvPr id="7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se of multiple rates without explicitly required mechanisms for rate determination virtually guarantees that a multi-rate BSS has a lower throughput than a single, low-rate BS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This is the same subject as addressed above (Slide 4).</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Criteria suggested resolves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7</a:t>
            </a:r>
            <a:endParaRPr b="0" lang="en-US" sz="3600" spc="-1" strike="noStrike">
              <a:solidFill>
                <a:srgbClr val="000000"/>
              </a:solidFill>
              <a:latin typeface="Arial"/>
            </a:endParaRPr>
          </a:p>
        </p:txBody>
      </p:sp>
      <p:sp>
        <p:nvSpPr>
          <p:cNvPr id="7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ny areas of the draft do not support multi-rat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ny MIB attributes and almost all MAC timing is dependent upon there being only a single r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Need to be more specific</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sic Rate Set not defined in MIB.</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imeouts:   How accurate do they need to b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 Hoc group needs to identify these 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8</a:t>
            </a:r>
            <a:endParaRPr b="0" lang="en-US" sz="3600" spc="-1" strike="noStrike">
              <a:solidFill>
                <a:srgbClr val="000000"/>
              </a:solidFill>
              <a:latin typeface="Arial"/>
            </a:endParaRPr>
          </a:p>
        </p:txBody>
      </p:sp>
      <p:sp>
        <p:nvSpPr>
          <p:cNvPr id="7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Because duration info is sent at rate used for frame, basic rate stas do not always get duration info.</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rrect, but where does this matt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ly applicable to fragmented fram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9</a:t>
            </a:r>
            <a:endParaRPr b="0" lang="en-US" sz="3600" spc="-1" strike="noStrike">
              <a:solidFill>
                <a:srgbClr val="000000"/>
              </a:solidFill>
              <a:latin typeface="Arial"/>
            </a:endParaRPr>
          </a:p>
        </p:txBody>
      </p:sp>
      <p:sp>
        <p:nvSpPr>
          <p:cNvPr id="7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erious limits to to thruput increases claimed make value of mechanism questionable - due to gaps , frames, plcp Headers not scaling with rate, and only 2:1 ratio of ra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re are no claims being mad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erformance increase criteria have been 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10</a:t>
            </a:r>
            <a:endParaRPr b="0" lang="en-US" sz="3600" spc="-1" strike="noStrike">
              <a:solidFill>
                <a:srgbClr val="000000"/>
              </a:solidFill>
              <a:latin typeface="Arial"/>
            </a:endParaRPr>
          </a:p>
        </p:txBody>
      </p:sp>
      <p:sp>
        <p:nvSpPr>
          <p:cNvPr id="8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re have been other system solutions proposed (co-located single rate BSS) to accomplish multi-rates in a LAN that do not exhibit these technical issu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olutions suggested do all support Concurrent Multirate support within a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o there is no reason for another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OC from D. Bagby</a:t>
            </a:r>
            <a:endParaRPr b="0" lang="en-US" sz="3600" spc="-1" strike="noStrike">
              <a:solidFill>
                <a:srgbClr val="000000"/>
              </a:solidFill>
              <a:latin typeface="Arial"/>
            </a:endParaRPr>
          </a:p>
        </p:txBody>
      </p:sp>
      <p:sp>
        <p:nvSpPr>
          <p:cNvPr id="4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ositions on the issue within 802.11: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ositon 1: There are no problems (2 people, Jan ‘96 minu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osition 2: That there are probelms, but that they can accept the D3 mechanism.</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osition 3: There are problems that are unacceptable.</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problems asserted are:</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requirement that entire frame exchange is sent at a common rate, when there is more than one basic rate (DS case) - Duration field impossible to determine in ad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11</a:t>
            </a:r>
            <a:endParaRPr b="0" lang="en-US" sz="3600" spc="-1" strike="noStrike">
              <a:solidFill>
                <a:srgbClr val="000000"/>
              </a:solidFill>
              <a:latin typeface="Arial"/>
            </a:endParaRPr>
          </a:p>
        </p:txBody>
      </p:sp>
      <p:sp>
        <p:nvSpPr>
          <p:cNvPr id="8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IR Phy uses two diff PLCP headers for diff rates that won’t work with MAC.</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eing addressed in the IR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inner (Dave visits, lights on, but dim)</a:t>
            </a:r>
            <a:endParaRPr b="0" lang="en-US" sz="3600" spc="-1" strike="noStrike">
              <a:solidFill>
                <a:srgbClr val="000000"/>
              </a:solidFill>
              <a:latin typeface="Arial"/>
            </a:endParaRPr>
          </a:p>
        </p:txBody>
      </p:sp>
      <p:sp>
        <p:nvSpPr>
          <p:cNvPr id="84" name=""/>
          <p:cNvSpPr txBox="1"/>
          <p:nvPr/>
        </p:nvSpPr>
        <p:spPr>
          <a:xfrm>
            <a:off x="990720" y="1371600"/>
            <a:ext cx="7162920" cy="49528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asks for Wed late-night session:</a:t>
            </a:r>
            <a:endParaRPr b="0" lang="en-US" sz="3600" spc="-1" strike="noStrike">
              <a:solidFill>
                <a:srgbClr val="000000"/>
              </a:solidFill>
              <a:latin typeface="Arial"/>
            </a:endParaRPr>
          </a:p>
        </p:txBody>
      </p:sp>
      <p:sp>
        <p:nvSpPr>
          <p:cNvPr id="8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Go through real LB comments, and identify how we addressed them, with reference to the resolutions we devised in the above section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CP discussion not yet complet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ee results bel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view of the original LB comments</a:t>
            </a:r>
            <a:endParaRPr b="0" lang="en-US" sz="3600" spc="-1" strike="noStrike">
              <a:solidFill>
                <a:srgbClr val="000000"/>
              </a:solidFill>
              <a:latin typeface="Arial"/>
            </a:endParaRPr>
          </a:p>
        </p:txBody>
      </p:sp>
      <p:sp>
        <p:nvSpPr>
          <p:cNvPr id="8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72 c7 BO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ants rate-switching mechanism defined (See 6.2.1.1. and 9.6)</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74 c7 JZ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e came with a better mechanism to accept thatm accepted by John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2 c9 MSU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eclined, accepted by Mack.</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9 c9 BO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eclined, there is a mechanism defined now.</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84 c9 BO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 Specifies that the objective is to improve performance, and that a station shall not transmit at a rate that it knows the destination does not suppor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85 c9 JZ - withdra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view of comments (ctd...)</a:t>
            </a:r>
            <a:endParaRPr b="0" lang="en-US" sz="3600" spc="-1" strike="noStrike">
              <a:solidFill>
                <a:srgbClr val="000000"/>
              </a:solidFill>
              <a:latin typeface="Arial"/>
            </a:endParaRPr>
          </a:p>
        </p:txBody>
      </p:sp>
      <p:sp>
        <p:nvSpPr>
          <p:cNvPr id="9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141 c9 SB - addressed by “EIF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IFS documen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7 c11 ES - addressed by “Smart DIF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IFS documen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8 c11 ES - addressed  ????? (needs confirm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He wants MultiRate....So this seems to hel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9 c11 ES - addressed (yes, we considered i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67 c11 TT - accep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new rules of 9.6 take care of the ambiguit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91 c11 SB - accepte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elete Rate_FActor MIB var and add a variable for calc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view of comments (ctd...)</a:t>
            </a:r>
            <a:endParaRPr b="0" lang="en-US" sz="3600" spc="-1" strike="noStrike">
              <a:solidFill>
                <a:srgbClr val="000000"/>
              </a:solidFill>
              <a:latin typeface="Arial"/>
            </a:endParaRPr>
          </a:p>
        </p:txBody>
      </p:sp>
      <p:sp>
        <p:nvSpPr>
          <p:cNvPr id="9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92 c11 TT - addressed by deleting the text in ques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ccepted, deleted the attribute</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100 c11 TT - addre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defined CTSTime, as CTSSize, and we defined the rules to calculate the time.</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2 c12 JZ - withdraw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76 c16 MIF - addressed by IR PHY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124 general DB - address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view of PLCP duration field change to usecs</a:t>
            </a:r>
            <a:endParaRPr b="0" lang="en-US" sz="3600" spc="-1" strike="noStrike">
              <a:solidFill>
                <a:srgbClr val="000000"/>
              </a:solidFill>
              <a:latin typeface="Arial"/>
            </a:endParaRPr>
          </a:p>
        </p:txBody>
      </p:sp>
      <p:sp>
        <p:nvSpPr>
          <p:cNvPr id="9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lack of bits for encoding would prevent Tx of max sized (4096?) MPDU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CA provides </a:t>
            </a:r>
            <a:r>
              <a:rPr b="1" i="1" lang="en-US" sz="2400" spc="-1" strike="noStrike">
                <a:solidFill>
                  <a:srgbClr val="00279f"/>
                </a:solidFill>
                <a:latin typeface="Arial"/>
                <a:ea typeface="Arial"/>
              </a:rPr>
              <a:t>most</a:t>
            </a:r>
            <a:r>
              <a:rPr b="1" lang="en-US" sz="2400" spc="-1" strike="noStrike">
                <a:solidFill>
                  <a:srgbClr val="00279f"/>
                </a:solidFill>
                <a:latin typeface="Arial"/>
                <a:ea typeface="Arial"/>
              </a:rPr>
              <a:t> of the remedy for lack of directly conveyed duration information (no need to adopt a marginal improvemen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s a result of this info and Wed night’s effort, Johnny withdraws his LB commen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nfortunately, adopting this would create new NO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ummary of required text changes</a:t>
            </a:r>
            <a:endParaRPr b="0" lang="en-US" sz="3600" spc="-1" strike="noStrike">
              <a:solidFill>
                <a:srgbClr val="000000"/>
              </a:solidFill>
              <a:latin typeface="Arial"/>
            </a:endParaRPr>
          </a:p>
        </p:txBody>
      </p:sp>
      <p:sp>
        <p:nvSpPr>
          <p:cNvPr id="9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t>
            </a:r>
            <a:r>
              <a:rPr b="1" lang="en-US" sz="2400" spc="-1" strike="noStrike">
                <a:solidFill>
                  <a:srgbClr val="00279f"/>
                </a:solidFill>
                <a:latin typeface="Arial"/>
                <a:ea typeface="Arial"/>
              </a:rPr>
              <a:t>Smart DIF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difies basic access rules to defer SIFS + ACK_time.1M + DIFS after:</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XEND with an error condition (e.g. carrier los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PDU CRC err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tain the normal mechanism of deferring DIFS after a correctly received fra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3.: See 96/7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3.3: See 96/7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4: 96/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nges Required (ctd...)</a:t>
            </a:r>
            <a:endParaRPr b="0" lang="en-US" sz="3600" spc="-1" strike="noStrike">
              <a:solidFill>
                <a:srgbClr val="000000"/>
              </a:solidFill>
              <a:latin typeface="Arial"/>
            </a:endParaRPr>
          </a:p>
        </p:txBody>
      </p:sp>
      <p:sp>
        <p:nvSpPr>
          <p:cNvPr id="98" name=""/>
          <p:cNvSpPr txBox="1"/>
          <p:nvPr/>
        </p:nvSpPr>
        <p:spPr>
          <a:xfrm>
            <a:off x="990720" y="1371600"/>
            <a:ext cx="7162920" cy="495288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5.1: 96/7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5.2: 96/7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10: 96/7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2.3.5.11.3: 96/7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CP PHY_RXSTART.indic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generate an indication even if the PLCP header indicates an unsupported r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2.3.5.12.x: 96/7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CP PHY_RXEND.indic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d an error code for “unsupported PLCP data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nges Required (ctd...)</a:t>
            </a:r>
            <a:endParaRPr b="0" lang="en-US" sz="3600" spc="-1" strike="noStrike">
              <a:solidFill>
                <a:srgbClr val="000000"/>
              </a:solidFill>
              <a:latin typeface="Arial"/>
            </a:endParaRPr>
          </a:p>
        </p:txBody>
      </p:sp>
      <p:sp>
        <p:nvSpPr>
          <p:cNvPr id="10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rol-frame rate rul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 </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TS/ACK same (if basic) or max basic r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S Poll, and so on ...</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uration calculation parameter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7.2.x</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uration calculation based on ACK/CTS times dictated in 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OC (ctd..)</a:t>
            </a:r>
            <a:endParaRPr b="0" lang="en-US" sz="3600" spc="-1" strike="noStrike">
              <a:solidFill>
                <a:srgbClr val="000000"/>
              </a:solidFill>
              <a:latin typeface="Arial"/>
            </a:endParaRPr>
          </a:p>
        </p:txBody>
      </p:sp>
      <p:sp>
        <p:nvSpPr>
          <p:cNvPr id="4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re is no management service interface to control rate selection on a per frame basis - MIB attributes may not be used for thi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re is no data service interface to control rate selection on a per frame basis - MIB attributes may not to be used for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nges required (ctd...)</a:t>
            </a:r>
            <a:endParaRPr b="0" lang="en-US" sz="3600" spc="-1" strike="noStrike">
              <a:solidFill>
                <a:srgbClr val="000000"/>
              </a:solidFill>
              <a:latin typeface="Arial"/>
            </a:endParaRPr>
          </a:p>
        </p:txBody>
      </p:sp>
      <p:sp>
        <p:nvSpPr>
          <p:cNvPr id="10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B variables defini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BSS_BASIC_RATE_SE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PREFERRED_R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one pb, called maxR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2.5.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CK_TIMEOU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1.4.4.2.30</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CK_TIMEOU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pported rates/ associ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7.3.1.9</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d a new status code for “association denied due to lack of support for the basic rate se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b 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nges required (ctd...)</a:t>
            </a:r>
            <a:endParaRPr b="0" lang="en-US" sz="3600" spc="-1" strike="noStrike">
              <a:solidFill>
                <a:srgbClr val="000000"/>
              </a:solidFill>
              <a:latin typeface="Arial"/>
            </a:endParaRPr>
          </a:p>
        </p:txBody>
      </p:sp>
      <p:sp>
        <p:nvSpPr>
          <p:cNvPr id="10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ultirate require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objective of multirate is to improve performanc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ever send at a rate that is </a:t>
            </a:r>
            <a:r>
              <a:rPr b="1" i="1" lang="en-US" sz="1800" spc="-1" strike="noStrike">
                <a:solidFill>
                  <a:srgbClr val="00279f"/>
                </a:solidFill>
                <a:latin typeface="Arial"/>
                <a:ea typeface="Arial"/>
              </a:rPr>
              <a:t>known</a:t>
            </a:r>
            <a:r>
              <a:rPr b="1" lang="en-US" sz="1800" spc="-1" strike="noStrike">
                <a:solidFill>
                  <a:srgbClr val="00279f"/>
                </a:solidFill>
                <a:latin typeface="Arial"/>
                <a:ea typeface="Arial"/>
              </a:rPr>
              <a:t> not to be supported by the destination ST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ate switching mechanism interface statem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 </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b 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nges Required (ctd...)</a:t>
            </a:r>
            <a:endParaRPr b="0" lang="en-US" sz="3600" spc="-1" strike="noStrike">
              <a:solidFill>
                <a:srgbClr val="000000"/>
              </a:solidFill>
              <a:latin typeface="Arial"/>
            </a:endParaRPr>
          </a:p>
        </p:txBody>
      </p:sp>
      <p:sp>
        <p:nvSpPr>
          <p:cNvPr id="106" name=""/>
          <p:cNvSpPr txBox="1"/>
          <p:nvPr/>
        </p:nvSpPr>
        <p:spPr>
          <a:xfrm>
            <a:off x="990720" y="1371600"/>
            <a:ext cx="7162920" cy="598860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6.2.1.1 (add to Effect of Receipt paragraph)</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transmission rate of each transmitted frame is controlled by the rate switching mechanism (i.e. the unspecified rate switching algorithm).</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one pb)</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 MIB variable (input to the rate switching mechanism) defines the preferred data r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aragraph 11? pb)</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HY no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2.x.x.x.x</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xxxx</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lk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o empower the multirate subsubgroup to make the text changes as identified and present at or before the next meeting.</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JZ, Wayne: 30,0,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OC (ctd...)</a:t>
            </a:r>
            <a:endParaRPr b="0" lang="en-US" sz="3600" spc="-1" strike="noStrike">
              <a:solidFill>
                <a:srgbClr val="000000"/>
              </a:solidFill>
              <a:latin typeface="Arial"/>
            </a:endParaRPr>
          </a:p>
        </p:txBody>
      </p:sp>
      <p:sp>
        <p:nvSpPr>
          <p:cNvPr id="5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wihtin the MAC is described for selecting rate at which to transmit a frame - this creates interopera bility concer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is described to allow the selection of higher ra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echanism is specified to allow fallback to lower rat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en frames are sent at a non-basic rate, duration information for fragment bursts is lost to basic-rate-only stations near the source that do not hear the destination’s ACKs - results in lower reliability of CSMA/CA</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Use of multiple rates without explicitly required mechanisms for rate determination virtually guarantees that a multi-rate BSS has a lower throughput than a single, low-rate BS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ny areas of the draft do not support multi-r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ny MIB attributes and almost all MAC timing is dependent upon there being only a single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OC (ctd...)</a:t>
            </a:r>
            <a:endParaRPr b="0" lang="en-US" sz="3600" spc="-1" strike="noStrike">
              <a:solidFill>
                <a:srgbClr val="000000"/>
              </a:solidFill>
              <a:latin typeface="Arial"/>
            </a:endParaRPr>
          </a:p>
        </p:txBody>
      </p:sp>
      <p:sp>
        <p:nvSpPr>
          <p:cNvPr id="5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ecause duration info is sent at rate used for frame, basic rate stas do not always get duration info.</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rious limits to to thruput increases claimed make value of mechanism questionable - due to gaps , frames, plcp Headers not scaling with rate, and only 2:1 ratio of rat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re have been other system solutions proposed (co-located single rate BSS) to accomplish multi-rates in a LAN that do not exhibit these technical issu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R Phy uses two diff PLCP headers for diff rates that won’t work with M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harter for Wed evening</a:t>
            </a:r>
            <a:endParaRPr b="0" lang="en-US" sz="3600" spc="-1" strike="noStrike">
              <a:solidFill>
                <a:srgbClr val="000000"/>
              </a:solidFill>
              <a:latin typeface="Arial"/>
            </a:endParaRPr>
          </a:p>
        </p:txBody>
      </p:sp>
      <p:sp>
        <p:nvSpPr>
          <p:cNvPr id="5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pecial subcmtee chaired by Pablo Brenner will resolve the multirate issues listed above in the TOC and the PLCP header “duration in usec” issu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 issues are individually addressed in the following s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1</a:t>
            </a:r>
            <a:endParaRPr b="0" lang="en-US" sz="3600" spc="-1" strike="noStrike">
              <a:solidFill>
                <a:srgbClr val="000000"/>
              </a:solidFill>
              <a:latin typeface="Arial"/>
            </a:endParaRPr>
          </a:p>
        </p:txBody>
      </p:sp>
      <p:sp>
        <p:nvSpPr>
          <p:cNvPr id="5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requirement that entire frame exchange is sent at a common rate, when there is more than one basic rate (DS case) - Duration field impossible to determine in advanc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Resolved, when we can specify that the CTS and Ack are returned at the same rate if that rate is part of the Basic Rate set, or else, the maximum rate as specified in the Basic Rate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2</a:t>
            </a:r>
            <a:endParaRPr b="0" lang="en-US" sz="3600" spc="-1" strike="noStrike">
              <a:solidFill>
                <a:srgbClr val="000000"/>
              </a:solidFill>
              <a:latin typeface="Arial"/>
            </a:endParaRPr>
          </a:p>
        </p:txBody>
      </p:sp>
      <p:sp>
        <p:nvSpPr>
          <p:cNvPr id="5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re is no management service interface to control rate selection on a per frame basis - MIB attributes may not be used for thi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fc0128"/>
                </a:solidFill>
                <a:latin typeface="Arial"/>
                <a:ea typeface="Arial"/>
              </a:rPr>
              <a:t>Resolu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Isn’t this covered by the use of the Tx-Vector, as specified in the PH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c0128"/>
                </a:solidFill>
                <a:latin typeface="Arial"/>
                <a:ea typeface="Arial"/>
              </a:rPr>
              <a:t>Isn’t this part of the PHY service interface defin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Issue #3</a:t>
            </a:r>
            <a:endParaRPr b="0" lang="en-US" sz="3600" spc="-1" strike="noStrike">
              <a:solidFill>
                <a:srgbClr val="000000"/>
              </a:solidFill>
              <a:latin typeface="Arial"/>
            </a:endParaRPr>
          </a:p>
        </p:txBody>
      </p:sp>
      <p:sp>
        <p:nvSpPr>
          <p:cNvPr id="6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re is no data service interface to control rate selection on a per frame basis - MIB attributes may not to be used for thi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t considered needed when the Rate Selection Algorithm is in the MAC Mngt or Station Mn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ltirate working group</dc:creator>
  <dc:description/>
  <dc:language>en-US</dc:language>
  <cp:lastModifiedBy>Vic Hayes</cp:lastModifiedBy>
  <cp:revision>0</cp:revision>
  <dc:subject/>
  <dc:title>Multiple rates</dc:title>
</cp:coreProperties>
</file>