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151DD8-C2D0-4611-8F49-F3A501520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4920" y="6545160"/>
            <a:ext cx="3591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report  July 1996</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Doc 96/110</a:t>
            </a:r>
            <a:endParaRPr b="0" lang="en-US" sz="1000" spc="-1" strike="noStrike">
              <a:solidFill>
                <a:srgbClr val="000000"/>
              </a:solidFill>
              <a:latin typeface="Arial"/>
            </a:endParaRPr>
          </a:p>
        </p:txBody>
      </p:sp>
      <p:sp>
        <p:nvSpPr>
          <p:cNvPr id="2" name=""/>
          <p:cNvSpPr txBox="1"/>
          <p:nvPr/>
        </p:nvSpPr>
        <p:spPr>
          <a:xfrm>
            <a:off x="6248520" y="6545160"/>
            <a:ext cx="20574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ichael {virtual Dave} Fischer</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990720" y="30492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6 MAC group Report</a:t>
            </a:r>
            <a:endParaRPr b="0" lang="en-US" sz="3600" spc="-1" strike="noStrike">
              <a:solidFill>
                <a:srgbClr val="000000"/>
              </a:solidFill>
              <a:latin typeface="Arial"/>
            </a:endParaRPr>
          </a:p>
        </p:txBody>
      </p:sp>
      <p:sp>
        <p:nvSpPr>
          <p:cNvPr id="50"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52"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4"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5" name=""/>
          <p:cNvSpPr txBox="1"/>
          <p:nvPr/>
        </p:nvSpPr>
        <p:spPr>
          <a:xfrm>
            <a:off x="4100400" y="211140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7</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5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3 from 96/106–3,  7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as part of technical NO vot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7 resolved that are not part of technical NO votes</a:t>
            </a:r>
            <a:endParaRPr b="0" lang="en-US" sz="1800" spc="-1" strike="noStrike">
              <a:solidFill>
                <a:srgbClr val="000000"/>
              </a:solidFill>
              <a:latin typeface="Arial"/>
            </a:endParaRPr>
          </a:p>
          <a:p>
            <a:pPr lvl="3" marL="1542960" indent="-17136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3-6, #87) needs coordination w/ clause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96/106-3, comments #57, #69) require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47 comments from from clause 7 that are not part of technical NO votes (see 96/106-3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1: moved MAC Group, seconded Wim Diepstrate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0</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2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all comments from from clause 10 (see 96/106-4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2: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1</a:t>
            </a:r>
            <a:endParaRPr b="0" lang="en-US" sz="3600" spc="-1" strike="noStrike">
              <a:solidFill>
                <a:srgbClr val="000000"/>
              </a:solidFill>
              <a:latin typeface="Arial"/>
            </a:endParaRPr>
          </a:p>
        </p:txBody>
      </p:sp>
      <p:sp>
        <p:nvSpPr>
          <p:cNvPr id="83"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9 from 96/106–4,  1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mment #1 in 96/106-3 is duplicated as comment #22 in 96/106-4, and is being considered under the later of these two numb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6 resolved Tuesday (24 from 106–4,  1 from 106–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Wednesday as part of technical No vo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4, comments #17, #22, and #30) need additional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6 comments from from clause 11 that are not part of technical NO votes (see 96/106-4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3: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8</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lause 8 Summary:  1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require consistency changes Clauses 10 &amp;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were already needed due to inconsistencies between these clauses and the (correct) values in Annex D (!)</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11 comments from from clause 8 (see 96/106-3r1) and corresponding consistency changes to clauses 10 &amp; 1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4:  moved MAC Group, seconded Ravi Nalamati, passed by plenary vote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tatus Thursday PM</a:t>
            </a:r>
            <a:endParaRPr b="0" lang="en-US" sz="3600" spc="-1" strike="noStrike">
              <a:solidFill>
                <a:srgbClr val="000000"/>
              </a:solidFill>
              <a:latin typeface="Arial"/>
            </a:endParaRPr>
          </a:p>
        </p:txBody>
      </p:sp>
      <p:sp>
        <p:nvSpPr>
          <p:cNvPr id="87" name=""/>
          <p:cNvSpPr txBox="1"/>
          <p:nvPr/>
        </p:nvSpPr>
        <p:spPr>
          <a:xfrm>
            <a:off x="990720" y="106668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rocessing MAC comments nearly complet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ll but 2 (on one topic) MAC comments resolved</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a:t>
            </a:r>
            <a:r>
              <a:rPr b="1" lang="en-US" sz="1800" spc="-1" strike="noStrike" u="sng">
                <a:solidFill>
                  <a:srgbClr val="00279f"/>
                </a:solidFill>
                <a:uFillTx/>
                <a:latin typeface="Arial"/>
                <a:ea typeface="Arial"/>
              </a:rPr>
              <a:t>changes</a:t>
            </a:r>
            <a:r>
              <a:rPr b="1" lang="en-US" sz="1800" spc="-1" strike="noStrike">
                <a:solidFill>
                  <a:srgbClr val="00279f"/>
                </a:solidFill>
                <a:latin typeface="Arial"/>
                <a:ea typeface="Arial"/>
              </a:rPr>
              <a:t> due to accepted comments are all </a:t>
            </a:r>
            <a:r>
              <a:rPr b="1" lang="en-US" sz="1800" spc="-1" strike="noStrike" u="sng">
                <a:solidFill>
                  <a:srgbClr val="00279f"/>
                </a:solidFill>
                <a:uFillTx/>
                <a:latin typeface="Arial"/>
                <a:ea typeface="Arial"/>
              </a:rPr>
              <a:t>editorial</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changes are for consistency, clarity, and to correct editing artifacts and bring informative text up to date.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editorial vs. technical discirminator for changes to the draft is </a:t>
            </a:r>
            <a:r>
              <a:rPr b="1" lang="en-US" sz="1600" spc="-1" strike="noStrike" u="sng">
                <a:solidFill>
                  <a:srgbClr val="00279f"/>
                </a:solidFill>
                <a:uFillTx/>
                <a:latin typeface="Arial"/>
                <a:ea typeface="Arial"/>
              </a:rPr>
              <a:t>not</a:t>
            </a:r>
            <a:r>
              <a:rPr b="1" lang="en-US" sz="1600" spc="-1" strike="noStrike">
                <a:solidFill>
                  <a:srgbClr val="00279f"/>
                </a:solidFill>
                <a:latin typeface="Arial"/>
                <a:ea typeface="Arial"/>
              </a:rPr>
              <a:t> how the commenter classified the comment.  The criterion is whether the change alters the behavior of the protocol, as observed at one of the exposed interface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nother way to consider this is by asking whether an implementation based on {the proper selection among inconsistencies in} D4.0 will interoperate with an implementation based on D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Because work was done by a plurality of small groups, and finished shortly before start of closing plenary, these are not organized into large, sequential block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6/106-3, comments #11 &amp; #39 on the lack of MSDU delivery service &amp; power management service definitions in clauses 5 &amp; 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2:  That we decline comments #11 &amp; #39 from 96/106-3 (on MSDU delivery service &amp; power management service) due to lack of available text in the comment and insufficient time to create such text without the risk of introducting unintended side effec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  Howard Ha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9:  moved MAC group, second Simon Black, passed by plenary vote 19-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pdated resolution of Anil's no vote — he requested that we incorporate material into 9.2.8 from comment 19 in 96/106-6 (which we would probably have done anywa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3:  That clause 9.2.8 be amended to read:</a:t>
            </a:r>
            <a:br>
              <a:rPr sz="1800"/>
            </a:br>
            <a:r>
              <a:rPr b="1" lang="en-US" sz="1800" spc="-1" strike="noStrike">
                <a:solidFill>
                  <a:srgbClr val="00279f"/>
                </a:solidFill>
                <a:latin typeface="Arial"/>
                <a:ea typeface="Arial"/>
              </a:rPr>
              <a:t>"The receiving station shall keep a cache of recently received &lt;source-address, sequence-number, fragment-number&gt; tuples.  A receiving STA may omit tuples obtained from broadcast/multicast or ATIM frames from th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S:  This is an editorial change to 9.2.8</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 "source-address" is corrected to "contents of the</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address2 field" in a subsequent mo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0: moved: MAC group, second: Ravi Nalamati, passed by plenary vot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30, resolving the question about whether an AP is implicitly in State 3 with regards to the 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4:  To add statement to clause 5.5 to indicate that AP is always in state 3 because it is inherently able to communicate with the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is a clarifiction of existing functionality regarding access to and communication with/over the DS.  This does not change the requirement that stations authenticate with an AP before communicating via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1: moved: MAC group,  second: Ravi Nalamati, passed by plenary vot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5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5:  To decline comment #57 from 96/106-3 becaus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Service class is per–MSDU, not per–STA, so the requested behavior (sending strictly ordered broadcasts/multicasts twice) is inappropri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The broadcast address is defined in IEEE 802-1990 so we should leave this alon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2: moved: MAC group, second: Simon Black, passed by plenary vote: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69</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6:  To decline comment #69 from 96/106-3 because this is a request for new functionality &amp; similar proposals have been voted down on at least 2 previous occas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3: moved: MAC group; secon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July ‘96</a:t>
            </a:r>
            <a:endParaRPr b="0" lang="en-US" sz="3600" spc="-1" strike="noStrike">
              <a:solidFill>
                <a:srgbClr val="000000"/>
              </a:solidFill>
              <a:latin typeface="Arial"/>
            </a:endParaRPr>
          </a:p>
        </p:txBody>
      </p:sp>
      <p:sp>
        <p:nvSpPr>
          <p:cNvPr id="59"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ne goal - Forward Draft to Executive Committee for sponsor ballo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sed on decision at opening plenary, this is to be done by addressing as many comments as we have time for, identifying the technical vs. editorial chang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result will be draft D4.1 </a:t>
            </a:r>
            <a:r>
              <a:rPr b="1" lang="en-US" sz="1800" spc="-1" strike="noStrike">
                <a:solidFill>
                  <a:srgbClr val="ff6633"/>
                </a:solidFill>
                <a:latin typeface="Arial"/>
                <a:ea typeface="Arial"/>
              </a:rPr>
              <a:t>(with changes),</a:t>
            </a:r>
            <a:br>
              <a:rPr sz="1800"/>
            </a:br>
            <a:r>
              <a:rPr b="1" lang="en-US" sz="1800" spc="-1" strike="noStrike">
                <a:solidFill>
                  <a:srgbClr val="00279f"/>
                </a:solidFill>
                <a:latin typeface="Arial"/>
                <a:ea typeface="Arial"/>
              </a:rPr>
              <a:t>and D5.0 </a:t>
            </a:r>
            <a:r>
              <a:rPr b="1" lang="en-US" sz="1800" spc="-1" strike="noStrike">
                <a:solidFill>
                  <a:srgbClr val="ff6633"/>
                </a:solidFill>
                <a:latin typeface="Arial"/>
                <a:ea typeface="Arial"/>
              </a:rPr>
              <a:t>(the clean version to ballo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a:t>
            </a:r>
            <a:r>
              <a:rPr b="1" lang="en-US" sz="1800" spc="-1" strike="noStrike" u="sng">
                <a:solidFill>
                  <a:srgbClr val="fc0128"/>
                </a:solidFill>
                <a:uFillTx/>
                <a:latin typeface="Arial"/>
                <a:ea typeface="Arial"/>
              </a:rPr>
              <a:t>possibly</a:t>
            </a:r>
            <a:r>
              <a:rPr b="1" lang="en-US" sz="1800" spc="-1" strike="noStrike">
                <a:solidFill>
                  <a:srgbClr val="00279f"/>
                </a:solidFill>
                <a:latin typeface="Arial"/>
                <a:ea typeface="Arial"/>
              </a:rPr>
              <a:t> will require approval in a 10-day confirmationballot within 802.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7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7:  To decline comment #76 from 96/106-3 because this is a request for a minor technical improvement, the inclusion of which is unjustifiable at this late 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4: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1" name=""/>
          <p:cNvSpPr txBox="1"/>
          <p:nvPr/>
        </p:nvSpPr>
        <p:spPr>
          <a:xfrm>
            <a:off x="990720" y="1143000"/>
            <a:ext cx="7162920" cy="5334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8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8: To resolve comment #87 from 96/106-3  by changing the text in 6th paragraph of 7.3.2.1 to rea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Each bit in the traffic-indication virtual bitmap shall correspond to traffic buffered for a specific station within the BSS that the AP is prepared to deliver at the time the beacon or probe response frame is transmitted. If bit Bit number N is shall be 0,if there are no directed frames buffered for the station whose Station ID is N. If any directed frames for that station are buffered, and the AP is prepared to deliver them, bit number N in the traffic-indication virtual bitmap is shall be 1. A PC may decline to set bits in the TIM for CF-Pollable stations is does not intend to poll (see clause 11.2.1.5)</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d in 11.2.5.1. (c) delete the words “CF-Polla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5: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9: To approve the proposed resolution of comments #130 through #146 from 96/106-3 (see 96/106-3r1), other than #136 (already approved on Wednesday in plenary motion #18).</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6: moved: MAC group, second: Ravi Nalamati,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0: To approve the proposed resolution of comments #101 through #126 from 96/106-3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7: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1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1: To decline comment #17 from 96/106-4 because this is a request for a minor technical improvement, the inclusion of which is unjustifiable at this late dat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8: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22</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2: To decline comment #22 from 96/106-4 because this is a non–trivial functional change, which may be useful, but is incomplete as proposed, because the problem identified extends beyond the cited Association and Reassociation frames to (at least) Authentication frames, and perhaps to other management frame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9: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30</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3: To decline comment #30 from 96/106-4 because this is a non–trivial functional change for which the impact has not been adequately investigated, and for which the need has not been substanti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0: moved: MAC group, second: Chris Zegeli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2, comment #4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4: To approve comment #45 from 96/106-2 to incorporate the changes to the MAC PICS to properly describe the optional characteristics of the PCF.</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also corrects an error in the PICS for PS-Poll, which was shown as being transmitted only by APs rather than only by non-AP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1: moved: MAC group, second: Keith Amunds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6, comments #11, #17, #1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5: To decline comments #11, #17, and #18 from 96/106-6 due to lack of text provided by the commenters and the lack of time to generate such text (in a form which did not produce new, undesired side effects or inconsistencies).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2: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6: To approve the proposed resolution of comments #13, #14, #15, #16, and #20 from 96/106-6.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are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3: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rch,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  To approve the March 1996 MAC minutes as distributed in document 96/055.</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Bob Marshal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y,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  To approve May 1996 MAC results as distributed in document 96/083 </a:t>
            </a:r>
            <a:r>
              <a:rPr b="1" lang="en-US" sz="1800" spc="-1" strike="noStrike">
                <a:solidFill>
                  <a:srgbClr val="ff6633"/>
                </a:solidFill>
                <a:latin typeface="Arial"/>
                <a:ea typeface="Arial"/>
              </a:rPr>
              <a:t>(the actual MAC minutes document 96/084 has not been distributed, but 96/083 contains all of the motions and voting results)</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Simon Black</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s #34 &amp; #3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7: To resolve comments #34 and #35 from 96/106–3 to replace the text from 5.7.1 and delete references to state machines in 9.1.5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1-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4: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maining Open Comments</a:t>
            </a:r>
            <a:endParaRPr b="0" lang="en-US" sz="3600" spc="-1" strike="noStrike">
              <a:solidFill>
                <a:srgbClr val="000000"/>
              </a:solidFill>
              <a:latin typeface="Arial"/>
            </a:endParaRPr>
          </a:p>
        </p:txBody>
      </p:sp>
      <p:sp>
        <p:nvSpPr>
          <p:cNvPr id="121" name=""/>
          <p:cNvSpPr txBox="1"/>
          <p:nvPr/>
        </p:nvSpPr>
        <p:spPr>
          <a:xfrm>
            <a:off x="914400" y="1066680"/>
            <a:ext cx="7162920" cy="5257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 following {non-PHY} comments have not been address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6, #1 (about patent procedures, not MAC issu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2, #32 &amp; #3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are two, diametrically opposed suggested dispositions of the MAC state machines in Annex C.  #32 calls for replacing the current, out-of date state machines with updated versions, #33 calls for removing the state machines entirel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Motion 45 (from floor):  The state machine content from Annex C be deleted and replaced with "TBD".  The informative Annex shall remain.  This will close comments #32 &amp; #33 from 96/106–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 passed by plenary vote:  16-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NOTE:  Michael Fischer has stated he will provide updated state machines that closely match D5.0 for review (via the FTP server) prior to the next meeting at which it will be possible to make changes to the draft (such as re-inserting state mach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Next Meeting</a:t>
            </a:r>
            <a:endParaRPr b="0" lang="en-US" sz="3600" spc="-1" strike="noStrike">
              <a:solidFill>
                <a:srgbClr val="000000"/>
              </a:solidFill>
              <a:latin typeface="Arial"/>
            </a:endParaRPr>
          </a:p>
        </p:txBody>
      </p:sp>
      <p:sp>
        <p:nvSpPr>
          <p:cNvPr id="125"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ff6633"/>
                </a:solidFill>
                <a:latin typeface="Arial"/>
                <a:ea typeface="Arial"/>
              </a:rPr>
              <a:t>If the request for letter ballot is approved, there is not going to need to be an August meeting, and the only goal for November, 1996 is to process sponsor ballot repsonses and have a revised draft for re-ballot or forwarding, as appropriat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ae00"/>
                </a:solidFill>
                <a:latin typeface="Arial"/>
                <a:ea typeface="Arial"/>
              </a:rPr>
              <a:t>If a confirmation ballot proves to be necessary, there needs to be an August meeting, with the only goal being to resolve the issues from the confirmation ballot, allowing us to proceed to 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f6633"/>
                </a:solidFill>
                <a:latin typeface="Arial"/>
                <a:ea typeface="Arial"/>
              </a:rPr>
              <a:t>virtual Dave would like to get back to being real Michae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and looks forward to real Dave's return next meet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
        <p:nvSpPr>
          <p:cNvPr id="6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chnical No vo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ly 3 in MAC sections — 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solutions faxed to no voters not pres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il S. — 2 votes, agrees to change his no vo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Joe K. — 1 vote, agrees and changes vote to y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cope of the work:   230 total MAC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General, intro, annexes:</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2,  6 (T, t), rest (E,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us 16 PHY com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167  (not well catagoriz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1,  17 (T, t), rest (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uesday &amp; Wednesday AM work summary</a:t>
            </a:r>
            <a:endParaRPr b="0" lang="en-US" sz="3600" spc="-1" strike="noStrike">
              <a:solidFill>
                <a:srgbClr val="000000"/>
              </a:solidFill>
              <a:latin typeface="Arial"/>
            </a:endParaRPr>
          </a:p>
        </p:txBody>
      </p:sp>
      <p:sp>
        <p:nvSpPr>
          <p:cNvPr id="69" name=""/>
          <p:cNvSpPr txBox="1"/>
          <p:nvPr/>
        </p:nvSpPr>
        <p:spPr>
          <a:xfrm>
            <a:off x="914400" y="1523880"/>
            <a:ext cx="7162920" cy="48006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was done in all MAC clau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MAC issues addressed, 4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comple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2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Fewer than 20 unaddressed, work ongo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re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22860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s</a:t>
            </a:r>
            <a:endParaRPr b="0" lang="en-US" sz="3600" spc="-1" strike="noStrike">
              <a:solidFill>
                <a:srgbClr val="000000"/>
              </a:solidFill>
              <a:latin typeface="Arial"/>
            </a:endParaRPr>
          </a:p>
        </p:txBody>
      </p:sp>
      <p:sp>
        <p:nvSpPr>
          <p:cNvPr id="71" name=""/>
          <p:cNvSpPr txBox="1"/>
          <p:nvPr/>
        </p:nvSpPr>
        <p:spPr>
          <a:xfrm>
            <a:off x="990720" y="838080"/>
            <a:ext cx="7162920" cy="55627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decline the 2 technical no comments from Anil's no vote with the following rationale:</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 #5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multicast/broadcast frames can safely be ignored because the Retry bit in those frames will never be se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11, #2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ATIM frames can safely be ignored as the effect of accepting a duplicate ATIM is nu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is response read on telephone to Anil &amp; he agrees that they are acceptable to him</a:t>
            </a:r>
            <a:r>
              <a:rPr b="1" lang="en-US" sz="1800" spc="-1" strike="noStrike">
                <a:solidFill>
                  <a:srgbClr val="ff6633"/>
                </a:solidFill>
                <a:latin typeface="Arial"/>
                <a:ea typeface="Arial"/>
              </a:rPr>
              <a:t> provided #19 from 106-6 is accepted (which is editorial &amp; has been incorpor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7:  moved MAC Group, seconde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a:t>
            </a:r>
            <a:endParaRPr b="0" lang="en-US" sz="3600" spc="-1" strike="noStrike">
              <a:solidFill>
                <a:srgbClr val="000000"/>
              </a:solidFill>
              <a:latin typeface="Arial"/>
            </a:endParaRPr>
          </a:p>
        </p:txBody>
      </p:sp>
      <p:sp>
        <p:nvSpPr>
          <p:cNvPr id="73" name=""/>
          <p:cNvSpPr txBox="1"/>
          <p:nvPr/>
        </p:nvSpPr>
        <p:spPr>
          <a:xfrm>
            <a:off x="990720" y="1066680"/>
            <a:ext cx="7162920" cy="54100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accept comment 136 on clause 9, suggest text from Joe Kubler from technical no vote, but place the text in a separate paragraph after the paragraph indicated in the comment (since the referenced paragraph refers to CF-Pollable stations).  This change, however, is a clarification, not a technical change to the standard.</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 is not technical because in 9.2.5.4 it is stated that the NAV is updated only when the new duration is greater than the existing duration.  In 9.3.2.2 the only conditions which may reset the NAV are CF-End or CF-End+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ext FAXed to Joe, he agrees &amp; changes his vote to y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8:  moved MAC Group, seconde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eneral &amp; Annexes</a:t>
            </a:r>
            <a:endParaRPr b="0" lang="en-US" sz="3600" spc="-1" strike="noStrike">
              <a:solidFill>
                <a:srgbClr val="000000"/>
              </a:solidFill>
              <a:latin typeface="Arial"/>
            </a:endParaRPr>
          </a:p>
        </p:txBody>
      </p:sp>
      <p:sp>
        <p:nvSpPr>
          <p:cNvPr id="75"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48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27 in MAC, 1 in opening plenar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2, comment #24) accepted in principle but requires someone to write the ASN.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 not yet complet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2, comments #32, #33, #45) require further discussion or commenter input in MAC group</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6, comment #1) on IP, handle in Full W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6 comments from 96/106-2 (#s 1-3, 11-16, 30, 34-37, 43, 46) are PHY related &amp; not being handled by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resolution of 28 MAC comments from from general, intro &amp; annexes (see 96/106-2r1) be accepted as approved in MAC group.</a:t>
            </a:r>
            <a:endParaRPr b="0" lang="en-US" sz="22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 Bob O'Hara,  second Jon Rosdahl/Chris Zegeli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s:  10–0–0 (G&amp;A),  9–0–0 (clauses 3 &amp; 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9:  moved MAC Group, secon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s 5 &amp; 6</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actually 27, since 1 was a duplic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remain open (96/106-3, comments #11, #30, #39) for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8 comments from from clauses 5 &amp; 6 (see 96/106-3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0:  moved MAC Group, seconded Ravi Nalamati,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Vic Hayes</cp:lastModifiedBy>
  <cp:revision>0</cp:revision>
  <dc:subject/>
  <dc:title>July 1996 MAC group report</dc:title>
</cp:coreProperties>
</file>