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8E44B09-B9EB-44A5-94B7-34AF0903BCA9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7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 26-28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August 26, 13:0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 is subject to cancellation by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D4.1 Recirculation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mit D5.0 to LMSC (Sponsor)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Aug 26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Resolution of Recirculation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Adjour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Wednesday 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-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in, TX?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uffer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7th Session of meetings of IEEE P802.11 Wireless Local Area Networks  Tentative Agenda</dc:title>
</cp:coreProperties>
</file>