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7C8799-B4DE-482A-95F9-E3813E8E3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57456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9160" y="21744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11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073160"/>
            <a:ext cx="7754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869240" y="649440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CBF3539B-969F-4E78-93E5-95573D9474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4960" y="531720"/>
            <a:ext cx="7239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362720" y="233280"/>
            <a:ext cx="1004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March 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555480" y="6485040"/>
            <a:ext cx="680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618ffd"/>
                </a:solidFill>
                <a:latin typeface="Arial"/>
                <a:ea typeface="Arial"/>
              </a:rPr>
              <a:t>802.11 Architec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72280" y="1252440"/>
            <a:ext cx="3251160" cy="236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Configurations -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49160" y="2863800"/>
            <a:ext cx="5651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“Basic Service Set”,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”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coverag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67720" y="2185920"/>
            <a:ext cx="568440" cy="4064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754760" y="221940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983360" y="1969920"/>
            <a:ext cx="136800" cy="228600"/>
            <a:chOff x="7983360" y="1969920"/>
            <a:chExt cx="136800" cy="228600"/>
          </a:xfrm>
        </p:grpSpPr>
        <p:sp>
          <p:nvSpPr>
            <p:cNvPr id="121" name=""/>
            <p:cNvSpPr/>
            <p:nvPr/>
          </p:nvSpPr>
          <p:spPr>
            <a:xfrm>
              <a:off x="8051760" y="1969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83360" y="196992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8051760" y="196992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7832880" y="2355840"/>
            <a:ext cx="488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99120" y="2889360"/>
            <a:ext cx="569880" cy="4064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99160" y="1633680"/>
            <a:ext cx="568440" cy="4064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988320" y="28940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86560" y="16286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216920" y="2674800"/>
            <a:ext cx="134640" cy="227160"/>
            <a:chOff x="7216920" y="2674800"/>
            <a:chExt cx="134640" cy="227160"/>
          </a:xfrm>
        </p:grpSpPr>
        <p:sp>
          <p:nvSpPr>
            <p:cNvPr id="130" name=""/>
            <p:cNvSpPr/>
            <p:nvPr/>
          </p:nvSpPr>
          <p:spPr>
            <a:xfrm>
              <a:off x="7283520" y="2674800"/>
              <a:ext cx="0" cy="227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16920" y="2674800"/>
              <a:ext cx="6660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283520" y="2674800"/>
              <a:ext cx="6804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815160" y="1417680"/>
            <a:ext cx="136440" cy="228600"/>
            <a:chOff x="6815160" y="1417680"/>
            <a:chExt cx="136440" cy="228600"/>
          </a:xfrm>
        </p:grpSpPr>
        <p:sp>
          <p:nvSpPr>
            <p:cNvPr id="134" name=""/>
            <p:cNvSpPr/>
            <p:nvPr/>
          </p:nvSpPr>
          <p:spPr>
            <a:xfrm>
              <a:off x="6883560" y="14176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15160" y="1417680"/>
              <a:ext cx="6840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883560" y="1417680"/>
              <a:ext cx="6804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 txBox="1"/>
          <p:nvPr/>
        </p:nvSpPr>
        <p:spPr>
          <a:xfrm>
            <a:off x="7072200" y="3046320"/>
            <a:ext cx="488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662880" y="1800360"/>
            <a:ext cx="488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784840" y="2241720"/>
            <a:ext cx="1650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Configurations -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77800" y="4432320"/>
            <a:ext cx="7893000" cy="18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Points an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</a:t>
            </a:r>
            <a:r>
              <a:rPr b="1" i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onnects Multiple Cells via Access Points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form a singl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s wireless coverag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51240" y="1832040"/>
            <a:ext cx="5321520" cy="1332360"/>
          </a:xfrm>
          <a:custGeom>
            <a:avLst/>
            <a:gdLst/>
            <a:ahLst/>
            <a:rect l="0" t="0" r="r" b="b"/>
            <a:pathLst>
              <a:path w="14782" h="3701">
                <a:moveTo>
                  <a:pt x="1750" y="423"/>
                </a:moveTo>
                <a:lnTo>
                  <a:pt x="899" y="555"/>
                </a:lnTo>
                <a:lnTo>
                  <a:pt x="211" y="846"/>
                </a:lnTo>
                <a:lnTo>
                  <a:pt x="211" y="1240"/>
                </a:lnTo>
                <a:lnTo>
                  <a:pt x="0" y="1557"/>
                </a:lnTo>
                <a:lnTo>
                  <a:pt x="22" y="2007"/>
                </a:lnTo>
                <a:lnTo>
                  <a:pt x="379" y="2324"/>
                </a:lnTo>
                <a:lnTo>
                  <a:pt x="877" y="2351"/>
                </a:lnTo>
                <a:lnTo>
                  <a:pt x="1089" y="2404"/>
                </a:lnTo>
                <a:lnTo>
                  <a:pt x="1349" y="2828"/>
                </a:lnTo>
                <a:lnTo>
                  <a:pt x="1609" y="3119"/>
                </a:lnTo>
                <a:lnTo>
                  <a:pt x="2129" y="3278"/>
                </a:lnTo>
                <a:lnTo>
                  <a:pt x="2438" y="3278"/>
                </a:lnTo>
                <a:lnTo>
                  <a:pt x="2795" y="3066"/>
                </a:lnTo>
                <a:lnTo>
                  <a:pt x="3077" y="3040"/>
                </a:lnTo>
                <a:lnTo>
                  <a:pt x="5450" y="3066"/>
                </a:lnTo>
                <a:lnTo>
                  <a:pt x="5754" y="3331"/>
                </a:lnTo>
                <a:lnTo>
                  <a:pt x="5900" y="3595"/>
                </a:lnTo>
                <a:lnTo>
                  <a:pt x="6160" y="3675"/>
                </a:lnTo>
                <a:lnTo>
                  <a:pt x="6372" y="3701"/>
                </a:lnTo>
                <a:lnTo>
                  <a:pt x="6940" y="3648"/>
                </a:lnTo>
                <a:lnTo>
                  <a:pt x="7271" y="3437"/>
                </a:lnTo>
                <a:lnTo>
                  <a:pt x="7488" y="3251"/>
                </a:lnTo>
                <a:lnTo>
                  <a:pt x="7722" y="3066"/>
                </a:lnTo>
                <a:lnTo>
                  <a:pt x="7938" y="2987"/>
                </a:lnTo>
                <a:lnTo>
                  <a:pt x="8741" y="2908"/>
                </a:lnTo>
                <a:lnTo>
                  <a:pt x="8886" y="2960"/>
                </a:lnTo>
                <a:lnTo>
                  <a:pt x="9049" y="3066"/>
                </a:lnTo>
                <a:lnTo>
                  <a:pt x="11633" y="3093"/>
                </a:lnTo>
                <a:lnTo>
                  <a:pt x="12701" y="2960"/>
                </a:lnTo>
                <a:lnTo>
                  <a:pt x="12912" y="2828"/>
                </a:lnTo>
                <a:lnTo>
                  <a:pt x="13102" y="2642"/>
                </a:lnTo>
                <a:lnTo>
                  <a:pt x="13313" y="2563"/>
                </a:lnTo>
                <a:lnTo>
                  <a:pt x="13644" y="2536"/>
                </a:lnTo>
                <a:lnTo>
                  <a:pt x="14050" y="2536"/>
                </a:lnTo>
                <a:lnTo>
                  <a:pt x="14500" y="2563"/>
                </a:lnTo>
                <a:lnTo>
                  <a:pt x="14760" y="2007"/>
                </a:lnTo>
                <a:lnTo>
                  <a:pt x="14782" y="1006"/>
                </a:lnTo>
                <a:lnTo>
                  <a:pt x="14548" y="740"/>
                </a:lnTo>
                <a:lnTo>
                  <a:pt x="13931" y="502"/>
                </a:lnTo>
                <a:lnTo>
                  <a:pt x="13600" y="423"/>
                </a:lnTo>
                <a:lnTo>
                  <a:pt x="13053" y="423"/>
                </a:lnTo>
                <a:lnTo>
                  <a:pt x="12793" y="555"/>
                </a:lnTo>
                <a:lnTo>
                  <a:pt x="12462" y="608"/>
                </a:lnTo>
                <a:lnTo>
                  <a:pt x="12105" y="661"/>
                </a:lnTo>
                <a:lnTo>
                  <a:pt x="11655" y="608"/>
                </a:lnTo>
                <a:lnTo>
                  <a:pt x="10778" y="291"/>
                </a:lnTo>
                <a:lnTo>
                  <a:pt x="10068" y="158"/>
                </a:lnTo>
                <a:lnTo>
                  <a:pt x="9570" y="52"/>
                </a:lnTo>
                <a:lnTo>
                  <a:pt x="8767" y="26"/>
                </a:lnTo>
                <a:lnTo>
                  <a:pt x="8220" y="26"/>
                </a:lnTo>
                <a:lnTo>
                  <a:pt x="7700" y="132"/>
                </a:lnTo>
                <a:lnTo>
                  <a:pt x="6962" y="185"/>
                </a:lnTo>
                <a:lnTo>
                  <a:pt x="6372" y="211"/>
                </a:lnTo>
                <a:lnTo>
                  <a:pt x="5992" y="264"/>
                </a:lnTo>
                <a:lnTo>
                  <a:pt x="4691" y="291"/>
                </a:lnTo>
                <a:lnTo>
                  <a:pt x="4074" y="211"/>
                </a:lnTo>
                <a:lnTo>
                  <a:pt x="3457" y="105"/>
                </a:lnTo>
                <a:lnTo>
                  <a:pt x="3104" y="52"/>
                </a:lnTo>
                <a:lnTo>
                  <a:pt x="2866" y="26"/>
                </a:lnTo>
                <a:lnTo>
                  <a:pt x="2676" y="0"/>
                </a:lnTo>
                <a:lnTo>
                  <a:pt x="2226" y="0"/>
                </a:lnTo>
                <a:lnTo>
                  <a:pt x="2085" y="26"/>
                </a:lnTo>
                <a:lnTo>
                  <a:pt x="1940" y="52"/>
                </a:lnTo>
                <a:lnTo>
                  <a:pt x="1869" y="52"/>
                </a:lnTo>
                <a:lnTo>
                  <a:pt x="1777" y="132"/>
                </a:lnTo>
                <a:lnTo>
                  <a:pt x="1750" y="423"/>
                </a:lnTo>
                <a:close/>
              </a:path>
            </a:pathLst>
          </a:custGeom>
          <a:solidFill>
            <a:srgbClr val="ffff72"/>
          </a:solidFill>
          <a:ln w="12600">
            <a:solidFill>
              <a:srgbClr val="ffff7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6680" y="3646440"/>
            <a:ext cx="568440" cy="406440"/>
          </a:xfrm>
          <a:prstGeom prst="rect">
            <a:avLst/>
          </a:prstGeom>
          <a:solidFill>
            <a:srgbClr val="ff5a5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0200" y="4103640"/>
            <a:ext cx="568440" cy="404640"/>
          </a:xfrm>
          <a:prstGeom prst="rect">
            <a:avLst/>
          </a:prstGeom>
          <a:solidFill>
            <a:srgbClr val="ff5a5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46760" y="2808360"/>
            <a:ext cx="704880" cy="4064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78360" y="4103640"/>
            <a:ext cx="568440" cy="404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9000" y="3798720"/>
            <a:ext cx="568440" cy="4064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763720" y="367992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99040" y="41162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765760" y="41162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926400" y="38228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5120" y="2747880"/>
            <a:ext cx="2943360" cy="1838160"/>
          </a:xfrm>
          <a:prstGeom prst="ellipse">
            <a:avLst/>
          </a:prstGeom>
          <a:noFill/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36960" y="2738520"/>
            <a:ext cx="2944800" cy="1838160"/>
          </a:xfrm>
          <a:prstGeom prst="ellipse">
            <a:avLst/>
          </a:prstGeom>
          <a:noFill/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425840" y="3887640"/>
            <a:ext cx="136800" cy="228600"/>
            <a:chOff x="4425840" y="3887640"/>
            <a:chExt cx="136800" cy="228600"/>
          </a:xfrm>
        </p:grpSpPr>
        <p:sp>
          <p:nvSpPr>
            <p:cNvPr id="157" name=""/>
            <p:cNvSpPr/>
            <p:nvPr/>
          </p:nvSpPr>
          <p:spPr>
            <a:xfrm>
              <a:off x="4494240" y="38876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25840" y="388764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494240" y="388764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994360" y="3887640"/>
            <a:ext cx="136440" cy="228600"/>
            <a:chOff x="5994360" y="3887640"/>
            <a:chExt cx="136440" cy="228600"/>
          </a:xfrm>
        </p:grpSpPr>
        <p:sp>
          <p:nvSpPr>
            <p:cNvPr id="161" name=""/>
            <p:cNvSpPr/>
            <p:nvPr/>
          </p:nvSpPr>
          <p:spPr>
            <a:xfrm>
              <a:off x="6062760" y="38876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4360" y="388764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062760" y="3887640"/>
              <a:ext cx="6804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155000" y="3583080"/>
            <a:ext cx="136440" cy="228600"/>
            <a:chOff x="7155000" y="3583080"/>
            <a:chExt cx="136440" cy="228600"/>
          </a:xfrm>
        </p:grpSpPr>
        <p:sp>
          <p:nvSpPr>
            <p:cNvPr id="165" name=""/>
            <p:cNvSpPr/>
            <p:nvPr/>
          </p:nvSpPr>
          <p:spPr>
            <a:xfrm>
              <a:off x="7223040" y="35830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55000" y="3583080"/>
              <a:ext cx="6804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223040" y="3583080"/>
              <a:ext cx="6840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48120" y="3201840"/>
            <a:ext cx="273240" cy="381240"/>
          </a:xfrm>
          <a:custGeom>
            <a:avLst/>
            <a:gdLst/>
            <a:ahLst/>
            <a:rect l="0" t="0" r="r" b="b"/>
            <a:pathLst>
              <a:path fill="none" w="759" h="1059">
                <a:moveTo>
                  <a:pt x="0" y="0"/>
                </a:moveTo>
                <a:lnTo>
                  <a:pt x="0" y="1059"/>
                </a:lnTo>
                <a:lnTo>
                  <a:pt x="569" y="1059"/>
                </a:lnTo>
                <a:lnTo>
                  <a:pt x="569" y="423"/>
                </a:lnTo>
                <a:lnTo>
                  <a:pt x="569" y="847"/>
                </a:lnTo>
                <a:lnTo>
                  <a:pt x="759" y="423"/>
                </a:lnTo>
                <a:lnTo>
                  <a:pt x="569" y="847"/>
                </a:lnTo>
                <a:lnTo>
                  <a:pt x="380" y="4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73640" y="3201840"/>
            <a:ext cx="273240" cy="381240"/>
          </a:xfrm>
          <a:custGeom>
            <a:avLst/>
            <a:gdLst/>
            <a:ahLst/>
            <a:rect l="0" t="0" r="r" b="b"/>
            <a:pathLst>
              <a:path fill="none" w="759" h="1059">
                <a:moveTo>
                  <a:pt x="0" y="0"/>
                </a:moveTo>
                <a:lnTo>
                  <a:pt x="0" y="1059"/>
                </a:lnTo>
                <a:lnTo>
                  <a:pt x="569" y="1059"/>
                </a:lnTo>
                <a:lnTo>
                  <a:pt x="569" y="423"/>
                </a:lnTo>
                <a:lnTo>
                  <a:pt x="569" y="847"/>
                </a:lnTo>
                <a:lnTo>
                  <a:pt x="759" y="423"/>
                </a:lnTo>
                <a:lnTo>
                  <a:pt x="569" y="847"/>
                </a:lnTo>
                <a:lnTo>
                  <a:pt x="380" y="4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67040" y="3803760"/>
            <a:ext cx="369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309920" y="4268880"/>
            <a:ext cx="369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02200" y="4268880"/>
            <a:ext cx="361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53120" y="3975120"/>
            <a:ext cx="361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78320" y="4192560"/>
            <a:ext cx="6159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S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557680" y="3603600"/>
            <a:ext cx="6080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S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72280" y="1660680"/>
            <a:ext cx="1125720" cy="267120"/>
          </a:xfrm>
          <a:custGeom>
            <a:avLst/>
            <a:gdLst/>
            <a:ahLst/>
            <a:rect l="0" t="0" r="r" b="b"/>
            <a:pathLst>
              <a:path fill="none" w="3127" h="742">
                <a:moveTo>
                  <a:pt x="0" y="742"/>
                </a:moveTo>
                <a:lnTo>
                  <a:pt x="352" y="0"/>
                </a:lnTo>
                <a:lnTo>
                  <a:pt x="3127" y="0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18240" y="1190520"/>
            <a:ext cx="500040" cy="272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450800"/>
            <a:ext cx="0" cy="2001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95680" y="2808360"/>
            <a:ext cx="704880" cy="406440"/>
          </a:xfrm>
          <a:prstGeom prst="rect">
            <a:avLst/>
          </a:prstGeom>
          <a:solidFill>
            <a:srgbClr val="ff5a5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89360" y="2957400"/>
            <a:ext cx="293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54440" y="2824200"/>
            <a:ext cx="3873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87880" y="2814480"/>
            <a:ext cx="3873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39000" y="2976480"/>
            <a:ext cx="285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81880" y="1214280"/>
            <a:ext cx="582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727440" y="2160720"/>
            <a:ext cx="27687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003480" y="3430440"/>
            <a:ext cx="136440" cy="228600"/>
            <a:chOff x="3003480" y="3430440"/>
            <a:chExt cx="136440" cy="228600"/>
          </a:xfrm>
        </p:grpSpPr>
        <p:sp>
          <p:nvSpPr>
            <p:cNvPr id="187" name=""/>
            <p:cNvSpPr/>
            <p:nvPr/>
          </p:nvSpPr>
          <p:spPr>
            <a:xfrm>
              <a:off x="3071880" y="34304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03480" y="343044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071880" y="3430440"/>
              <a:ext cx="6804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Distribu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to interconnect wireless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BSS connected together form an ESS, Extended Servic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mobile stations to access fix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part of 802.11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ld be bridged IEEE LANs, wireless, other network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Services ar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cess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select an AP and “associate”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roa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synchronization (beaco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 coordinatio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typically (but not always) flows through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communica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Defines the Airwaves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irwaves interface between stations (including that between station and AP) is standard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and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exposed MAC/PHY interfac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exposed interface to Distribu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DS services ar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als of Distribution System not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ynchronous MSDU Data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d to LLC (2304 octet maxim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Boun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al point coordinatio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it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dentiality, authentication, ac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nning, joining, 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 and Infrastructure configur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BSS has a unique 48 bi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SS has a variable length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MA with collision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-level acknowled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for RTS/CTS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 node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SDU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 Coordination”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 p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Functionality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aming support within an 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cans for APs, association handsh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may power themselves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buffering, distributed approach for IB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and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al support of “Wired Equivalent Privacy” (W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entication handshak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HY Laye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DATA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ear Channel Assessment (C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rier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Three 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Hop Sprea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 GHz band, 1 and 2 Mbps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GFSK, 4GF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p over 79 channels (North Amer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 Sequence Sprea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 GHz band, 1 and 2 Mbps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BPSK, D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 chip Barker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eband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use infr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and 2 Mbps transmission, 16-PPM and 4-P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What is unique about wire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4479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erence and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varies over spac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d with “unwanted” 802.11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d with non-802 devices (unlicensed spectrum, microwave ov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ll connectivity cannot be assu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dden node”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international regulator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edium 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228680"/>
            <a:ext cx="7543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Uniqueness of Wireles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tion in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ttery usage: requires 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nt “seamless”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physica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lapping 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MAC to support multiple PH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single and multiple channel PH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s with different “Medium Sense”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allow overlap of multiple networks in the same area and channel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to be “Robust for Interferenc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wave, other non-802.11 interfer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-channel inter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mechanisms to deal with “Hidden Nod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provisions for Time Bounde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rchitecture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MAC supporting multiple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ly Frequency Hopping, Direct Sequence and Infrared PH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76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configu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ependent” (ad hoc) and “Infrastructu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76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MA/CA (collision avoidance) with optional “point coordin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Protoco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65520" y="2514600"/>
            <a:ext cx="31305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04800" y="2209680"/>
            <a:ext cx="525780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4800" y="419112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00640" y="220968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504800" y="510552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62600" y="5943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667720" y="20574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87720" y="2163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7720" y="406872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87720" y="498312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16720" y="406872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10400" y="275904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10400" y="458784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6712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19400" y="4648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19400" y="54864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65240" y="2481120"/>
            <a:ext cx="1714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87600" y="438624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30520" y="5300640"/>
            <a:ext cx="24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05200" y="2340000"/>
            <a:ext cx="198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781520" y="4321080"/>
            <a:ext cx="1987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77080" y="3673440"/>
            <a:ext cx="1987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66760" y="1295280"/>
            <a:ext cx="157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2000" y="129528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45960" y="295596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2280" y="478476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61800" y="4191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Protocol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143000"/>
            <a:ext cx="7772400" cy="421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access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Layer Management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 Layer Convergence Protocol (PL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-specific, supports common PHY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Clear Channel Assessment signal (carrier se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Protocol Architecture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 Medium Dependent Sublayer (P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ulation an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 Lay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MI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acts with both MAC Management and PH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Ennis</dc:creator>
  <dc:description/>
  <dc:language>en-US</dc:language>
  <cp:lastModifiedBy>Vic Hayes</cp:lastModifiedBy>
  <cp:revision>0</cp:revision>
  <dc:subject/>
  <dc:title>802.11 Architecture</dc:title>
</cp:coreProperties>
</file>