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653CA6-8DFD-44EB-801F-A5D155724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1360" y="57240"/>
            <a:ext cx="8724960" cy="6667560"/>
          </a:xfrm>
          <a:prstGeom prst="roundRect">
            <a:avLst/>
          </a:prstGeom>
          <a:noFill/>
          <a:ln w="38160">
            <a:solidFill>
              <a:srgbClr val="919191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5600" y="636264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fld id="{0A94A439-8E3F-49C5-A116-C0C3059BECEE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31800" y="6408720"/>
            <a:ext cx="680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1447920"/>
            <a:ext cx="777240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pread Spectrum PHY of the 802.11 Wireless LAN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335268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to IEEE 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11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tali Chay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ez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_PDU Forma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neating data octets into serial stream, LSB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mbling: the data is XORed with periodic 127 bit LFSR sequence generated by a 1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edback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ng serial bit stream into symb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1 Mbit/s, each bit is converted into 2FSK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2 Mbit/s, each 2 bits are encoded into 4FSK symbol using Gra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offset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larity indication symbol is inserted in front of each 32 symbol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33 symbol block is either inverted or not, as to maintain lower cumulative DC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offset control is important in PLL-based transmi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PHY Scram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44792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mbling is applied just to PLCP_PDU, not to PLCP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mbling is performed by a bitwise XOR with LFSR sequence with 127 bit period, with 1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edback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method is used for scrambling and descramb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5840" y="4146480"/>
            <a:ext cx="76168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 to Symbol M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44792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bit (with 2GFSK) or 2 bits with (4GFSK) are mapped to a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2 bits/symbol Gray coded mapping is used, as customary with multilevel mod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GFSK and 4GFSK have same RMS frequency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89280" y="3852720"/>
            <a:ext cx="53658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Bias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C offset control is instrumental in reducing "baseline wander" in PLL based implementations (problem similar to transformer coupling in wired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ity indication symbol is added in front of  each 32 symbol block - "0" for 2GFSK, "00" for 4GFSK (the symbol with most negative frequency off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 of DC offset contribution of the 33 symbol block is compared to sign of previous accumulated DC offset; if same sign, the block is inverted (frequency deviation reversed at each symbo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receive side, the polarity of the first (indication) symbol is tested- if positive, next 32 symbols are inve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Ramp Up and Ramp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dual Ramp Up and Ramp Down are required to reduce the splatter (spikes) in adjacent channels at start and ending of the pa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8 microseconds of the PLCP idle pattern and 8 microseconds following the last symbol of the PLCP_PDU are allocated to gradual increase and decrease of transmi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al ramp time is dictated by adjacent channel interference specifications, and is not specified directly in th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Environment - Multipath Fa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77960" y="1487520"/>
            <a:ext cx="5789520" cy="239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5800" y="407664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ropagation paths, interfering with each other, create a frequency selective f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des are correlated at adjacent frequencies and get decorrelated after few megahertz in an indoo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equences- Req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hopping sequences derived by modulo 79 frequency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s from same set collide 3 times on average, 5 times worst case, over a hopping pattern cycle, including hits and adjacent channel h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throughput continues to increase up to about 15 collocated networks, at high load con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33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equences-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SS Transmitter Spec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bounded to +/-110 KHz in order to maintain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 accur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crossing instants accuracy - &lt;+/- 1/8 symbol (at 2G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 Frequency accuracy - 60 KHz (25 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rate - 1 MHz +/- 50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 Time- transmitter has to settle within 224 microseconds to within 60 KHz off nominal center frequency af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Frequency Hopp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is one of the variants of Spread Spectrum- a technique which enables coexistence of multiple networks (or other devices) in sam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recognizes Frequency Hopping as one of the techniques withstanding “fairness” requirements for unlicensed operation in the ISM b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requency Hopping PHY uses 79 nonoverlapping frequency channels with 1 MHz channel sp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enables operation of up to 26 collocated networks, enabling therefore high aggregate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is resistant to multipath fading through the inherent frequency diversity mech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Performance Spec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8288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ame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Mb/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0 dB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5 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ens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2 Mhz off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3 Mhz or m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odulation Prot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- Clear Channel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is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ckoff Slot width for FHSS PHY is 50 microseconds. The CCA should detect a signal which started up to 16 microseconds before end of the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Sensi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5 dBm fo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during 0101 pattern within 20 microseconds with 90%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ory requirements for F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h America (CFR47, Parts 15.247, 15.205, 15.209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band: 2400-2483.5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 MHz bandwidth (at -20 dB re pe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75 hopping channels, pseudorandom hopping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 W transmit power and 4 W EIRP (including anten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 (ETS 300-328, ETS 300-339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band: 2400-2483.5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20 hopping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00 mW EI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 (RCR STD-33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band: 2471-2497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10 hopping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 PHY vs. Reg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Hz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hopping channels in North America and Europe; pseudorandom hopping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hopping channels in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 W power; devices capable of more than 100 mW have to support at least one power level not exceeding 100 m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SS Modulation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iar, field proven, low cost technology - F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hannel operation -transmit signal shaping to reduce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rates - medium use optimization by taking advantage of short-range/good-propagation scenarios to increas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SS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82880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ssian shaped FSK (GFSK) a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l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Z data is filtered with BT=0.5 low-pass Gaussian filter (500 KHz bandwidth at 3 dB) and then FM modulates a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level GFS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level GF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5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it/sec operation mandatory; 2 Mbit/sec-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s production of interoperable lower-rate/lower-cost and higher-rate/higher-co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SS Frame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400068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s whitened by a synchronous scrambler and formatted to limit DC offset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411200"/>
            <a:ext cx="73152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Pre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preamble starts with 80 bits of 0101 sync pattern, us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 presence of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solve antenna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quire symbol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s 16 bit Start Frame Delimiter (SF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tern is 0000 1100 1011 1101 (left bit transmitted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FD provides symbol-level fram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FD pattern is designed to optimize autocorrelation properties in conjunction with the 0101 pattern in front of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FD pattern is balanc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H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32 bit PLCP header consists of PLW (PLCP_PDU Length Word), PSF (PLCP Signaling Field) and 16 bit HEC (Header Error Che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W (PLCP_PDU Length Word) is 12 bit field indicating the length of PLCP_PDU in octets, including the 32 bit CRC at the PLCP_PDU end, in the range 0 .. 40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F (PLCP Signaling Field) is 4 bit field, of which currently 3 are reserved and the fourth is used to signal the PLCP_PDU data rate (1 or 2 M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 is a 16 bit CRC with CCITT generator polynomial G(x)=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CP header is always transmitted at 1 Mbit/se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ftali Chayat</dc:creator>
  <dc:description/>
  <dc:language>en-US</dc:language>
  <cp:lastModifiedBy>Vic Hayes</cp:lastModifiedBy>
  <cp:revision>0</cp:revision>
  <dc:subject/>
  <dc:title>Frequency Hopping Spread Spectrum section of the 802.11 Wireless LAN Standard</dc:title>
</cp:coreProperties>
</file>