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77627AF1-4315-4B35-AE06-C191655C0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87440" y="400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Jan Boer, Chair DS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 WCND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fut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0 signifies 802.11 comp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505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number of octets to be transmitted in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fram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 CRC 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380988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TT CRC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s Signal, Service and Length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1258920"/>
            <a:ext cx="509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191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its transmitted by the DSSS Phy are scra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hening th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locking (Barker sequnce is asy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0840" y="1379520"/>
            <a:ext cx="7086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4000680"/>
            <a:ext cx="7223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Q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03600"/>
            <a:ext cx="7238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859040"/>
            <a:ext cx="7156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760" y="1523880"/>
            <a:ext cx="8621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1: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2: Carrier sen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3: Carrier sense with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 function of T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100 mW: -8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50mW  :  -76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lt; = 50mW: -7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 time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PLCP header --&gt; CCA busy for full (intended) duration of of frame as indicated by PLCP Length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to R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to T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temperature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1:     0  -  4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2:  -30  -  7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/MH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Transmitted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above 1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S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symbol is spreaded with a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power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65160" y="1992240"/>
            <a:ext cx="5214960" cy="20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13040" y="4573440"/>
            <a:ext cx="505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enter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lock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O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Dow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Carrier sup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modulation 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0.08FER (102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max input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adjacent channel r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&gt; 30 MHz sep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Transmit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640" y="1371600"/>
            <a:ext cx="8056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Receiv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5680" y="1523880"/>
            <a:ext cx="829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hip BARKER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utocorrel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equence allowed by F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gain 10.4 d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2917800"/>
            <a:ext cx="4873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B coding g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rs and noise (10 dB 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time delay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of ech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12920"/>
            <a:ext cx="4834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SSS PHY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(FCC 15.2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nd 2 Mb/s datarate (DBPSK and DQPSK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rate 1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11 MHz with 11  chip Barker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channels in 2.4 to 2.4835 GHz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5560" y="1744560"/>
            <a:ext cx="7664400" cy="336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584360" y="5516640"/>
            <a:ext cx="541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 always at 1Mb/s DBP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ynchro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 scrambled 1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for o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fse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5440" y="1251000"/>
            <a:ext cx="5148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Frame Deli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352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field (hF3A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8560" y="1258920"/>
            <a:ext cx="5081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962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A 1Mb/s DB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4  2Mb/s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values reserved for future use (100 kb/s qua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8560" y="1251000"/>
            <a:ext cx="50817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Vic Hayes</cp:lastModifiedBy>
  <cp:revision>0</cp:revision>
  <dc:subject/>
  <dc:title>DSSS presentation</dc:title>
</cp:coreProperties>
</file>