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22B15D-4EC1-4B04-97B6-462CC10C8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57456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9160" y="21744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073160"/>
            <a:ext cx="7754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174160" y="655308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6B516D61-7EAD-41A7-B6C3-059F8EC5F4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4960" y="531720"/>
            <a:ext cx="7239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362720" y="233280"/>
            <a:ext cx="1004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March 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31800" y="655308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5912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618ffd"/>
                </a:solidFill>
                <a:latin typeface="Arial"/>
                <a:ea typeface="Arial"/>
              </a:rPr>
              <a:t>802.11 Tutor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802.11 MAC Entit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Basic Access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cy and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TS/CTS Overhead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324080" y="1298520"/>
            <a:ext cx="6407280" cy="4357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736560" y="5835600"/>
            <a:ext cx="73659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mixed Throughput (long inbound frames)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289320" y="1806480"/>
            <a:ext cx="2529000" cy="303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Short, 40% Long 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Optional Point Coordination Function (P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90720" y="3992400"/>
            <a:ext cx="7467480" cy="27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Service uses Point Coordination Function (PCF) on a DCF Foun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F can provide low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er del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variations to support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Time Bounded Serv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 Data, Voice or mixed implementation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Coordinator resides in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existence between Contention and optional Contention Free  does not burden the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27400" y="1290600"/>
            <a:ext cx="4489560" cy="27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38560" y="1300320"/>
            <a:ext cx="2163600" cy="113184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00440" y="1576440"/>
            <a:ext cx="1459440" cy="565560"/>
          </a:xfrm>
          <a:custGeom>
            <a:avLst/>
            <a:gdLst/>
            <a:ahLst/>
            <a:rect l="0" t="0" r="r" b="b"/>
            <a:pathLst>
              <a:path w="4054" h="1571">
                <a:moveTo>
                  <a:pt x="899" y="1571"/>
                </a:moveTo>
                <a:lnTo>
                  <a:pt x="0" y="0"/>
                </a:lnTo>
                <a:lnTo>
                  <a:pt x="3159" y="0"/>
                </a:lnTo>
                <a:lnTo>
                  <a:pt x="4054" y="1571"/>
                </a:lnTo>
                <a:lnTo>
                  <a:pt x="899" y="157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54480" y="1865160"/>
            <a:ext cx="1472040" cy="567000"/>
          </a:xfrm>
          <a:custGeom>
            <a:avLst/>
            <a:gdLst/>
            <a:ahLst/>
            <a:rect l="0" t="0" r="r" b="b"/>
            <a:pathLst>
              <a:path w="4089" h="1575">
                <a:moveTo>
                  <a:pt x="3181" y="1575"/>
                </a:moveTo>
                <a:lnTo>
                  <a:pt x="4089" y="0"/>
                </a:lnTo>
                <a:lnTo>
                  <a:pt x="908" y="0"/>
                </a:lnTo>
                <a:lnTo>
                  <a:pt x="0" y="1575"/>
                </a:lnTo>
                <a:lnTo>
                  <a:pt x="3181" y="157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08240" y="3151080"/>
            <a:ext cx="228924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95640" y="2413080"/>
            <a:ext cx="2317680" cy="59364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746520" y="2697120"/>
            <a:ext cx="893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SMA/CA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49680" y="1919160"/>
            <a:ext cx="730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73480" y="1871640"/>
            <a:ext cx="539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97560" y="2098800"/>
            <a:ext cx="539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70440" y="299088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67240" y="299088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54480" y="3613320"/>
            <a:ext cx="354240" cy="375120"/>
          </a:xfrm>
          <a:custGeom>
            <a:avLst/>
            <a:gdLst/>
            <a:ahLst/>
            <a:rect l="0" t="0" r="r" b="b"/>
            <a:pathLst>
              <a:path fill="none" w="984" h="1042">
                <a:moveTo>
                  <a:pt x="0" y="0"/>
                </a:moveTo>
                <a:lnTo>
                  <a:pt x="0" y="1042"/>
                </a:lnTo>
                <a:lnTo>
                  <a:pt x="790" y="1042"/>
                </a:lnTo>
                <a:lnTo>
                  <a:pt x="790" y="261"/>
                </a:lnTo>
                <a:lnTo>
                  <a:pt x="790" y="649"/>
                </a:lnTo>
                <a:lnTo>
                  <a:pt x="984" y="261"/>
                </a:lnTo>
                <a:lnTo>
                  <a:pt x="790" y="649"/>
                </a:lnTo>
                <a:lnTo>
                  <a:pt x="591" y="26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51360" y="3284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68960" y="1406520"/>
            <a:ext cx="0" cy="152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10280" y="1397160"/>
            <a:ext cx="106560" cy="244800"/>
          </a:xfrm>
          <a:custGeom>
            <a:avLst/>
            <a:gdLst/>
            <a:ahLst/>
            <a:rect l="0" t="0" r="r" b="b"/>
            <a:pathLst>
              <a:path w="296" h="680">
                <a:moveTo>
                  <a:pt x="132" y="0"/>
                </a:moveTo>
                <a:lnTo>
                  <a:pt x="0" y="680"/>
                </a:lnTo>
                <a:lnTo>
                  <a:pt x="296" y="680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0280" y="2801880"/>
            <a:ext cx="106560" cy="246600"/>
          </a:xfrm>
          <a:custGeom>
            <a:avLst/>
            <a:gdLst/>
            <a:ahLst/>
            <a:rect l="0" t="0" r="r" b="b"/>
            <a:pathLst>
              <a:path w="296" h="685">
                <a:moveTo>
                  <a:pt x="132" y="685"/>
                </a:moveTo>
                <a:lnTo>
                  <a:pt x="0" y="0"/>
                </a:lnTo>
                <a:lnTo>
                  <a:pt x="296" y="0"/>
                </a:lnTo>
                <a:lnTo>
                  <a:pt x="132" y="68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243480" y="2011320"/>
            <a:ext cx="487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95640" y="2131920"/>
            <a:ext cx="1179360" cy="3207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324240" y="2162160"/>
            <a:ext cx="663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9440" y="2486160"/>
            <a:ext cx="523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867040" y="1649520"/>
            <a:ext cx="981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Fre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738680" y="1552680"/>
            <a:ext cx="615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346480" y="1268280"/>
            <a:ext cx="1784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Bounded / Asyn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Contention Fre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90720" y="3811680"/>
            <a:ext cx="716292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ternating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ontention Fre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onten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 under PCF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 preven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affic until reset by the last PCF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variable leng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ion Fr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iod per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 PCF and DCF defer to each other causing PCF Burst start vari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81160" y="1490760"/>
            <a:ext cx="6781680" cy="174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457280" y="2262240"/>
            <a:ext cx="639936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85800" y="2101680"/>
            <a:ext cx="1405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595520" y="182880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32480" y="2163600"/>
            <a:ext cx="0" cy="28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552680" y="1909800"/>
            <a:ext cx="1333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Free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224160" y="1924200"/>
            <a:ext cx="108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95520" y="1881360"/>
            <a:ext cx="3002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95520" y="184320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0" y="115"/>
                </a:moveTo>
                <a:lnTo>
                  <a:pt x="596" y="0"/>
                </a:lnTo>
                <a:lnTo>
                  <a:pt x="596" y="23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7920" y="1835280"/>
            <a:ext cx="214560" cy="86040"/>
          </a:xfrm>
          <a:custGeom>
            <a:avLst/>
            <a:gdLst/>
            <a:ahLst/>
            <a:rect l="0" t="0" r="r" b="b"/>
            <a:pathLst>
              <a:path w="596" h="239">
                <a:moveTo>
                  <a:pt x="596" y="120"/>
                </a:moveTo>
                <a:lnTo>
                  <a:pt x="0" y="0"/>
                </a:lnTo>
                <a:lnTo>
                  <a:pt x="0" y="239"/>
                </a:lnTo>
                <a:lnTo>
                  <a:pt x="596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754360" y="1665360"/>
            <a:ext cx="1320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P repetition inter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643040" y="2428920"/>
            <a:ext cx="987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Leng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632480" y="1684440"/>
            <a:ext cx="0" cy="123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9880" y="2184480"/>
            <a:ext cx="582480" cy="18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960800" y="1679400"/>
            <a:ext cx="0" cy="1231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35480" y="1719360"/>
            <a:ext cx="88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64040" y="167328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0" y="120"/>
                </a:moveTo>
                <a:lnTo>
                  <a:pt x="596" y="0"/>
                </a:lnTo>
                <a:lnTo>
                  <a:pt x="596" y="235"/>
                </a:lnTo>
                <a:lnTo>
                  <a:pt x="0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1800" y="167328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596" y="120"/>
                </a:moveTo>
                <a:lnTo>
                  <a:pt x="0" y="0"/>
                </a:lnTo>
                <a:lnTo>
                  <a:pt x="0" y="235"/>
                </a:lnTo>
                <a:lnTo>
                  <a:pt x="596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10120" y="1446120"/>
            <a:ext cx="1638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Defers for Busy Med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54680" y="2101680"/>
            <a:ext cx="11764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5360" y="2157480"/>
            <a:ext cx="64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-Bur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313160" y="2187720"/>
            <a:ext cx="6303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70000" y="210024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444840" y="2079720"/>
            <a:ext cx="419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981080" y="2230560"/>
            <a:ext cx="5796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tional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56160" y="2651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90520" y="320832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12720" y="3030480"/>
            <a:ext cx="128520" cy="1872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05480" y="3030480"/>
            <a:ext cx="128520" cy="1872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100160" y="3005280"/>
            <a:ext cx="431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32480" y="1881360"/>
            <a:ext cx="300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32480" y="184320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0" y="115"/>
                </a:moveTo>
                <a:lnTo>
                  <a:pt x="596" y="0"/>
                </a:lnTo>
                <a:lnTo>
                  <a:pt x="596" y="23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4880" y="1835280"/>
            <a:ext cx="214560" cy="86040"/>
          </a:xfrm>
          <a:custGeom>
            <a:avLst/>
            <a:gdLst/>
            <a:ahLst/>
            <a:rect l="0" t="0" r="r" b="b"/>
            <a:pathLst>
              <a:path w="596" h="239">
                <a:moveTo>
                  <a:pt x="596" y="120"/>
                </a:moveTo>
                <a:lnTo>
                  <a:pt x="0" y="0"/>
                </a:lnTo>
                <a:lnTo>
                  <a:pt x="0" y="239"/>
                </a:lnTo>
                <a:lnTo>
                  <a:pt x="596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9080" y="1747800"/>
            <a:ext cx="0" cy="8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34160" y="3038400"/>
            <a:ext cx="301680" cy="18576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19640" y="2333520"/>
            <a:ext cx="0" cy="56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87680" y="2833560"/>
            <a:ext cx="173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99320" y="279252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596" y="115"/>
                </a:moveTo>
                <a:lnTo>
                  <a:pt x="0" y="0"/>
                </a:lnTo>
                <a:lnTo>
                  <a:pt x="0" y="235"/>
                </a:lnTo>
                <a:lnTo>
                  <a:pt x="596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60800" y="2792520"/>
            <a:ext cx="213120" cy="84600"/>
          </a:xfrm>
          <a:custGeom>
            <a:avLst/>
            <a:gdLst/>
            <a:ahLst/>
            <a:rect l="0" t="0" r="r" b="b"/>
            <a:pathLst>
              <a:path w="592" h="235">
                <a:moveTo>
                  <a:pt x="0" y="115"/>
                </a:moveTo>
                <a:lnTo>
                  <a:pt x="592" y="0"/>
                </a:lnTo>
                <a:lnTo>
                  <a:pt x="592" y="23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971960" y="2595600"/>
            <a:ext cx="1117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 traffic De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17920" y="279252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596" y="115"/>
                </a:moveTo>
                <a:lnTo>
                  <a:pt x="0" y="0"/>
                </a:lnTo>
                <a:lnTo>
                  <a:pt x="0" y="235"/>
                </a:lnTo>
                <a:lnTo>
                  <a:pt x="596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95760" y="252720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08040" y="3006720"/>
            <a:ext cx="1459080" cy="206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33640" y="250200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2600" y="2714760"/>
            <a:ext cx="84600" cy="184680"/>
          </a:xfrm>
          <a:custGeom>
            <a:avLst/>
            <a:gdLst/>
            <a:ahLst/>
            <a:rect l="0" t="0" r="r" b="b"/>
            <a:pathLst>
              <a:path w="235" h="513">
                <a:moveTo>
                  <a:pt x="115" y="513"/>
                </a:moveTo>
                <a:lnTo>
                  <a:pt x="235" y="0"/>
                </a:lnTo>
                <a:lnTo>
                  <a:pt x="0" y="0"/>
                </a:lnTo>
                <a:lnTo>
                  <a:pt x="115" y="5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3120" y="2581200"/>
            <a:ext cx="853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Reset NAV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1600" y="3021120"/>
            <a:ext cx="1519200" cy="1936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75160" y="1665360"/>
            <a:ext cx="1320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P repetition inter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780320" y="3030480"/>
            <a:ext cx="182880" cy="206640"/>
          </a:xfrm>
          <a:custGeom>
            <a:avLst/>
            <a:gdLst/>
            <a:ahLst/>
            <a:rect l="0" t="0" r="r" b="b"/>
            <a:pathLst>
              <a:path w="508" h="574">
                <a:moveTo>
                  <a:pt x="0" y="574"/>
                </a:moveTo>
                <a:lnTo>
                  <a:pt x="189" y="251"/>
                </a:lnTo>
                <a:lnTo>
                  <a:pt x="508" y="0"/>
                </a:lnTo>
                <a:lnTo>
                  <a:pt x="508" y="574"/>
                </a:lnTo>
                <a:lnTo>
                  <a:pt x="0" y="5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CF Bu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90720" y="17589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-Burst by Polling bit in CF-Down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mediate response by Station on a CF_Po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to maintain NAV to protect CF-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s can be variable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et NAV” by last (CF_End) frame from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ACK Previous Frame" bit in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50760" y="1631880"/>
            <a:ext cx="7243920" cy="21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68560" y="2600280"/>
            <a:ext cx="674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374840" y="1787400"/>
            <a:ext cx="0" cy="98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0960" y="17287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83200" y="2359080"/>
            <a:ext cx="2984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63840" y="2590920"/>
            <a:ext cx="5716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51080" y="2359080"/>
            <a:ext cx="5716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70280" y="2590920"/>
            <a:ext cx="29844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76240" y="2359080"/>
            <a:ext cx="64152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40280" y="2590920"/>
            <a:ext cx="36504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95760" y="2359080"/>
            <a:ext cx="2984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74840" y="1844640"/>
            <a:ext cx="632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74840" y="180324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5"/>
                </a:moveTo>
                <a:lnTo>
                  <a:pt x="693" y="0"/>
                </a:lnTo>
                <a:lnTo>
                  <a:pt x="693" y="204"/>
                </a:lnTo>
                <a:lnTo>
                  <a:pt x="0" y="1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21480" y="180324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5"/>
                </a:moveTo>
                <a:lnTo>
                  <a:pt x="0" y="0"/>
                </a:lnTo>
                <a:lnTo>
                  <a:pt x="0" y="204"/>
                </a:lnTo>
                <a:lnTo>
                  <a:pt x="693" y="1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965400" y="1589040"/>
            <a:ext cx="1951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P repetition 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21240" y="2359080"/>
            <a:ext cx="297000" cy="250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575160" y="2543040"/>
            <a:ext cx="344520" cy="406440"/>
            <a:chOff x="3575160" y="2543040"/>
            <a:chExt cx="344520" cy="406440"/>
          </a:xfrm>
        </p:grpSpPr>
        <p:sp>
          <p:nvSpPr>
            <p:cNvPr id="434" name=""/>
            <p:cNvSpPr/>
            <p:nvPr/>
          </p:nvSpPr>
          <p:spPr>
            <a:xfrm>
              <a:off x="3713040" y="2543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81440" y="260028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5160" y="28926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800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266" y="61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266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8612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0" y="61"/>
                  </a:moveTo>
                  <a:lnTo>
                    <a:pt x="266" y="0"/>
                  </a:lnTo>
                  <a:lnTo>
                    <a:pt x="266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025800" y="22525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62240" y="225252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92600" y="2298600"/>
            <a:ext cx="387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35440" y="2276640"/>
            <a:ext cx="95760" cy="43200"/>
          </a:xfrm>
          <a:custGeom>
            <a:avLst/>
            <a:gdLst/>
            <a:ahLst/>
            <a:rect l="0" t="0" r="r" b="b"/>
            <a:pathLst>
              <a:path w="266" h="120">
                <a:moveTo>
                  <a:pt x="266" y="62"/>
                </a:moveTo>
                <a:lnTo>
                  <a:pt x="0" y="0"/>
                </a:lnTo>
                <a:lnTo>
                  <a:pt x="0" y="120"/>
                </a:lnTo>
                <a:lnTo>
                  <a:pt x="266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62240" y="2276640"/>
            <a:ext cx="95760" cy="43200"/>
          </a:xfrm>
          <a:custGeom>
            <a:avLst/>
            <a:gdLst/>
            <a:ahLst/>
            <a:rect l="0" t="0" r="r" b="b"/>
            <a:pathLst>
              <a:path w="266" h="120">
                <a:moveTo>
                  <a:pt x="0" y="62"/>
                </a:moveTo>
                <a:lnTo>
                  <a:pt x="266" y="0"/>
                </a:lnTo>
                <a:lnTo>
                  <a:pt x="266" y="12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924360" y="2252520"/>
            <a:ext cx="385560" cy="406440"/>
            <a:chOff x="3924360" y="2252520"/>
            <a:chExt cx="385560" cy="406440"/>
          </a:xfrm>
        </p:grpSpPr>
        <p:sp>
          <p:nvSpPr>
            <p:cNvPr id="445" name=""/>
            <p:cNvSpPr/>
            <p:nvPr/>
          </p:nvSpPr>
          <p:spPr>
            <a:xfrm>
              <a:off x="4057560" y="225252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94000" y="225252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24360" y="229860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67200" y="2276640"/>
              <a:ext cx="93960" cy="43200"/>
            </a:xfrm>
            <a:custGeom>
              <a:avLst/>
              <a:gdLst/>
              <a:ahLst/>
              <a:rect l="0" t="0" r="r" b="b"/>
              <a:pathLst>
                <a:path w="261" h="120">
                  <a:moveTo>
                    <a:pt x="261" y="62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261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940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0" y="62"/>
                  </a:moveTo>
                  <a:lnTo>
                    <a:pt x="266" y="0"/>
                  </a:lnTo>
                  <a:lnTo>
                    <a:pt x="266" y="12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4470480" y="225252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606920" y="225252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36920" y="2298600"/>
            <a:ext cx="38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79760" y="2276640"/>
            <a:ext cx="93960" cy="43200"/>
          </a:xfrm>
          <a:custGeom>
            <a:avLst/>
            <a:gdLst/>
            <a:ahLst/>
            <a:rect l="0" t="0" r="r" b="b"/>
            <a:pathLst>
              <a:path w="261" h="120">
                <a:moveTo>
                  <a:pt x="261" y="62"/>
                </a:moveTo>
                <a:lnTo>
                  <a:pt x="0" y="0"/>
                </a:lnTo>
                <a:lnTo>
                  <a:pt x="0" y="120"/>
                </a:lnTo>
                <a:lnTo>
                  <a:pt x="261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06920" y="2276640"/>
            <a:ext cx="95760" cy="43200"/>
          </a:xfrm>
          <a:custGeom>
            <a:avLst/>
            <a:gdLst/>
            <a:ahLst/>
            <a:rect l="0" t="0" r="r" b="b"/>
            <a:pathLst>
              <a:path w="266" h="120">
                <a:moveTo>
                  <a:pt x="0" y="62"/>
                </a:moveTo>
                <a:lnTo>
                  <a:pt x="266" y="0"/>
                </a:lnTo>
                <a:lnTo>
                  <a:pt x="266" y="12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160960" y="2252520"/>
            <a:ext cx="387360" cy="406440"/>
            <a:chOff x="5160960" y="2252520"/>
            <a:chExt cx="387360" cy="406440"/>
          </a:xfrm>
        </p:grpSpPr>
        <p:sp>
          <p:nvSpPr>
            <p:cNvPr id="456" name=""/>
            <p:cNvSpPr/>
            <p:nvPr/>
          </p:nvSpPr>
          <p:spPr>
            <a:xfrm>
              <a:off x="5294160" y="225252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32400" y="225252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60960" y="22986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038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266" y="62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266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324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0" y="62"/>
                  </a:moveTo>
                  <a:lnTo>
                    <a:pt x="266" y="0"/>
                  </a:lnTo>
                  <a:lnTo>
                    <a:pt x="266" y="12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745160" y="2543040"/>
            <a:ext cx="342720" cy="406440"/>
            <a:chOff x="4745160" y="2543040"/>
            <a:chExt cx="342720" cy="406440"/>
          </a:xfrm>
        </p:grpSpPr>
        <p:sp>
          <p:nvSpPr>
            <p:cNvPr id="462" name=""/>
            <p:cNvSpPr/>
            <p:nvPr/>
          </p:nvSpPr>
          <p:spPr>
            <a:xfrm>
              <a:off x="4881600" y="2543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1440" y="260028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45160" y="289260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88000" y="2868480"/>
              <a:ext cx="93960" cy="44640"/>
            </a:xfrm>
            <a:custGeom>
              <a:avLst/>
              <a:gdLst/>
              <a:ahLst/>
              <a:rect l="0" t="0" r="r" b="b"/>
              <a:pathLst>
                <a:path w="261" h="124">
                  <a:moveTo>
                    <a:pt x="261" y="61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261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5468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0" y="61"/>
                  </a:moveTo>
                  <a:lnTo>
                    <a:pt x="266" y="0"/>
                  </a:lnTo>
                  <a:lnTo>
                    <a:pt x="266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268360" y="2543040"/>
            <a:ext cx="344520" cy="406440"/>
            <a:chOff x="2268360" y="2543040"/>
            <a:chExt cx="344520" cy="406440"/>
          </a:xfrm>
        </p:grpSpPr>
        <p:sp>
          <p:nvSpPr>
            <p:cNvPr id="468" name=""/>
            <p:cNvSpPr/>
            <p:nvPr/>
          </p:nvSpPr>
          <p:spPr>
            <a:xfrm>
              <a:off x="2406600" y="2543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75000" y="260028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8360" y="28926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156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266" y="61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266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968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0" y="61"/>
                  </a:moveTo>
                  <a:lnTo>
                    <a:pt x="266" y="0"/>
                  </a:lnTo>
                  <a:lnTo>
                    <a:pt x="266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957240" y="2482920"/>
            <a:ext cx="700200" cy="2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515960" y="2252520"/>
            <a:ext cx="387360" cy="406440"/>
            <a:chOff x="1515960" y="2252520"/>
            <a:chExt cx="387360" cy="406440"/>
          </a:xfrm>
        </p:grpSpPr>
        <p:sp>
          <p:nvSpPr>
            <p:cNvPr id="475" name=""/>
            <p:cNvSpPr/>
            <p:nvPr/>
          </p:nvSpPr>
          <p:spPr>
            <a:xfrm>
              <a:off x="1649520" y="225252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87400" y="225252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15960" y="22986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60600" y="2276640"/>
              <a:ext cx="93960" cy="43200"/>
            </a:xfrm>
            <a:custGeom>
              <a:avLst/>
              <a:gdLst/>
              <a:ahLst/>
              <a:rect l="0" t="0" r="r" b="b"/>
              <a:pathLst>
                <a:path w="261" h="120">
                  <a:moveTo>
                    <a:pt x="261" y="62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261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874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0" y="62"/>
                  </a:moveTo>
                  <a:lnTo>
                    <a:pt x="266" y="0"/>
                  </a:lnTo>
                  <a:lnTo>
                    <a:pt x="266" y="12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 txBox="1"/>
          <p:nvPr/>
        </p:nvSpPr>
        <p:spPr>
          <a:xfrm>
            <a:off x="1873080" y="236052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560680" y="259092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730680" y="262260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247920" y="238284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164120" y="237168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2640" y="237636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923000" y="260208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61920" y="3589200"/>
            <a:ext cx="722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00320" y="3409920"/>
            <a:ext cx="81000" cy="1843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00480" y="3409920"/>
            <a:ext cx="974880" cy="1843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06920" y="3409920"/>
            <a:ext cx="974880" cy="1843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464000" y="3409920"/>
            <a:ext cx="974880" cy="1843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3409920"/>
            <a:ext cx="974880" cy="1843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02400" y="3395520"/>
            <a:ext cx="83664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71560" y="3381480"/>
            <a:ext cx="431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07080" y="271764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76840" y="3279600"/>
            <a:ext cx="52920" cy="79560"/>
          </a:xfrm>
          <a:custGeom>
            <a:avLst/>
            <a:gdLst/>
            <a:ahLst/>
            <a:rect l="0" t="0" r="r" b="b"/>
            <a:pathLst>
              <a:path w="147" h="221">
                <a:moveTo>
                  <a:pt x="75" y="221"/>
                </a:moveTo>
                <a:lnTo>
                  <a:pt x="147" y="0"/>
                </a:lnTo>
                <a:lnTo>
                  <a:pt x="0" y="0"/>
                </a:lnTo>
                <a:lnTo>
                  <a:pt x="75" y="22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662440" y="3081240"/>
            <a:ext cx="72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NA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284720" y="2638440"/>
            <a:ext cx="46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097680" y="2233440"/>
            <a:ext cx="12826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Peri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707080" y="2484360"/>
            <a:ext cx="206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21480" y="244332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1"/>
                </a:moveTo>
                <a:lnTo>
                  <a:pt x="0" y="0"/>
                </a:lnTo>
                <a:lnTo>
                  <a:pt x="0" y="204"/>
                </a:lnTo>
                <a:lnTo>
                  <a:pt x="693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34080" y="244332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1"/>
                </a:moveTo>
                <a:lnTo>
                  <a:pt x="693" y="0"/>
                </a:lnTo>
                <a:lnTo>
                  <a:pt x="693" y="204"/>
                </a:lnTo>
                <a:lnTo>
                  <a:pt x="0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64480" y="3409920"/>
            <a:ext cx="81000" cy="1843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74840" y="2077920"/>
            <a:ext cx="433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07080" y="19620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374840" y="20368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1"/>
                </a:moveTo>
                <a:lnTo>
                  <a:pt x="693" y="0"/>
                </a:lnTo>
                <a:lnTo>
                  <a:pt x="693" y="204"/>
                </a:lnTo>
                <a:lnTo>
                  <a:pt x="0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457960" y="20368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1"/>
                </a:moveTo>
                <a:lnTo>
                  <a:pt x="0" y="0"/>
                </a:lnTo>
                <a:lnTo>
                  <a:pt x="0" y="204"/>
                </a:lnTo>
                <a:lnTo>
                  <a:pt x="693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522520" y="1847880"/>
            <a:ext cx="15271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Free Bur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578640" y="2627280"/>
            <a:ext cx="960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 = AP-Fr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578640" y="2801880"/>
            <a:ext cx="1157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x = Station-Fr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365800" y="2570040"/>
            <a:ext cx="596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_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92400" y="3403440"/>
            <a:ext cx="4421160" cy="19836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32560" y="350208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21480" y="34750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5"/>
                </a:moveTo>
                <a:lnTo>
                  <a:pt x="0" y="0"/>
                </a:lnTo>
                <a:lnTo>
                  <a:pt x="0" y="204"/>
                </a:lnTo>
                <a:lnTo>
                  <a:pt x="693" y="1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41920" y="34606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1"/>
                </a:moveTo>
                <a:lnTo>
                  <a:pt x="693" y="0"/>
                </a:lnTo>
                <a:lnTo>
                  <a:pt x="693" y="204"/>
                </a:lnTo>
                <a:lnTo>
                  <a:pt x="0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638760" y="3592440"/>
            <a:ext cx="1314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Contention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194600" y="34956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2565360"/>
            <a:ext cx="644400" cy="10152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88840" y="2522520"/>
            <a:ext cx="6397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533600" y="2093760"/>
            <a:ext cx="40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238480" y="2914560"/>
            <a:ext cx="398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92280" y="3581280"/>
            <a:ext cx="7740720" cy="26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rst of Fragments which are individually acknowled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Unicast frames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backoff and retransmission of failing fragment when no ACK is retu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ormation in data fragments and Ack frames causes NAV to be set, for medium reservation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2560" y="1133640"/>
            <a:ext cx="7750080" cy="231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06680" y="1798560"/>
            <a:ext cx="2868480" cy="314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5840" y="2119320"/>
            <a:ext cx="2127240" cy="255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808360" y="2695680"/>
            <a:ext cx="81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994200" y="3195720"/>
            <a:ext cx="561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8320" y="26100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92200" y="310356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7984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95640" y="2664000"/>
            <a:ext cx="88560" cy="95760"/>
          </a:xfrm>
          <a:custGeom>
            <a:avLst/>
            <a:gdLst/>
            <a:ahLst/>
            <a:rect l="0" t="0" r="r" b="b"/>
            <a:pathLst>
              <a:path w="246" h="266">
                <a:moveTo>
                  <a:pt x="246" y="266"/>
                </a:moveTo>
                <a:lnTo>
                  <a:pt x="242" y="0"/>
                </a:lnTo>
                <a:lnTo>
                  <a:pt x="242" y="0"/>
                </a:lnTo>
                <a:cubicBezTo>
                  <a:pt x="200" y="1"/>
                  <a:pt x="159" y="13"/>
                  <a:pt x="123" y="36"/>
                </a:cubicBezTo>
                <a:cubicBezTo>
                  <a:pt x="85" y="59"/>
                  <a:pt x="54" y="93"/>
                  <a:pt x="33" y="133"/>
                </a:cubicBezTo>
                <a:cubicBezTo>
                  <a:pt x="13" y="171"/>
                  <a:pt x="1" y="213"/>
                  <a:pt x="0" y="257"/>
                </a:cubicBezTo>
                <a:lnTo>
                  <a:pt x="246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40760" y="2664000"/>
            <a:ext cx="77400" cy="95760"/>
          </a:xfrm>
          <a:custGeom>
            <a:avLst/>
            <a:gdLst/>
            <a:ahLst/>
            <a:rect l="0" t="0" r="r" b="b"/>
            <a:pathLst>
              <a:path w="215" h="266">
                <a:moveTo>
                  <a:pt x="0" y="266"/>
                </a:moveTo>
                <a:lnTo>
                  <a:pt x="215" y="257"/>
                </a:lnTo>
                <a:lnTo>
                  <a:pt x="215" y="257"/>
                </a:lnTo>
                <a:cubicBezTo>
                  <a:pt x="214" y="213"/>
                  <a:pt x="204" y="171"/>
                  <a:pt x="186" y="133"/>
                </a:cubicBezTo>
                <a:cubicBezTo>
                  <a:pt x="167" y="93"/>
                  <a:pt x="140" y="59"/>
                  <a:pt x="108" y="36"/>
                </a:cubicBezTo>
                <a:cubicBezTo>
                  <a:pt x="75" y="12"/>
                  <a:pt x="38" y="0"/>
                  <a:pt x="0" y="0"/>
                </a:cubicBezTo>
                <a:lnTo>
                  <a:pt x="0" y="0"/>
                </a:lnTo>
                <a:lnTo>
                  <a:pt x="0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59360" y="3157560"/>
            <a:ext cx="43344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56080" y="2664000"/>
            <a:ext cx="71640" cy="95760"/>
          </a:xfrm>
          <a:custGeom>
            <a:avLst/>
            <a:gdLst/>
            <a:ahLst/>
            <a:rect l="0" t="0" r="r" b="b"/>
            <a:pathLst>
              <a:path w="199" h="266">
                <a:moveTo>
                  <a:pt x="199" y="266"/>
                </a:moveTo>
                <a:lnTo>
                  <a:pt x="199" y="0"/>
                </a:lnTo>
                <a:lnTo>
                  <a:pt x="199" y="0"/>
                </a:lnTo>
                <a:lnTo>
                  <a:pt x="199" y="0"/>
                </a:lnTo>
                <a:cubicBezTo>
                  <a:pt x="164" y="0"/>
                  <a:pt x="130" y="12"/>
                  <a:pt x="99" y="36"/>
                </a:cubicBezTo>
                <a:cubicBezTo>
                  <a:pt x="69" y="59"/>
                  <a:pt x="44" y="93"/>
                  <a:pt x="27" y="133"/>
                </a:cubicBezTo>
                <a:cubicBezTo>
                  <a:pt x="10" y="171"/>
                  <a:pt x="1" y="213"/>
                  <a:pt x="0" y="257"/>
                </a:cubicBezTo>
                <a:lnTo>
                  <a:pt x="199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947960" y="3195720"/>
            <a:ext cx="43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6520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6040" y="2664000"/>
            <a:ext cx="88560" cy="95760"/>
          </a:xfrm>
          <a:custGeom>
            <a:avLst/>
            <a:gdLst/>
            <a:ahLst/>
            <a:rect l="0" t="0" r="r" b="b"/>
            <a:pathLst>
              <a:path w="246" h="266">
                <a:moveTo>
                  <a:pt x="246" y="266"/>
                </a:moveTo>
                <a:lnTo>
                  <a:pt x="242" y="0"/>
                </a:lnTo>
                <a:lnTo>
                  <a:pt x="242" y="0"/>
                </a:lnTo>
                <a:cubicBezTo>
                  <a:pt x="200" y="1"/>
                  <a:pt x="159" y="13"/>
                  <a:pt x="123" y="36"/>
                </a:cubicBezTo>
                <a:cubicBezTo>
                  <a:pt x="85" y="59"/>
                  <a:pt x="54" y="93"/>
                  <a:pt x="33" y="133"/>
                </a:cubicBezTo>
                <a:cubicBezTo>
                  <a:pt x="13" y="171"/>
                  <a:pt x="1" y="213"/>
                  <a:pt x="0" y="257"/>
                </a:cubicBezTo>
                <a:lnTo>
                  <a:pt x="246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24680" y="2664000"/>
            <a:ext cx="83520" cy="95760"/>
          </a:xfrm>
          <a:custGeom>
            <a:avLst/>
            <a:gdLst/>
            <a:ahLst/>
            <a:rect l="0" t="0" r="r" b="b"/>
            <a:pathLst>
              <a:path w="232" h="266">
                <a:moveTo>
                  <a:pt x="0" y="266"/>
                </a:moveTo>
                <a:lnTo>
                  <a:pt x="232" y="257"/>
                </a:lnTo>
                <a:lnTo>
                  <a:pt x="232" y="257"/>
                </a:lnTo>
                <a:cubicBezTo>
                  <a:pt x="231" y="213"/>
                  <a:pt x="220" y="171"/>
                  <a:pt x="201" y="133"/>
                </a:cubicBezTo>
                <a:cubicBezTo>
                  <a:pt x="181" y="93"/>
                  <a:pt x="151" y="59"/>
                  <a:pt x="116" y="36"/>
                </a:cubicBezTo>
                <a:cubicBezTo>
                  <a:pt x="81" y="12"/>
                  <a:pt x="41" y="0"/>
                  <a:pt x="0" y="0"/>
                </a:cubicBezTo>
                <a:lnTo>
                  <a:pt x="0" y="0"/>
                </a:lnTo>
                <a:lnTo>
                  <a:pt x="0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560600" y="25430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43280" y="3157560"/>
            <a:ext cx="43344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177920" y="2695680"/>
            <a:ext cx="43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73240" y="2657520"/>
            <a:ext cx="44928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65440" y="1887480"/>
            <a:ext cx="89388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701800" y="1862280"/>
            <a:ext cx="82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68560" y="2173320"/>
            <a:ext cx="8794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994120" y="2149560"/>
            <a:ext cx="82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92200" y="179244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380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6840" y="2543040"/>
            <a:ext cx="0" cy="120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2657520"/>
            <a:ext cx="103356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7664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012680" y="2109960"/>
            <a:ext cx="7396200" cy="1304640"/>
            <a:chOff x="1012680" y="2109960"/>
            <a:chExt cx="7396200" cy="1304640"/>
          </a:xfrm>
        </p:grpSpPr>
        <p:sp>
          <p:nvSpPr>
            <p:cNvPr id="556" name=""/>
            <p:cNvSpPr/>
            <p:nvPr/>
          </p:nvSpPr>
          <p:spPr>
            <a:xfrm>
              <a:off x="1012680" y="210996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12680" y="341460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12680" y="291456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623960" y="2717640"/>
            <a:ext cx="333720" cy="60840"/>
            <a:chOff x="1623960" y="2717640"/>
            <a:chExt cx="333720" cy="60840"/>
          </a:xfrm>
        </p:grpSpPr>
        <p:sp>
          <p:nvSpPr>
            <p:cNvPr id="560" name=""/>
            <p:cNvSpPr/>
            <p:nvPr/>
          </p:nvSpPr>
          <p:spPr>
            <a:xfrm>
              <a:off x="1690560" y="274968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23960" y="272088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82800" y="27176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367000" y="2717640"/>
            <a:ext cx="333720" cy="60840"/>
            <a:chOff x="2367000" y="2717640"/>
            <a:chExt cx="333720" cy="60840"/>
          </a:xfrm>
        </p:grpSpPr>
        <p:sp>
          <p:nvSpPr>
            <p:cNvPr id="564" name=""/>
            <p:cNvSpPr/>
            <p:nvPr/>
          </p:nvSpPr>
          <p:spPr>
            <a:xfrm>
              <a:off x="2433600" y="274968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67000" y="272088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25840" y="27176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736800" y="2717640"/>
            <a:ext cx="333720" cy="60840"/>
            <a:chOff x="3736800" y="2717640"/>
            <a:chExt cx="333720" cy="60840"/>
          </a:xfrm>
        </p:grpSpPr>
        <p:sp>
          <p:nvSpPr>
            <p:cNvPr id="568" name=""/>
            <p:cNvSpPr/>
            <p:nvPr/>
          </p:nvSpPr>
          <p:spPr>
            <a:xfrm>
              <a:off x="3803760" y="274968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36800" y="272088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95640" y="27176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 flipV="1">
            <a:off x="7202520" y="1855800"/>
            <a:ext cx="119160" cy="24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8096400" y="1852560"/>
            <a:ext cx="11412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342200" y="1855800"/>
            <a:ext cx="109440" cy="24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454880" y="1859040"/>
            <a:ext cx="10944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570800" y="1852560"/>
            <a:ext cx="11592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080120" y="1486080"/>
            <a:ext cx="0" cy="63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211880" y="117468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626160" y="1414440"/>
            <a:ext cx="458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721560" y="109548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7219800" y="1881360"/>
            <a:ext cx="110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-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633360" y="1922400"/>
            <a:ext cx="75960" cy="92520"/>
          </a:xfrm>
          <a:custGeom>
            <a:avLst/>
            <a:gdLst/>
            <a:ahLst/>
            <a:rect l="0" t="0" r="r" b="b"/>
            <a:pathLst>
              <a:path w="211" h="257">
                <a:moveTo>
                  <a:pt x="0" y="13"/>
                </a:moveTo>
                <a:lnTo>
                  <a:pt x="0" y="257"/>
                </a:lnTo>
                <a:lnTo>
                  <a:pt x="0" y="257"/>
                </a:lnTo>
                <a:lnTo>
                  <a:pt x="0" y="257"/>
                </a:lnTo>
                <a:cubicBezTo>
                  <a:pt x="37" y="257"/>
                  <a:pt x="74" y="246"/>
                  <a:pt x="106" y="224"/>
                </a:cubicBezTo>
                <a:cubicBezTo>
                  <a:pt x="138" y="203"/>
                  <a:pt x="165" y="172"/>
                  <a:pt x="183" y="136"/>
                </a:cubicBezTo>
                <a:cubicBezTo>
                  <a:pt x="202" y="99"/>
                  <a:pt x="211" y="57"/>
                  <a:pt x="211" y="14"/>
                </a:cubicBezTo>
                <a:cubicBezTo>
                  <a:pt x="211" y="9"/>
                  <a:pt x="211" y="5"/>
                  <a:pt x="211" y="0"/>
                </a:cubicBez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99400" y="1925640"/>
            <a:ext cx="88560" cy="89280"/>
          </a:xfrm>
          <a:custGeom>
            <a:avLst/>
            <a:gdLst/>
            <a:ahLst/>
            <a:rect l="0" t="0" r="r" b="b"/>
            <a:pathLst>
              <a:path w="246" h="248">
                <a:moveTo>
                  <a:pt x="246" y="4"/>
                </a:moveTo>
                <a:lnTo>
                  <a:pt x="0" y="0"/>
                </a:lnTo>
                <a:lnTo>
                  <a:pt x="0" y="0"/>
                </a:lnTo>
                <a:cubicBezTo>
                  <a:pt x="0" y="1"/>
                  <a:pt x="0" y="3"/>
                  <a:pt x="0" y="4"/>
                </a:cubicBezTo>
                <a:cubicBezTo>
                  <a:pt x="0" y="47"/>
                  <a:pt x="11" y="89"/>
                  <a:pt x="33" y="126"/>
                </a:cubicBezTo>
                <a:cubicBezTo>
                  <a:pt x="55" y="163"/>
                  <a:pt x="86" y="194"/>
                  <a:pt x="123" y="215"/>
                </a:cubicBezTo>
                <a:cubicBezTo>
                  <a:pt x="159" y="236"/>
                  <a:pt x="200" y="247"/>
                  <a:pt x="242" y="248"/>
                </a:cubicBezTo>
                <a:lnTo>
                  <a:pt x="24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21680" y="1855800"/>
            <a:ext cx="97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602400" y="117468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118200" y="3186000"/>
            <a:ext cx="561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118200" y="2654280"/>
            <a:ext cx="87480" cy="95760"/>
          </a:xfrm>
          <a:custGeom>
            <a:avLst/>
            <a:gdLst/>
            <a:ahLst/>
            <a:rect l="0" t="0" r="r" b="b"/>
            <a:pathLst>
              <a:path w="243" h="266">
                <a:moveTo>
                  <a:pt x="243" y="266"/>
                </a:moveTo>
                <a:lnTo>
                  <a:pt x="239" y="0"/>
                </a:lnTo>
                <a:lnTo>
                  <a:pt x="239" y="0"/>
                </a:lnTo>
                <a:cubicBezTo>
                  <a:pt x="198" y="1"/>
                  <a:pt x="157" y="13"/>
                  <a:pt x="121" y="36"/>
                </a:cubicBezTo>
                <a:cubicBezTo>
                  <a:pt x="84" y="59"/>
                  <a:pt x="54" y="93"/>
                  <a:pt x="32" y="133"/>
                </a:cubicBezTo>
                <a:cubicBezTo>
                  <a:pt x="12" y="171"/>
                  <a:pt x="1" y="213"/>
                  <a:pt x="0" y="257"/>
                </a:cubicBezTo>
                <a:lnTo>
                  <a:pt x="243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63320" y="2654280"/>
            <a:ext cx="75600" cy="95760"/>
          </a:xfrm>
          <a:custGeom>
            <a:avLst/>
            <a:gdLst/>
            <a:ahLst/>
            <a:rect l="0" t="0" r="r" b="b"/>
            <a:pathLst>
              <a:path w="210" h="266">
                <a:moveTo>
                  <a:pt x="0" y="266"/>
                </a:moveTo>
                <a:lnTo>
                  <a:pt x="210" y="257"/>
                </a:lnTo>
                <a:lnTo>
                  <a:pt x="210" y="257"/>
                </a:lnTo>
                <a:cubicBezTo>
                  <a:pt x="209" y="213"/>
                  <a:pt x="199" y="171"/>
                  <a:pt x="182" y="133"/>
                </a:cubicBezTo>
                <a:cubicBezTo>
                  <a:pt x="164" y="93"/>
                  <a:pt x="137" y="59"/>
                  <a:pt x="105" y="36"/>
                </a:cubicBezTo>
                <a:cubicBezTo>
                  <a:pt x="73" y="12"/>
                  <a:pt x="37" y="0"/>
                  <a:pt x="0" y="0"/>
                </a:cubicBezTo>
                <a:lnTo>
                  <a:pt x="0" y="0"/>
                </a:lnTo>
                <a:lnTo>
                  <a:pt x="0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778280" y="2654280"/>
            <a:ext cx="70920" cy="95760"/>
          </a:xfrm>
          <a:custGeom>
            <a:avLst/>
            <a:gdLst/>
            <a:ahLst/>
            <a:rect l="0" t="0" r="r" b="b"/>
            <a:pathLst>
              <a:path w="197" h="266">
                <a:moveTo>
                  <a:pt x="197" y="266"/>
                </a:moveTo>
                <a:lnTo>
                  <a:pt x="197" y="0"/>
                </a:lnTo>
                <a:lnTo>
                  <a:pt x="197" y="0"/>
                </a:lnTo>
                <a:lnTo>
                  <a:pt x="197" y="0"/>
                </a:lnTo>
                <a:cubicBezTo>
                  <a:pt x="162" y="0"/>
                  <a:pt x="128" y="12"/>
                  <a:pt x="98" y="36"/>
                </a:cubicBezTo>
                <a:cubicBezTo>
                  <a:pt x="68" y="59"/>
                  <a:pt x="44" y="93"/>
                  <a:pt x="26" y="133"/>
                </a:cubicBezTo>
                <a:cubicBezTo>
                  <a:pt x="10" y="171"/>
                  <a:pt x="1" y="213"/>
                  <a:pt x="0" y="257"/>
                </a:cubicBezTo>
                <a:lnTo>
                  <a:pt x="197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27600" y="2533680"/>
            <a:ext cx="0" cy="12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929120" y="2685960"/>
            <a:ext cx="81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80120" y="3147840"/>
            <a:ext cx="43344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822920" y="2647800"/>
            <a:ext cx="103356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78120" y="1843200"/>
            <a:ext cx="2927520" cy="2635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76600" y="2119320"/>
            <a:ext cx="2119320" cy="2430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983120" y="1887480"/>
            <a:ext cx="106056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890960" y="186228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Fragment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92560" y="2157480"/>
            <a:ext cx="8794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054760" y="2131920"/>
            <a:ext cx="952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ACK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9800" y="235260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97760" y="254628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492800" y="2701800"/>
            <a:ext cx="331920" cy="60840"/>
            <a:chOff x="4492800" y="2701800"/>
            <a:chExt cx="331920" cy="60840"/>
          </a:xfrm>
        </p:grpSpPr>
        <p:sp>
          <p:nvSpPr>
            <p:cNvPr id="602" name=""/>
            <p:cNvSpPr/>
            <p:nvPr/>
          </p:nvSpPr>
          <p:spPr>
            <a:xfrm>
              <a:off x="4557600" y="27338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92800" y="27050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751280" y="2701800"/>
              <a:ext cx="73440" cy="57600"/>
            </a:xfrm>
            <a:custGeom>
              <a:avLst/>
              <a:gdLst/>
              <a:ahLst/>
              <a:rect l="0" t="0" r="r" b="b"/>
              <a:pathLst>
                <a:path w="204" h="160">
                  <a:moveTo>
                    <a:pt x="204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4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5859360" y="2698920"/>
            <a:ext cx="333720" cy="60480"/>
            <a:chOff x="5859360" y="2698920"/>
            <a:chExt cx="333720" cy="60480"/>
          </a:xfrm>
        </p:grpSpPr>
        <p:sp>
          <p:nvSpPr>
            <p:cNvPr id="606" name=""/>
            <p:cNvSpPr/>
            <p:nvPr/>
          </p:nvSpPr>
          <p:spPr>
            <a:xfrm>
              <a:off x="5924520" y="273060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59360" y="270180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18200" y="269892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605640" y="1893960"/>
            <a:ext cx="332280" cy="60840"/>
            <a:chOff x="6605640" y="1893960"/>
            <a:chExt cx="332280" cy="60840"/>
          </a:xfrm>
        </p:grpSpPr>
        <p:sp>
          <p:nvSpPr>
            <p:cNvPr id="610" name=""/>
            <p:cNvSpPr/>
            <p:nvPr/>
          </p:nvSpPr>
          <p:spPr>
            <a:xfrm>
              <a:off x="6670800" y="19256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05640" y="189720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64480" y="1893960"/>
              <a:ext cx="73440" cy="57600"/>
            </a:xfrm>
            <a:custGeom>
              <a:avLst/>
              <a:gdLst/>
              <a:ahLst/>
              <a:rect l="0" t="0" r="r" b="b"/>
              <a:pathLst>
                <a:path w="204" h="160">
                  <a:moveTo>
                    <a:pt x="204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4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6572160" y="171612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943680" y="1741320"/>
            <a:ext cx="0" cy="3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667560" y="1598760"/>
            <a:ext cx="39528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602400" y="157320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0" y="80"/>
                </a:moveTo>
                <a:lnTo>
                  <a:pt x="208" y="0"/>
                </a:lnTo>
                <a:lnTo>
                  <a:pt x="208" y="160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997680" y="156996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208" y="80"/>
                </a:moveTo>
                <a:lnTo>
                  <a:pt x="0" y="0"/>
                </a:lnTo>
                <a:lnTo>
                  <a:pt x="0" y="160"/>
                </a:lnTo>
                <a:lnTo>
                  <a:pt x="208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670800" y="1292400"/>
            <a:ext cx="51120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605640" y="127008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0" y="80"/>
                </a:moveTo>
                <a:lnTo>
                  <a:pt x="208" y="0"/>
                </a:lnTo>
                <a:lnTo>
                  <a:pt x="208" y="160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30880" y="126360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208" y="80"/>
                </a:moveTo>
                <a:lnTo>
                  <a:pt x="0" y="0"/>
                </a:lnTo>
                <a:lnTo>
                  <a:pt x="0" y="160"/>
                </a:lnTo>
                <a:lnTo>
                  <a:pt x="208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92280" y="4140360"/>
            <a:ext cx="7740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Header format differs per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Frames (several fields are omit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s Sequence Control Field for filtering of duplicate caused by ACK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0400" y="1139760"/>
            <a:ext cx="7953480" cy="166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58760" y="1755720"/>
            <a:ext cx="746748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968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2244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58800" y="1787400"/>
            <a:ext cx="687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58800" y="200484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533600" y="178740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752480" y="200484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7024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446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1194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3526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2274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1004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9284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8672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8482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027760" y="1787400"/>
            <a:ext cx="895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27760" y="200484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724880" y="1755720"/>
            <a:ext cx="79848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759800" y="1862280"/>
            <a:ext cx="652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85000" y="1754280"/>
            <a:ext cx="7952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85000" y="1971720"/>
            <a:ext cx="6634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9874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8604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7352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6100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48164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2308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3560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885000" y="1427040"/>
            <a:ext cx="7952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23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9786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98600" y="2514600"/>
            <a:ext cx="2084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Head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1520" y="2535120"/>
            <a:ext cx="6118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27120" y="2481120"/>
            <a:ext cx="6144120" cy="108360"/>
            <a:chOff x="627120" y="2481120"/>
            <a:chExt cx="6144120" cy="108360"/>
          </a:xfrm>
        </p:grpSpPr>
        <p:sp>
          <p:nvSpPr>
            <p:cNvPr id="660" name=""/>
            <p:cNvSpPr/>
            <p:nvPr/>
          </p:nvSpPr>
          <p:spPr>
            <a:xfrm>
              <a:off x="627120" y="2481120"/>
              <a:ext cx="219600" cy="108360"/>
            </a:xfrm>
            <a:custGeom>
              <a:avLst/>
              <a:gdLst/>
              <a:ahLst/>
              <a:rect l="0" t="0" r="r" b="b"/>
              <a:pathLst>
                <a:path w="610" h="301">
                  <a:moveTo>
                    <a:pt x="0" y="150"/>
                  </a:moveTo>
                  <a:lnTo>
                    <a:pt x="610" y="0"/>
                  </a:lnTo>
                  <a:lnTo>
                    <a:pt x="610" y="30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51640" y="2481120"/>
              <a:ext cx="219600" cy="108360"/>
            </a:xfrm>
            <a:custGeom>
              <a:avLst/>
              <a:gdLst/>
              <a:ahLst/>
              <a:rect l="0" t="0" r="r" b="b"/>
              <a:pathLst>
                <a:path w="610" h="301">
                  <a:moveTo>
                    <a:pt x="610" y="150"/>
                  </a:moveTo>
                  <a:lnTo>
                    <a:pt x="0" y="0"/>
                  </a:lnTo>
                  <a:lnTo>
                    <a:pt x="0" y="301"/>
                  </a:lnTo>
                  <a:lnTo>
                    <a:pt x="610" y="15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 txBox="1"/>
          <p:nvPr/>
        </p:nvSpPr>
        <p:spPr>
          <a:xfrm>
            <a:off x="550800" y="1101600"/>
            <a:ext cx="760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58760" y="2911320"/>
            <a:ext cx="7170840" cy="11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514520" y="3137040"/>
            <a:ext cx="669780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41400" y="3137040"/>
            <a:ext cx="6922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76400" y="3137040"/>
            <a:ext cx="80316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496960" y="3137040"/>
            <a:ext cx="90792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370320" y="3137040"/>
            <a:ext cx="582480" cy="582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664240" y="3137040"/>
            <a:ext cx="68724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319800" y="3137040"/>
            <a:ext cx="6904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521480" y="3137040"/>
            <a:ext cx="6904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114560" y="3192480"/>
            <a:ext cx="735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114560" y="340992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878120" y="330048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533680" y="3300480"/>
            <a:ext cx="768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517920" y="319248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517920" y="3409920"/>
            <a:ext cx="37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154480" y="3300480"/>
            <a:ext cx="55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700600" y="3192480"/>
            <a:ext cx="45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700600" y="3409920"/>
            <a:ext cx="45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356520" y="3192480"/>
            <a:ext cx="539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356520" y="340992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7010280" y="3300480"/>
            <a:ext cx="53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556400" y="330048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408480" y="3789360"/>
            <a:ext cx="20908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Control Fie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004760" y="2865600"/>
            <a:ext cx="60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: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9875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7525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51792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06404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7163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26248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581040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4641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712008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66620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16440" y="3137040"/>
            <a:ext cx="692280" cy="582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954600" y="3409920"/>
            <a:ext cx="37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954600" y="3192480"/>
            <a:ext cx="547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518000" y="3137040"/>
            <a:ext cx="6922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608360" y="3192480"/>
            <a:ext cx="539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08360" y="340992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ddress Field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92280" y="3174840"/>
            <a:ext cx="7740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1 = All stations filter on this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2 = Transmitter Address (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transmitter to address the ACK frame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3 = Dependent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4 = Only needed to identify the original source of  W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Distribution Syste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23800" y="1276200"/>
            <a:ext cx="80280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rivacy and Access Control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92280" y="1160640"/>
            <a:ext cx="80834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of 802.11 is to provide “Wired Equivalent Privacy” (W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able 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provides for an Authentica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id in access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provisions for “OPEN”, “Shared Key” or proprietary authentication exten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 (WEP) Privacy mechanism defined by 802.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ed for Station-to-Station traffic, so not “end to en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bedded in the MAC ent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implements “Confidentiality”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RC4 PRNG algorithm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40 bit secret key (No Key distribution standardiz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a 24 bit IV that is send with the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s an ICV to allow integrity che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payload of Data frames are encry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cryption on per MPDU ba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rivacy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92280" y="4952880"/>
            <a:ext cx="774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P bit in Frame Control Field indicates WEP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frame can have a new IV, or IV can be reused for a limited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integrity check fails then frame is ACKed but disca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46280" y="1484280"/>
            <a:ext cx="7642080" cy="143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83600" y="25830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35160" y="2428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33520" y="2583000"/>
            <a:ext cx="1906920" cy="230400"/>
          </a:xfrm>
          <a:custGeom>
            <a:avLst/>
            <a:gdLst/>
            <a:ahLst/>
            <a:rect l="0" t="0" r="r" b="b"/>
            <a:pathLst>
              <a:path fill="none" w="5297" h="640">
                <a:moveTo>
                  <a:pt x="0" y="0"/>
                </a:moveTo>
                <a:lnTo>
                  <a:pt x="0" y="640"/>
                </a:lnTo>
                <a:lnTo>
                  <a:pt x="5297" y="64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27480" y="1727280"/>
            <a:ext cx="558720" cy="11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95960" y="1727280"/>
            <a:ext cx="558720" cy="11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82680" y="1957320"/>
            <a:ext cx="48420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793960" y="2185920"/>
            <a:ext cx="32868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73200" y="2722680"/>
            <a:ext cx="863640" cy="17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03480" y="1816200"/>
            <a:ext cx="2135520" cy="230400"/>
          </a:xfrm>
          <a:custGeom>
            <a:avLst/>
            <a:gdLst/>
            <a:ahLst/>
            <a:rect l="0" t="0" r="r" b="b"/>
            <a:pathLst>
              <a:path fill="none" w="5932" h="640">
                <a:moveTo>
                  <a:pt x="0" y="640"/>
                </a:moveTo>
                <a:lnTo>
                  <a:pt x="1371" y="640"/>
                </a:lnTo>
                <a:lnTo>
                  <a:pt x="912" y="640"/>
                </a:lnTo>
                <a:lnTo>
                  <a:pt x="912" y="0"/>
                </a:lnTo>
                <a:lnTo>
                  <a:pt x="5932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203480" y="227664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49520" y="1957320"/>
            <a:ext cx="33012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967040" y="2122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652840" y="2122560"/>
            <a:ext cx="154440" cy="230400"/>
          </a:xfrm>
          <a:custGeom>
            <a:avLst/>
            <a:gdLst/>
            <a:ahLst/>
            <a:rect l="0" t="0" r="r" b="b"/>
            <a:pathLst>
              <a:path fill="none" w="429" h="640">
                <a:moveTo>
                  <a:pt x="0" y="0"/>
                </a:moveTo>
                <a:lnTo>
                  <a:pt x="217" y="0"/>
                </a:lnTo>
                <a:lnTo>
                  <a:pt x="217" y="640"/>
                </a:lnTo>
                <a:lnTo>
                  <a:pt x="429" y="64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203480" y="2583000"/>
            <a:ext cx="160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181240" y="196380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2181240" y="211788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884160" y="188748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402000" y="181116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55560" y="2117880"/>
            <a:ext cx="773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738440" y="204624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814400" y="204624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566720" y="2701800"/>
            <a:ext cx="88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Al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70280" y="2340000"/>
            <a:ext cx="177840" cy="1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825640" y="2328840"/>
            <a:ext cx="25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249720" y="2292480"/>
            <a:ext cx="652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402000" y="2654280"/>
            <a:ext cx="417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951360" y="2352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55920" y="2276640"/>
            <a:ext cx="76680" cy="152640"/>
          </a:xfrm>
          <a:custGeom>
            <a:avLst/>
            <a:gdLst/>
            <a:ahLst/>
            <a:rect l="0" t="0" r="r" b="b"/>
            <a:pathLst>
              <a:path w="213" h="424">
                <a:moveTo>
                  <a:pt x="0" y="0"/>
                </a:moveTo>
                <a:lnTo>
                  <a:pt x="213" y="211"/>
                </a:lnTo>
                <a:lnTo>
                  <a:pt x="0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197160" y="177480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97160" y="238752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197160" y="2770200"/>
            <a:ext cx="136800" cy="74880"/>
          </a:xfrm>
          <a:custGeom>
            <a:avLst/>
            <a:gdLst/>
            <a:ahLst/>
            <a:rect l="0" t="0" r="r" b="b"/>
            <a:pathLst>
              <a:path w="380" h="208">
                <a:moveTo>
                  <a:pt x="380" y="106"/>
                </a:moveTo>
                <a:lnTo>
                  <a:pt x="0" y="0"/>
                </a:lnTo>
                <a:lnTo>
                  <a:pt x="0" y="208"/>
                </a:lnTo>
                <a:lnTo>
                  <a:pt x="380" y="1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921280" y="1727280"/>
            <a:ext cx="48276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532560" y="1957320"/>
            <a:ext cx="328680" cy="48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941720" y="2046240"/>
            <a:ext cx="459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88120" y="1727280"/>
            <a:ext cx="33012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705640" y="18921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91440" y="1892160"/>
            <a:ext cx="154440" cy="230400"/>
          </a:xfrm>
          <a:custGeom>
            <a:avLst/>
            <a:gdLst/>
            <a:ahLst/>
            <a:rect l="0" t="0" r="r" b="b"/>
            <a:pathLst>
              <a:path fill="none" w="429" h="640">
                <a:moveTo>
                  <a:pt x="0" y="0"/>
                </a:moveTo>
                <a:lnTo>
                  <a:pt x="212" y="0"/>
                </a:lnTo>
                <a:lnTo>
                  <a:pt x="212" y="640"/>
                </a:lnTo>
                <a:lnTo>
                  <a:pt x="429" y="64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41720" y="2352600"/>
            <a:ext cx="1603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918040" y="173340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918040" y="188748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468680" y="181116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477040" y="1816200"/>
            <a:ext cx="0" cy="15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53000" y="1816200"/>
            <a:ext cx="0" cy="15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608880" y="2109960"/>
            <a:ext cx="177840" cy="1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562800" y="2098800"/>
            <a:ext cx="25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941720" y="1509840"/>
            <a:ext cx="459000" cy="306720"/>
          </a:xfrm>
          <a:custGeom>
            <a:avLst/>
            <a:gdLst/>
            <a:ahLst/>
            <a:rect l="0" t="0" r="r" b="b"/>
            <a:pathLst>
              <a:path fill="none" w="1275" h="852">
                <a:moveTo>
                  <a:pt x="0" y="0"/>
                </a:moveTo>
                <a:lnTo>
                  <a:pt x="635" y="0"/>
                </a:lnTo>
                <a:lnTo>
                  <a:pt x="635" y="852"/>
                </a:lnTo>
                <a:lnTo>
                  <a:pt x="1275" y="85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316400" y="1504800"/>
            <a:ext cx="773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16400" y="2216160"/>
            <a:ext cx="652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468680" y="2654280"/>
            <a:ext cx="417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50080" y="2200320"/>
            <a:ext cx="6843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941720" y="2735280"/>
            <a:ext cx="2594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532560" y="2494080"/>
            <a:ext cx="863640" cy="17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524640" y="2471760"/>
            <a:ext cx="88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Al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002360" y="2200320"/>
            <a:ext cx="0" cy="306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469280" y="2157480"/>
            <a:ext cx="136800" cy="74880"/>
          </a:xfrm>
          <a:custGeom>
            <a:avLst/>
            <a:gdLst/>
            <a:ahLst/>
            <a:rect l="0" t="0" r="r" b="b"/>
            <a:pathLst>
              <a:path w="380" h="208">
                <a:moveTo>
                  <a:pt x="380" y="101"/>
                </a:moveTo>
                <a:lnTo>
                  <a:pt x="0" y="0"/>
                </a:lnTo>
                <a:lnTo>
                  <a:pt x="0" y="208"/>
                </a:lnTo>
                <a:lnTo>
                  <a:pt x="380" y="10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469280" y="269388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69280" y="254160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7291440" y="1887480"/>
            <a:ext cx="67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in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7596360" y="2500200"/>
            <a:ext cx="820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'=ICV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55560" y="2424240"/>
            <a:ext cx="67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in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936960" y="201924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88960" y="3427560"/>
            <a:ext cx="5902200" cy="12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03360" y="3440160"/>
            <a:ext cx="5622840" cy="4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593720" y="3522600"/>
            <a:ext cx="706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428920" y="3522600"/>
            <a:ext cx="949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430440" y="3522600"/>
            <a:ext cx="92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603840" y="3522600"/>
            <a:ext cx="458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183280" y="3522600"/>
            <a:ext cx="622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5260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35448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44024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52788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0240" y="406728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440240" y="3989520"/>
            <a:ext cx="251280" cy="154440"/>
          </a:xfrm>
          <a:custGeom>
            <a:avLst/>
            <a:gdLst/>
            <a:ahLst/>
            <a:rect l="0" t="0" r="r" b="b"/>
            <a:pathLst>
              <a:path w="698" h="429">
                <a:moveTo>
                  <a:pt x="0" y="217"/>
                </a:moveTo>
                <a:lnTo>
                  <a:pt x="698" y="0"/>
                </a:lnTo>
                <a:lnTo>
                  <a:pt x="698" y="429"/>
                </a:lnTo>
                <a:lnTo>
                  <a:pt x="0" y="21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276960" y="3989520"/>
            <a:ext cx="251280" cy="154440"/>
          </a:xfrm>
          <a:custGeom>
            <a:avLst/>
            <a:gdLst/>
            <a:ahLst/>
            <a:rect l="0" t="0" r="r" b="b"/>
            <a:pathLst>
              <a:path w="698" h="429">
                <a:moveTo>
                  <a:pt x="698" y="217"/>
                </a:moveTo>
                <a:lnTo>
                  <a:pt x="0" y="0"/>
                </a:lnTo>
                <a:lnTo>
                  <a:pt x="0" y="429"/>
                </a:lnTo>
                <a:lnTo>
                  <a:pt x="698" y="21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5016600" y="382896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91000" y="4361040"/>
            <a:ext cx="3786120" cy="255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597120" y="4367160"/>
            <a:ext cx="504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6686640" y="4367160"/>
            <a:ext cx="596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440240" y="4373640"/>
            <a:ext cx="0" cy="230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27880" y="4373640"/>
            <a:ext cx="0" cy="230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932360" y="4367160"/>
            <a:ext cx="798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pher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06880" y="4373640"/>
            <a:ext cx="0" cy="230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057560" y="4367160"/>
            <a:ext cx="466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590920"/>
            <a:ext cx="2362320" cy="1981080"/>
          </a:xfrm>
          <a:prstGeom prst="rect">
            <a:avLst/>
          </a:prstGeom>
          <a:solidFill>
            <a:srgbClr val="fef5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upport for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31960" y="2895480"/>
            <a:ext cx="31305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2590920"/>
            <a:ext cx="525780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371600" y="45720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267080" y="25909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371600" y="54864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29400" y="6324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534520" y="243828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054160" y="254484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54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54160" y="53640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483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576840" y="31399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576840" y="49687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67120" y="3592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833480" y="2863800"/>
            <a:ext cx="1714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1455840" y="47671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598760" y="5681520"/>
            <a:ext cx="24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419720" y="2722680"/>
            <a:ext cx="2209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648320" y="4702320"/>
            <a:ext cx="1987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781680" y="3787920"/>
            <a:ext cx="1987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935000" y="1677960"/>
            <a:ext cx="157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28800" y="167652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4200" y="333684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290520" y="516564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8600" y="45720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590920"/>
            <a:ext cx="2895480" cy="1981080"/>
          </a:xfrm>
          <a:prstGeom prst="rect">
            <a:avLst/>
          </a:prstGeom>
          <a:solidFill>
            <a:srgbClr val="ffff4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31960" y="2895480"/>
            <a:ext cx="31305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2590920"/>
            <a:ext cx="525780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5720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5909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371600" y="54864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6324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534520" y="243828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4160" y="254484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4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4160" y="53640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3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76840" y="31399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76840" y="49687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3581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57240" y="3103560"/>
            <a:ext cx="1889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C Sub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55840" y="47671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8760" y="5681520"/>
            <a:ext cx="24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0" y="2722680"/>
            <a:ext cx="198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4702320"/>
            <a:ext cx="1987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81680" y="3787920"/>
            <a:ext cx="1987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35000" y="1677960"/>
            <a:ext cx="157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67652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4200" y="333684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0520" y="516564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28600" y="45720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Managemen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nd staying with a W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SF Timer, Beaco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eeping without missing an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ic sleep, frame buffering, Traffic Indication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ion and Re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ming, moving from one AP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Informatio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14520" y="552600"/>
            <a:ext cx="779148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in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 (T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sent at well know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timers in BSS are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Point Coordination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predict start of Contention Free 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Hop Timing for FH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time Dwel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s are synchronized, so they hop at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6840" y="148608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600120" y="1332000"/>
            <a:ext cx="83059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tations maintain a local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s timers from all stations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controls timing in infrastructur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function for Independent B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conveyed by periodic Beacon trans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contain Timestamp for the entire 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 from Beacons used to calibrate local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quired to hear every Beacon to stay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contain other managem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 used for Power Management, Ro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Beacon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96840" y="3448080"/>
            <a:ext cx="7785000" cy="25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send Beacons in infrastructure networ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scheduled a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may be delayed by CSMA defer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equent transmissions at expected Beaco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lative to last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Beacon sent at Target Beacon Transmiss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contains timer value at transmi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82840" y="1204920"/>
            <a:ext cx="4246560" cy="21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08400" y="1973160"/>
            <a:ext cx="4047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560680" y="1819440"/>
            <a:ext cx="993600" cy="306360"/>
            <a:chOff x="2560680" y="1819440"/>
            <a:chExt cx="993600" cy="306360"/>
          </a:xfrm>
        </p:grpSpPr>
        <p:sp>
          <p:nvSpPr>
            <p:cNvPr id="852" name=""/>
            <p:cNvSpPr/>
            <p:nvPr/>
          </p:nvSpPr>
          <p:spPr>
            <a:xfrm flipV="1">
              <a:off x="256068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560680" y="1973160"/>
              <a:ext cx="993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55428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546440" y="1819440"/>
            <a:ext cx="993960" cy="306360"/>
            <a:chOff x="4546440" y="1819440"/>
            <a:chExt cx="993960" cy="306360"/>
          </a:xfrm>
        </p:grpSpPr>
        <p:sp>
          <p:nvSpPr>
            <p:cNvPr id="856" name=""/>
            <p:cNvSpPr/>
            <p:nvPr/>
          </p:nvSpPr>
          <p:spPr>
            <a:xfrm flipV="1">
              <a:off x="454644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46440" y="1973160"/>
              <a:ext cx="993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554040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554280" y="1819440"/>
            <a:ext cx="992160" cy="306360"/>
            <a:chOff x="3554280" y="1819440"/>
            <a:chExt cx="992160" cy="306360"/>
          </a:xfrm>
        </p:grpSpPr>
        <p:sp>
          <p:nvSpPr>
            <p:cNvPr id="860" name=""/>
            <p:cNvSpPr/>
            <p:nvPr/>
          </p:nvSpPr>
          <p:spPr>
            <a:xfrm flipV="1">
              <a:off x="355428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54280" y="1973160"/>
              <a:ext cx="992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54644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 txBox="1"/>
          <p:nvPr/>
        </p:nvSpPr>
        <p:spPr>
          <a:xfrm>
            <a:off x="5753160" y="1714680"/>
            <a:ext cx="849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408400" y="2890800"/>
            <a:ext cx="4047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57440" y="2562120"/>
            <a:ext cx="101520" cy="3319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26000" y="2571840"/>
            <a:ext cx="103320" cy="3319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762440" y="2571840"/>
            <a:ext cx="103320" cy="3319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70280" y="2571840"/>
            <a:ext cx="101520" cy="3319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778120" y="2647800"/>
            <a:ext cx="25416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083040" y="2647800"/>
            <a:ext cx="10152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503520" y="2647800"/>
            <a:ext cx="25416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152960" y="2647800"/>
            <a:ext cx="10152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486320" y="2638440"/>
            <a:ext cx="25416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5120" y="2647800"/>
            <a:ext cx="17784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832360" y="2647800"/>
            <a:ext cx="40788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08200" y="1657440"/>
            <a:ext cx="944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295800" y="1619280"/>
            <a:ext cx="278280" cy="95760"/>
          </a:xfrm>
          <a:custGeom>
            <a:avLst/>
            <a:gdLst/>
            <a:ahLst/>
            <a:rect l="0" t="0" r="r" b="b"/>
            <a:pathLst>
              <a:path w="773" h="266">
                <a:moveTo>
                  <a:pt x="773" y="133"/>
                </a:moveTo>
                <a:lnTo>
                  <a:pt x="0" y="0"/>
                </a:lnTo>
                <a:lnTo>
                  <a:pt x="0" y="266"/>
                </a:lnTo>
                <a:lnTo>
                  <a:pt x="773" y="133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560680" y="1619280"/>
            <a:ext cx="278280" cy="95760"/>
          </a:xfrm>
          <a:custGeom>
            <a:avLst/>
            <a:gdLst/>
            <a:ahLst/>
            <a:rect l="0" t="0" r="r" b="b"/>
            <a:pathLst>
              <a:path w="773" h="266">
                <a:moveTo>
                  <a:pt x="0" y="133"/>
                </a:moveTo>
                <a:lnTo>
                  <a:pt x="773" y="0"/>
                </a:lnTo>
                <a:lnTo>
                  <a:pt x="773" y="266"/>
                </a:lnTo>
                <a:lnTo>
                  <a:pt x="0" y="133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460600" y="1303200"/>
            <a:ext cx="122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246060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365436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65444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540864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560680" y="2135160"/>
            <a:ext cx="76680" cy="363600"/>
            <a:chOff x="2560680" y="2135160"/>
            <a:chExt cx="76680" cy="363600"/>
          </a:xfrm>
        </p:grpSpPr>
        <p:sp>
          <p:nvSpPr>
            <p:cNvPr id="885" name=""/>
            <p:cNvSpPr/>
            <p:nvPr/>
          </p:nvSpPr>
          <p:spPr>
            <a:xfrm>
              <a:off x="2598840" y="21351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60680" y="2365200"/>
              <a:ext cx="76680" cy="133560"/>
            </a:xfrm>
            <a:custGeom>
              <a:avLst/>
              <a:gdLst/>
              <a:ahLst/>
              <a:rect l="0" t="0" r="r" b="b"/>
              <a:pathLst>
                <a:path w="213" h="371">
                  <a:moveTo>
                    <a:pt x="213" y="26"/>
                  </a:moveTo>
                  <a:lnTo>
                    <a:pt x="106" y="371"/>
                  </a:lnTo>
                  <a:lnTo>
                    <a:pt x="0" y="0"/>
                  </a:lnTo>
                  <a:lnTo>
                    <a:pt x="213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754440" y="2144880"/>
            <a:ext cx="76680" cy="363600"/>
            <a:chOff x="3754440" y="2144880"/>
            <a:chExt cx="76680" cy="363600"/>
          </a:xfrm>
        </p:grpSpPr>
        <p:sp>
          <p:nvSpPr>
            <p:cNvPr id="888" name=""/>
            <p:cNvSpPr/>
            <p:nvPr/>
          </p:nvSpPr>
          <p:spPr>
            <a:xfrm>
              <a:off x="3792600" y="21448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754440" y="2374920"/>
              <a:ext cx="76680" cy="133560"/>
            </a:xfrm>
            <a:custGeom>
              <a:avLst/>
              <a:gdLst/>
              <a:ahLst/>
              <a:rect l="0" t="0" r="r" b="b"/>
              <a:pathLst>
                <a:path w="213" h="371">
                  <a:moveTo>
                    <a:pt x="213" y="26"/>
                  </a:moveTo>
                  <a:lnTo>
                    <a:pt x="106" y="371"/>
                  </a:lnTo>
                  <a:lnTo>
                    <a:pt x="0" y="0"/>
                  </a:lnTo>
                  <a:lnTo>
                    <a:pt x="213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765680" y="2135160"/>
            <a:ext cx="78120" cy="363600"/>
            <a:chOff x="4765680" y="2135160"/>
            <a:chExt cx="78120" cy="363600"/>
          </a:xfrm>
        </p:grpSpPr>
        <p:sp>
          <p:nvSpPr>
            <p:cNvPr id="891" name=""/>
            <p:cNvSpPr/>
            <p:nvPr/>
          </p:nvSpPr>
          <p:spPr>
            <a:xfrm>
              <a:off x="4803840" y="21351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65680" y="2365200"/>
              <a:ext cx="78120" cy="133560"/>
            </a:xfrm>
            <a:custGeom>
              <a:avLst/>
              <a:gdLst/>
              <a:ahLst/>
              <a:rect l="0" t="0" r="r" b="b"/>
              <a:pathLst>
                <a:path w="217" h="371">
                  <a:moveTo>
                    <a:pt x="217" y="26"/>
                  </a:moveTo>
                  <a:lnTo>
                    <a:pt x="105" y="371"/>
                  </a:lnTo>
                  <a:lnTo>
                    <a:pt x="0" y="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5529240" y="2154240"/>
            <a:ext cx="78120" cy="363600"/>
            <a:chOff x="5529240" y="2154240"/>
            <a:chExt cx="78120" cy="363600"/>
          </a:xfrm>
        </p:grpSpPr>
        <p:sp>
          <p:nvSpPr>
            <p:cNvPr id="894" name=""/>
            <p:cNvSpPr/>
            <p:nvPr/>
          </p:nvSpPr>
          <p:spPr>
            <a:xfrm>
              <a:off x="5568840" y="215424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29240" y="2384280"/>
              <a:ext cx="78120" cy="133560"/>
            </a:xfrm>
            <a:custGeom>
              <a:avLst/>
              <a:gdLst/>
              <a:ahLst/>
              <a:rect l="0" t="0" r="r" b="b"/>
              <a:pathLst>
                <a:path w="217" h="371">
                  <a:moveTo>
                    <a:pt x="217" y="26"/>
                  </a:moveTo>
                  <a:lnTo>
                    <a:pt x="111" y="371"/>
                  </a:lnTo>
                  <a:lnTo>
                    <a:pt x="0" y="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 txBox="1"/>
          <p:nvPr/>
        </p:nvSpPr>
        <p:spPr>
          <a:xfrm>
            <a:off x="3776760" y="1514520"/>
            <a:ext cx="2224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ctual time" stamp in Bea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2470320" y="3044880"/>
            <a:ext cx="658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a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589120" y="293832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521160" y="3025800"/>
            <a:ext cx="109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621240" y="2928960"/>
            <a:ext cx="180720" cy="12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146480" y="2938320"/>
            <a:ext cx="5724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384800" y="2938320"/>
            <a:ext cx="199800" cy="13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976320" y="1335240"/>
            <a:ext cx="71629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devices are battery po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important for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LAN protocols assume stations are always ready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le receive state dominates LAN adapter power consumption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can we power off during idle periods, yet maintain an active s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.11 Power Management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transceiver to be off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ransparent to exis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flexible to support differ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le to trade off throughput for battery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85960" y="1217520"/>
            <a:ext cx="78883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idle stations to go to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’s power save mode stored in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buffer packets for sleeping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announces which stations have frames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 Indication Map (TIM) sent with every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Saving stations wake up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sten for Bea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assures AP and Power Save stations are 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will wake up to hear a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keeps running when stations are sl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allows extreme low power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BSS also have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in concept, distribu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868320" y="3292560"/>
            <a:ext cx="7648560" cy="13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frames are also buffer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broadcasts/multicasts are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s/multicasts are only sent after D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IM interval is a multiple of TIM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71560" y="184932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586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2543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5496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8448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405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4358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958680" y="2158920"/>
            <a:ext cx="85680" cy="233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227640" y="2158920"/>
            <a:ext cx="85680" cy="233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844880" y="2158920"/>
            <a:ext cx="87480" cy="233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22760" y="2158920"/>
            <a:ext cx="85680" cy="233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2158920"/>
            <a:ext cx="87480" cy="233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458120" y="2158920"/>
            <a:ext cx="87480" cy="233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77940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54320" y="1444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254320" y="13669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549600" y="1366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2378160" y="117792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-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170000" y="163656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146320" y="223668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441600" y="2236680"/>
            <a:ext cx="25884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032520" y="223344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62440" y="2236680"/>
            <a:ext cx="173160" cy="155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532240" y="1874880"/>
            <a:ext cx="790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325680" y="2023920"/>
            <a:ext cx="227520" cy="184680"/>
          </a:xfrm>
          <a:custGeom>
            <a:avLst/>
            <a:gdLst/>
            <a:ahLst/>
            <a:rect l="0" t="0" r="r" b="b"/>
            <a:pathLst>
              <a:path w="632" h="513">
                <a:moveTo>
                  <a:pt x="0" y="0"/>
                </a:moveTo>
                <a:lnTo>
                  <a:pt x="632" y="513"/>
                </a:lnTo>
                <a:lnTo>
                  <a:pt x="450" y="269"/>
                </a:lnTo>
                <a:lnTo>
                  <a:pt x="362" y="403"/>
                </a:lnTo>
                <a:lnTo>
                  <a:pt x="632" y="5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205000" y="1992240"/>
            <a:ext cx="351360" cy="209880"/>
          </a:xfrm>
          <a:custGeom>
            <a:avLst/>
            <a:gdLst/>
            <a:ahLst/>
            <a:rect l="0" t="0" r="r" b="b"/>
            <a:pathLst>
              <a:path fill="none" w="976" h="583">
                <a:moveTo>
                  <a:pt x="976" y="0"/>
                </a:moveTo>
                <a:lnTo>
                  <a:pt x="30" y="556"/>
                </a:lnTo>
                <a:lnTo>
                  <a:pt x="287" y="367"/>
                </a:lnTo>
                <a:lnTo>
                  <a:pt x="344" y="433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1152360" y="2182680"/>
            <a:ext cx="78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213984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656240" y="19828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027840" y="1973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311960" y="1973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533760" y="19620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552840" y="151776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435800" y="14605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549600" y="1616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494240" y="1355760"/>
            <a:ext cx="114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IM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599240" y="2233440"/>
            <a:ext cx="150840" cy="15552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701120" y="21081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549600" y="156672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176960" y="156672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54320" y="139536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311640" y="139536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73000" y="239220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986280" y="212724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868320" y="3292560"/>
            <a:ext cx="7648560" cy="17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frames are also buffer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broadcasts/multicasts are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s/multicasts are only sent after D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IM interval is a multiple of TIM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wake up prior to an expected (D)T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71560" y="184932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9586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543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5496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8448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1405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4358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58680" y="2158920"/>
            <a:ext cx="85680" cy="233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227640" y="2158920"/>
            <a:ext cx="85680" cy="233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844880" y="2158920"/>
            <a:ext cx="87480" cy="233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722760" y="2158920"/>
            <a:ext cx="85680" cy="233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340000" y="2158920"/>
            <a:ext cx="87480" cy="233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458120" y="2158920"/>
            <a:ext cx="87480" cy="233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77940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254320" y="1444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254320" y="13669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549600" y="1366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2378160" y="117792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-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170000" y="163656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871560" y="2819520"/>
            <a:ext cx="7342200" cy="155520"/>
            <a:chOff x="871560" y="2819520"/>
            <a:chExt cx="7342200" cy="155520"/>
          </a:xfrm>
        </p:grpSpPr>
        <p:sp>
          <p:nvSpPr>
            <p:cNvPr id="983" name=""/>
            <p:cNvSpPr/>
            <p:nvPr/>
          </p:nvSpPr>
          <p:spPr>
            <a:xfrm>
              <a:off x="871560" y="2897280"/>
              <a:ext cx="7342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586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543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496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448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1405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4358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146320" y="223668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441600" y="2236680"/>
            <a:ext cx="25884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32520" y="223344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93880" y="2664000"/>
            <a:ext cx="205200" cy="233640"/>
          </a:xfrm>
          <a:custGeom>
            <a:avLst/>
            <a:gdLst/>
            <a:ahLst/>
            <a:rect l="0" t="0" r="r" b="b"/>
            <a:pathLst>
              <a:path fill="none" w="570" h="649">
                <a:moveTo>
                  <a:pt x="0" y="649"/>
                </a:moveTo>
                <a:lnTo>
                  <a:pt x="88" y="0"/>
                </a:lnTo>
                <a:lnTo>
                  <a:pt x="570" y="0"/>
                </a:lnTo>
                <a:lnTo>
                  <a:pt x="570" y="64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484440" y="2673360"/>
            <a:ext cx="616320" cy="224280"/>
          </a:xfrm>
          <a:custGeom>
            <a:avLst/>
            <a:gdLst/>
            <a:ahLst/>
            <a:rect l="0" t="0" r="r" b="b"/>
            <a:pathLst>
              <a:path fill="none" w="1712" h="623">
                <a:moveTo>
                  <a:pt x="0" y="623"/>
                </a:moveTo>
                <a:lnTo>
                  <a:pt x="119" y="0"/>
                </a:lnTo>
                <a:lnTo>
                  <a:pt x="1712" y="0"/>
                </a:lnTo>
                <a:lnTo>
                  <a:pt x="1712" y="6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62440" y="2236680"/>
            <a:ext cx="173160" cy="155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2532240" y="1874880"/>
            <a:ext cx="790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325680" y="2023920"/>
            <a:ext cx="227520" cy="184680"/>
          </a:xfrm>
          <a:custGeom>
            <a:avLst/>
            <a:gdLst/>
            <a:ahLst/>
            <a:rect l="0" t="0" r="r" b="b"/>
            <a:pathLst>
              <a:path w="632" h="513">
                <a:moveTo>
                  <a:pt x="0" y="0"/>
                </a:moveTo>
                <a:lnTo>
                  <a:pt x="632" y="513"/>
                </a:lnTo>
                <a:lnTo>
                  <a:pt x="450" y="269"/>
                </a:lnTo>
                <a:lnTo>
                  <a:pt x="362" y="403"/>
                </a:lnTo>
                <a:lnTo>
                  <a:pt x="632" y="5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205000" y="1992240"/>
            <a:ext cx="351360" cy="209880"/>
          </a:xfrm>
          <a:custGeom>
            <a:avLst/>
            <a:gdLst/>
            <a:ahLst/>
            <a:rect l="0" t="0" r="r" b="b"/>
            <a:pathLst>
              <a:path fill="none" w="976" h="583">
                <a:moveTo>
                  <a:pt x="976" y="0"/>
                </a:moveTo>
                <a:lnTo>
                  <a:pt x="30" y="556"/>
                </a:lnTo>
                <a:lnTo>
                  <a:pt x="287" y="367"/>
                </a:lnTo>
                <a:lnTo>
                  <a:pt x="344" y="433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152360" y="2182680"/>
            <a:ext cx="78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13984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656240" y="19828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027840" y="1973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311960" y="1973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3533760" y="19620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552840" y="151776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435800" y="14605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549600" y="1616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494240" y="1355760"/>
            <a:ext cx="114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IM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157400" y="2668680"/>
            <a:ext cx="752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PS 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109520" y="2158920"/>
            <a:ext cx="74520" cy="23184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599240" y="2233440"/>
            <a:ext cx="150840" cy="1555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701120" y="21081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166840" y="2668680"/>
            <a:ext cx="268560" cy="227520"/>
          </a:xfrm>
          <a:custGeom>
            <a:avLst/>
            <a:gdLst/>
            <a:ahLst/>
            <a:rect l="0" t="0" r="r" b="b"/>
            <a:pathLst>
              <a:path fill="none" w="746" h="632">
                <a:moveTo>
                  <a:pt x="0" y="632"/>
                </a:moveTo>
                <a:lnTo>
                  <a:pt x="70" y="0"/>
                </a:lnTo>
                <a:lnTo>
                  <a:pt x="746" y="0"/>
                </a:lnTo>
                <a:lnTo>
                  <a:pt x="746" y="63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549600" y="156672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176960" y="156672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54320" y="139536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311640" y="139536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73000" y="239220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986280" y="212724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868320" y="3292560"/>
            <a:ext cx="7648560" cy="28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frames are also buffer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broadcasts/multicasts are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s/multicasts are only sent after D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IM interval is a multiple of TIM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wake up prior to an expected (D)T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IM indicates frame buff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S-Poll and stays awake to rece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station sleeps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71560" y="184932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586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2543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5496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8448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1405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4358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958680" y="2158920"/>
            <a:ext cx="85680" cy="233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27640" y="2158920"/>
            <a:ext cx="85680" cy="233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844880" y="2158920"/>
            <a:ext cx="87480" cy="233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722760" y="2158920"/>
            <a:ext cx="85680" cy="233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340000" y="2158920"/>
            <a:ext cx="87480" cy="233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458120" y="2158920"/>
            <a:ext cx="87480" cy="233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7940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54320" y="1444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54320" y="13669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549600" y="1366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2378160" y="117792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-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170000" y="163656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871560" y="2819520"/>
            <a:ext cx="7342200" cy="155520"/>
            <a:chOff x="871560" y="2819520"/>
            <a:chExt cx="7342200" cy="155520"/>
          </a:xfrm>
        </p:grpSpPr>
        <p:sp>
          <p:nvSpPr>
            <p:cNvPr id="1044" name=""/>
            <p:cNvSpPr/>
            <p:nvPr/>
          </p:nvSpPr>
          <p:spPr>
            <a:xfrm>
              <a:off x="871560" y="2897280"/>
              <a:ext cx="7342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586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2543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5496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448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405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358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2146320" y="223668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41600" y="2236680"/>
            <a:ext cx="25884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32520" y="223344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93880" y="2664000"/>
            <a:ext cx="205200" cy="233640"/>
          </a:xfrm>
          <a:custGeom>
            <a:avLst/>
            <a:gdLst/>
            <a:ahLst/>
            <a:rect l="0" t="0" r="r" b="b"/>
            <a:pathLst>
              <a:path fill="none" w="570" h="649">
                <a:moveTo>
                  <a:pt x="0" y="649"/>
                </a:moveTo>
                <a:lnTo>
                  <a:pt x="88" y="0"/>
                </a:lnTo>
                <a:lnTo>
                  <a:pt x="570" y="0"/>
                </a:lnTo>
                <a:lnTo>
                  <a:pt x="570" y="64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84440" y="2673360"/>
            <a:ext cx="616320" cy="224280"/>
          </a:xfrm>
          <a:custGeom>
            <a:avLst/>
            <a:gdLst/>
            <a:ahLst/>
            <a:rect l="0" t="0" r="r" b="b"/>
            <a:pathLst>
              <a:path fill="none" w="1712" h="623">
                <a:moveTo>
                  <a:pt x="0" y="623"/>
                </a:moveTo>
                <a:lnTo>
                  <a:pt x="119" y="0"/>
                </a:lnTo>
                <a:lnTo>
                  <a:pt x="1712" y="0"/>
                </a:lnTo>
                <a:lnTo>
                  <a:pt x="1712" y="6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62440" y="2236680"/>
            <a:ext cx="173160" cy="155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532240" y="1874880"/>
            <a:ext cx="790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325680" y="2023920"/>
            <a:ext cx="227520" cy="184680"/>
          </a:xfrm>
          <a:custGeom>
            <a:avLst/>
            <a:gdLst/>
            <a:ahLst/>
            <a:rect l="0" t="0" r="r" b="b"/>
            <a:pathLst>
              <a:path w="632" h="513">
                <a:moveTo>
                  <a:pt x="0" y="0"/>
                </a:moveTo>
                <a:lnTo>
                  <a:pt x="632" y="513"/>
                </a:lnTo>
                <a:lnTo>
                  <a:pt x="450" y="269"/>
                </a:lnTo>
                <a:lnTo>
                  <a:pt x="362" y="403"/>
                </a:lnTo>
                <a:lnTo>
                  <a:pt x="632" y="5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05000" y="1992240"/>
            <a:ext cx="351360" cy="209880"/>
          </a:xfrm>
          <a:custGeom>
            <a:avLst/>
            <a:gdLst/>
            <a:ahLst/>
            <a:rect l="0" t="0" r="r" b="b"/>
            <a:pathLst>
              <a:path fill="none" w="976" h="583">
                <a:moveTo>
                  <a:pt x="976" y="0"/>
                </a:moveTo>
                <a:lnTo>
                  <a:pt x="30" y="556"/>
                </a:lnTo>
                <a:lnTo>
                  <a:pt x="287" y="367"/>
                </a:lnTo>
                <a:lnTo>
                  <a:pt x="344" y="433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864480" y="2158920"/>
            <a:ext cx="76320" cy="23184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2158920"/>
            <a:ext cx="139680" cy="233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997680" y="2905200"/>
            <a:ext cx="746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op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432480" y="2158920"/>
            <a:ext cx="76320" cy="23184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96160" y="2440080"/>
            <a:ext cx="0" cy="33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1152360" y="2182680"/>
            <a:ext cx="78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865920" y="2685960"/>
            <a:ext cx="63720" cy="89280"/>
          </a:xfrm>
          <a:custGeom>
            <a:avLst/>
            <a:gdLst/>
            <a:ahLst/>
            <a:rect l="0" t="0" r="r" b="b"/>
            <a:pathLst>
              <a:path w="177" h="248">
                <a:moveTo>
                  <a:pt x="74" y="248"/>
                </a:moveTo>
                <a:lnTo>
                  <a:pt x="0" y="0"/>
                </a:lnTo>
                <a:lnTo>
                  <a:pt x="177" y="0"/>
                </a:lnTo>
                <a:lnTo>
                  <a:pt x="74" y="24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13984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656240" y="19828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6027840" y="1973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7311960" y="1973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533760" y="19620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552840" y="151776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435800" y="14605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549600" y="1616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494240" y="1355760"/>
            <a:ext cx="114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IM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1157400" y="2668680"/>
            <a:ext cx="752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PS 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109520" y="2158920"/>
            <a:ext cx="74520" cy="23184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599240" y="2233440"/>
            <a:ext cx="150840" cy="1555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701120" y="21081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166840" y="2668680"/>
            <a:ext cx="268560" cy="227520"/>
          </a:xfrm>
          <a:custGeom>
            <a:avLst/>
            <a:gdLst/>
            <a:ahLst/>
            <a:rect l="0" t="0" r="r" b="b"/>
            <a:pathLst>
              <a:path fill="none" w="746" h="632">
                <a:moveTo>
                  <a:pt x="0" y="632"/>
                </a:moveTo>
                <a:lnTo>
                  <a:pt x="70" y="0"/>
                </a:lnTo>
                <a:lnTo>
                  <a:pt x="746" y="0"/>
                </a:lnTo>
                <a:lnTo>
                  <a:pt x="746" y="63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549600" y="156672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176960" y="156672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254320" y="139536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311640" y="139536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973840" y="2630520"/>
            <a:ext cx="1929240" cy="268560"/>
          </a:xfrm>
          <a:custGeom>
            <a:avLst/>
            <a:gdLst/>
            <a:ahLst/>
            <a:rect l="0" t="0" r="r" b="b"/>
            <a:pathLst>
              <a:path fill="none" w="5359" h="746">
                <a:moveTo>
                  <a:pt x="0" y="746"/>
                </a:moveTo>
                <a:lnTo>
                  <a:pt x="498" y="0"/>
                </a:lnTo>
                <a:lnTo>
                  <a:pt x="5359" y="0"/>
                </a:lnTo>
                <a:lnTo>
                  <a:pt x="5359" y="746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035840" y="2693880"/>
            <a:ext cx="138240" cy="20484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769160" y="2689200"/>
            <a:ext cx="61920" cy="2048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572160" y="2692440"/>
            <a:ext cx="41400" cy="20304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6364440" y="289404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S-Po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73000" y="239220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3986280" y="212724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Wireless LAN Infrastructur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1101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1135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1169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1201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62080" y="1198440"/>
            <a:ext cx="763560" cy="893880"/>
            <a:chOff x="1162080" y="1198440"/>
            <a:chExt cx="763560" cy="893880"/>
          </a:xfrm>
        </p:grpSpPr>
        <p:sp>
          <p:nvSpPr>
            <p:cNvPr id="1233" name=""/>
            <p:cNvSpPr txBox="1"/>
            <p:nvPr/>
          </p:nvSpPr>
          <p:spPr>
            <a:xfrm>
              <a:off x="1162080" y="181764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1266840" y="1198440"/>
              <a:ext cx="609840" cy="611640"/>
              <a:chOff x="1266840" y="1198440"/>
              <a:chExt cx="609840" cy="611640"/>
            </a:xfrm>
          </p:grpSpPr>
          <p:sp>
            <p:nvSpPr>
              <p:cNvPr id="1235" name=""/>
              <p:cNvSpPr/>
              <p:nvPr/>
            </p:nvSpPr>
            <p:spPr>
              <a:xfrm>
                <a:off x="1800360" y="127332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1793880" y="1209600"/>
                <a:ext cx="50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727280" y="125568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819440" y="126540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47800" y="1246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758960" y="124632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47800" y="139392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09720" y="1255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747800" y="143208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747800" y="143208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741320" y="159084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415880" y="151452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427040" y="124632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747800" y="156060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266840" y="156060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276200" y="155268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09680" y="157788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276200" y="161460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442880" y="125568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487520" y="127332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655640" y="172728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65360" y="17733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65360" y="174456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400" y="1755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825560" y="166068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825560" y="166068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727280" y="165420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832040" y="12463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832040" y="121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841400" y="1198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47800" y="125568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1269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1307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1339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1376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1414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"/>
          <p:cNvSpPr txBox="1"/>
          <p:nvPr/>
        </p:nvSpPr>
        <p:spPr>
          <a:xfrm>
            <a:off x="627120" y="4511520"/>
            <a:ext cx="7792920" cy="13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tation is Associated with a particula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1, 2, and 3 are associated with Access Poin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4 and 5 are associated with Access Poin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6 and 7 are associated with Access Point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i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92280" y="1160640"/>
            <a:ext cx="77407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MAC to support multiple PH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single and multiple channel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PHYs with different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Sen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allow overlap of multiple networks in the same area and channel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be able to share the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re-use of the same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ust for Inter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wave interf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un-licensed spectrum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hannel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echanisms to deal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den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provision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provisions for Privacy and Access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1461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1495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1529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1561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162080" y="1198440"/>
            <a:ext cx="763560" cy="893880"/>
            <a:chOff x="1162080" y="1198440"/>
            <a:chExt cx="763560" cy="893880"/>
          </a:xfrm>
        </p:grpSpPr>
        <p:sp>
          <p:nvSpPr>
            <p:cNvPr id="1593" name=""/>
            <p:cNvSpPr txBox="1"/>
            <p:nvPr/>
          </p:nvSpPr>
          <p:spPr>
            <a:xfrm>
              <a:off x="1162080" y="181764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266840" y="1198440"/>
              <a:ext cx="609840" cy="611640"/>
              <a:chOff x="1266840" y="1198440"/>
              <a:chExt cx="609840" cy="611640"/>
            </a:xfrm>
          </p:grpSpPr>
          <p:sp>
            <p:nvSpPr>
              <p:cNvPr id="1595" name=""/>
              <p:cNvSpPr/>
              <p:nvPr/>
            </p:nvSpPr>
            <p:spPr>
              <a:xfrm>
                <a:off x="1800360" y="127332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1793880" y="1209600"/>
                <a:ext cx="50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727280" y="125568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819440" y="126540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47800" y="1246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758960" y="124632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747800" y="139392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809720" y="1255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747800" y="143208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747800" y="143208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41320" y="159084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415880" y="151452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427040" y="124632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47800" y="156060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266840" y="156060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276200" y="155268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309680" y="157788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276200" y="161460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442880" y="125568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487520" y="127332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655640" y="172728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665360" y="17733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665360" y="174456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706400" y="1755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825560" y="166068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825560" y="166068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727280" y="165420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832040" y="12463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832040" y="121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841400" y="1198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747800" y="125568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6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1629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1667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1699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0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1736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1774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757080" y="4780080"/>
            <a:ext cx="4511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1823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4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1857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8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1891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1923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4273560" y="2735280"/>
            <a:ext cx="763560" cy="893880"/>
            <a:chOff x="4273560" y="2735280"/>
            <a:chExt cx="763560" cy="893880"/>
          </a:xfrm>
        </p:grpSpPr>
        <p:sp>
          <p:nvSpPr>
            <p:cNvPr id="1955" name=""/>
            <p:cNvSpPr txBox="1"/>
            <p:nvPr/>
          </p:nvSpPr>
          <p:spPr>
            <a:xfrm>
              <a:off x="4273560" y="335448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4378320" y="2735280"/>
              <a:ext cx="609840" cy="611280"/>
              <a:chOff x="4378320" y="2735280"/>
              <a:chExt cx="609840" cy="611280"/>
            </a:xfrm>
          </p:grpSpPr>
          <p:sp>
            <p:nvSpPr>
              <p:cNvPr id="1957" name=""/>
              <p:cNvSpPr/>
              <p:nvPr/>
            </p:nvSpPr>
            <p:spPr>
              <a:xfrm>
                <a:off x="4911840" y="280980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4905360" y="2746440"/>
                <a:ext cx="507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838760" y="279252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30920" y="280188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859280" y="2782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870440" y="278280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859280" y="293040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21200" y="27925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859280" y="296856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859280" y="296856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853160" y="312732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527720" y="305100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538520" y="278280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859280" y="309708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378320" y="309708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387680" y="308916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421160" y="311472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387680" y="315108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554360" y="279252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599000" y="280980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767120" y="326376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776840" y="330984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776840" y="328140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818240" y="3292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937040" y="319716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937040" y="319716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838760" y="319104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943520" y="278280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943520" y="2747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52880" y="2735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859280" y="279252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8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1991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2029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2061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7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2098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2136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3" name=""/>
          <p:cNvSpPr txBox="1"/>
          <p:nvPr/>
        </p:nvSpPr>
        <p:spPr>
          <a:xfrm>
            <a:off x="757080" y="4780080"/>
            <a:ext cx="660096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yond the coverage area of thei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2183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2217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8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0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2251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2283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6902280" y="4017960"/>
            <a:ext cx="763560" cy="893880"/>
            <a:chOff x="6902280" y="4017960"/>
            <a:chExt cx="763560" cy="893880"/>
          </a:xfrm>
        </p:grpSpPr>
        <p:sp>
          <p:nvSpPr>
            <p:cNvPr id="2315" name=""/>
            <p:cNvSpPr txBox="1"/>
            <p:nvPr/>
          </p:nvSpPr>
          <p:spPr>
            <a:xfrm>
              <a:off x="6902280" y="463716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7007400" y="4017960"/>
              <a:ext cx="609840" cy="611280"/>
              <a:chOff x="7007400" y="4017960"/>
              <a:chExt cx="609840" cy="611280"/>
            </a:xfrm>
          </p:grpSpPr>
          <p:sp>
            <p:nvSpPr>
              <p:cNvPr id="2317" name=""/>
              <p:cNvSpPr/>
              <p:nvPr/>
            </p:nvSpPr>
            <p:spPr>
              <a:xfrm>
                <a:off x="7540560" y="409248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>
                <a:off x="7534440" y="4029120"/>
                <a:ext cx="50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467480" y="407520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559640" y="40845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488360" y="4065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499520" y="406548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488360" y="421308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550280" y="4075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88360" y="425124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488360" y="425124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481880" y="441000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156440" y="433404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167600" y="406548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488360" y="437976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007400" y="437976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016760" y="437184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050240" y="439740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016760" y="443376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183440" y="407520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27720" y="409248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396200" y="454644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405560" y="459252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405560" y="456408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446960" y="4575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566120" y="447984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566120" y="447984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467480" y="447372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572240" y="406548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572240" y="4030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581960" y="4017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488360" y="407520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8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2351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2389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2421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7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2458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2496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3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 txBox="1"/>
          <p:nvPr/>
        </p:nvSpPr>
        <p:spPr>
          <a:xfrm>
            <a:off x="757080" y="4780080"/>
            <a:ext cx="66009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yond the coverage area of thei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within range of anothe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3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2544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5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2578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9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2612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2644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6902280" y="4017960"/>
            <a:ext cx="763560" cy="893880"/>
            <a:chOff x="6902280" y="4017960"/>
            <a:chExt cx="763560" cy="893880"/>
          </a:xfrm>
        </p:grpSpPr>
        <p:sp>
          <p:nvSpPr>
            <p:cNvPr id="2676" name=""/>
            <p:cNvSpPr txBox="1"/>
            <p:nvPr/>
          </p:nvSpPr>
          <p:spPr>
            <a:xfrm>
              <a:off x="6902280" y="463716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540560" y="409248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>
              <a:off x="7534440" y="402912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467480" y="407520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559640" y="408456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488360" y="4065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499520" y="406548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488360" y="4213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550280" y="407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488360" y="425124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488360" y="425124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481880" y="441000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156440" y="433404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167600" y="406548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488360" y="4379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007400" y="4379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016760" y="4371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050240" y="439740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016760" y="4433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83440" y="407520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227720" y="409248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396200" y="4546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405560" y="45925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405560" y="456408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46960" y="4575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566120" y="44798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566120" y="447984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467480" y="447372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572240" y="40654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572240" y="4030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581960" y="401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488360" y="407520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8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0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2711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2749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2781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7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2818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2856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3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 txBox="1"/>
          <p:nvPr/>
        </p:nvSpPr>
        <p:spPr>
          <a:xfrm>
            <a:off x="755640" y="4778280"/>
            <a:ext cx="778032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yond the coverage area of thei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within range of anothe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sociation allows station to continu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 txBox="1"/>
          <p:nvPr/>
        </p:nvSpPr>
        <p:spPr>
          <a:xfrm>
            <a:off x="692280" y="1160640"/>
            <a:ext cx="79693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decides that link to its current AP is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uses scanning function to find anothe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uses information from previous 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sends Reassociation Request to new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Reassociation Response is success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station has roamed to the new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station scans for another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P accepts Re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indicates Reassociation to the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information is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rmally old AP is notified through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 txBox="1"/>
          <p:nvPr/>
        </p:nvSpPr>
        <p:spPr>
          <a:xfrm>
            <a:off x="692280" y="1160640"/>
            <a:ext cx="8070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ing required for man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nd 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 new AP while ro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zing an Independent BSS (ad hoc)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.11 MAC uses a common mechanism for all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or multi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sive or active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 networks simply by listening for Bea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ch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 a Probe, Wait for a Prob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or Probe Response contains information necessary to join new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996840" y="1714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3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2914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2946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9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2950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3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5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2956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3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4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2995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3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044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076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9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080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084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088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1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3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094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1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2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133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183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215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8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219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223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6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227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0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2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233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0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1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272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4802040" y="3772080"/>
            <a:ext cx="60984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 txBox="1"/>
          <p:nvPr/>
        </p:nvSpPr>
        <p:spPr>
          <a:xfrm>
            <a:off x="5435640" y="357336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to selecte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3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324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5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356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360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364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7" name=""/>
          <p:cNvGrpSpPr/>
          <p:nvPr/>
        </p:nvGrpSpPr>
        <p:grpSpPr>
          <a:xfrm>
            <a:off x="1290600" y="3430440"/>
            <a:ext cx="530280" cy="1514520"/>
            <a:chOff x="1290600" y="3430440"/>
            <a:chExt cx="530280" cy="1514520"/>
          </a:xfrm>
        </p:grpSpPr>
        <p:sp>
          <p:nvSpPr>
            <p:cNvPr id="3368" name=""/>
            <p:cNvSpPr/>
            <p:nvPr/>
          </p:nvSpPr>
          <p:spPr>
            <a:xfrm flipH="1" flipV="1">
              <a:off x="1290600" y="3430440"/>
              <a:ext cx="30312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 flipV="1">
              <a:off x="1555920" y="4054320"/>
              <a:ext cx="26496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1555920" y="4054320"/>
              <a:ext cx="37800" cy="26676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372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5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7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378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5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6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417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Basic Access Protoco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8880" y="1147680"/>
            <a:ext cx="8629560" cy="48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Distributed Coordination Function (DCF) for efficient medium sharing without overlap restri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CSMA with Collision Avoidance deriv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rier S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unction in PHY 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lear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hannel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ssessment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bust for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SMA/CA + A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unicast frames,  with MAC level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MA/CA for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meterized use of RTS / CTS to provide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Virtual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arrier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Sens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ction to protect against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dden No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u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ation is distributed by both transmitter and receiver through separate RTS and CTS Control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s fragmentation to cope with different PHY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formats to support the access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Infrastructure and Ad-Hoc Network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reless Distribution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49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H="1">
            <a:off x="4802040" y="3772080"/>
            <a:ext cx="60984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 txBox="1"/>
          <p:nvPr/>
        </p:nvSpPr>
        <p:spPr>
          <a:xfrm>
            <a:off x="5435640" y="357336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to selecte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 flipH="1">
            <a:off x="4802040" y="4533840"/>
            <a:ext cx="609840" cy="0"/>
          </a:xfrm>
          <a:prstGeom prst="line">
            <a:avLst/>
          </a:prstGeom>
          <a:ln w="2556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 txBox="1"/>
          <p:nvPr/>
        </p:nvSpPr>
        <p:spPr>
          <a:xfrm>
            <a:off x="5433840" y="4335480"/>
            <a:ext cx="2851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0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471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503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6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507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0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511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1290600" y="3430440"/>
            <a:ext cx="530280" cy="1514520"/>
            <a:chOff x="1290600" y="3430440"/>
            <a:chExt cx="530280" cy="1514520"/>
          </a:xfrm>
        </p:grpSpPr>
        <p:sp>
          <p:nvSpPr>
            <p:cNvPr id="3515" name=""/>
            <p:cNvSpPr/>
            <p:nvPr/>
          </p:nvSpPr>
          <p:spPr>
            <a:xfrm flipH="1" flipV="1">
              <a:off x="1290600" y="3430440"/>
              <a:ext cx="30312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 flipH="1" flipV="1">
              <a:off x="1555920" y="4054320"/>
              <a:ext cx="26496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555920" y="4054320"/>
              <a:ext cx="37800" cy="26676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519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1069920" y="3505320"/>
            <a:ext cx="539640" cy="1444680"/>
            <a:chOff x="1069920" y="3505320"/>
            <a:chExt cx="539640" cy="1444680"/>
          </a:xfrm>
        </p:grpSpPr>
        <p:sp>
          <p:nvSpPr>
            <p:cNvPr id="3523" name=""/>
            <p:cNvSpPr/>
            <p:nvPr/>
          </p:nvSpPr>
          <p:spPr>
            <a:xfrm flipH="1" flipV="1">
              <a:off x="1322280" y="4083120"/>
              <a:ext cx="287280" cy="86688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H="1" flipV="1">
              <a:off x="1069920" y="3505320"/>
              <a:ext cx="287280" cy="8665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322280" y="4083120"/>
              <a:ext cx="34920" cy="2887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529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6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7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568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7" name=""/>
          <p:cNvGrpSpPr/>
          <p:nvPr/>
        </p:nvGrpSpPr>
        <p:grpSpPr>
          <a:xfrm>
            <a:off x="1803240" y="4932360"/>
            <a:ext cx="610200" cy="611280"/>
            <a:chOff x="1803240" y="4932360"/>
            <a:chExt cx="610200" cy="611280"/>
          </a:xfrm>
        </p:grpSpPr>
        <p:sp>
          <p:nvSpPr>
            <p:cNvPr id="3608" name=""/>
            <p:cNvSpPr/>
            <p:nvPr/>
          </p:nvSpPr>
          <p:spPr>
            <a:xfrm>
              <a:off x="2336760" y="500688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 flipH="1">
              <a:off x="2330280" y="4943520"/>
              <a:ext cx="5112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263680" y="498960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355840" y="499896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284560" y="4979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295360" y="497988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284560" y="51274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346480" y="4989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284560" y="516564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284560" y="516564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278080" y="532440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952640" y="524844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963800" y="497988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284560" y="52941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803240" y="52941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812960" y="52862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846440" y="531180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812960" y="53481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979640" y="498960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023920" y="500688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92400" y="54608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201760" y="55069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201760" y="547848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243160" y="548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362320" y="53942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362320" y="539424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263680" y="538812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368440" y="49798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368440" y="49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378160" y="4932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284560" y="498960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9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 flipH="1">
            <a:off x="4802040" y="3772080"/>
            <a:ext cx="60984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 txBox="1"/>
          <p:nvPr/>
        </p:nvSpPr>
        <p:spPr>
          <a:xfrm>
            <a:off x="5435640" y="357336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to selecte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H="1">
            <a:off x="4802040" y="4533840"/>
            <a:ext cx="609840" cy="0"/>
          </a:xfrm>
          <a:prstGeom prst="line">
            <a:avLst/>
          </a:prstGeom>
          <a:ln w="2556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 txBox="1"/>
          <p:nvPr/>
        </p:nvSpPr>
        <p:spPr>
          <a:xfrm>
            <a:off x="5433840" y="4335480"/>
            <a:ext cx="2851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3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654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7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658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1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662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5" name=""/>
          <p:cNvGrpSpPr/>
          <p:nvPr/>
        </p:nvGrpSpPr>
        <p:grpSpPr>
          <a:xfrm>
            <a:off x="1290600" y="3430440"/>
            <a:ext cx="530280" cy="1514520"/>
            <a:chOff x="1290600" y="3430440"/>
            <a:chExt cx="530280" cy="1514520"/>
          </a:xfrm>
        </p:grpSpPr>
        <p:sp>
          <p:nvSpPr>
            <p:cNvPr id="3666" name=""/>
            <p:cNvSpPr/>
            <p:nvPr/>
          </p:nvSpPr>
          <p:spPr>
            <a:xfrm flipH="1" flipV="1">
              <a:off x="1290600" y="3430440"/>
              <a:ext cx="30312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 flipV="1">
              <a:off x="1555920" y="4054320"/>
              <a:ext cx="26496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555920" y="4054320"/>
              <a:ext cx="37800" cy="26676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9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670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3" name=""/>
          <p:cNvGrpSpPr/>
          <p:nvPr/>
        </p:nvGrpSpPr>
        <p:grpSpPr>
          <a:xfrm>
            <a:off x="1069920" y="3505320"/>
            <a:ext cx="539640" cy="1444680"/>
            <a:chOff x="1069920" y="3505320"/>
            <a:chExt cx="539640" cy="1444680"/>
          </a:xfrm>
        </p:grpSpPr>
        <p:sp>
          <p:nvSpPr>
            <p:cNvPr id="3674" name=""/>
            <p:cNvSpPr/>
            <p:nvPr/>
          </p:nvSpPr>
          <p:spPr>
            <a:xfrm flipH="1" flipV="1">
              <a:off x="1322280" y="4083120"/>
              <a:ext cx="287280" cy="86688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flipV="1">
              <a:off x="1069920" y="3505320"/>
              <a:ext cx="287280" cy="8665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1322280" y="4083120"/>
              <a:ext cx="34920" cy="2887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7" name=""/>
          <p:cNvSpPr txBox="1"/>
          <p:nvPr/>
        </p:nvSpPr>
        <p:spPr>
          <a:xfrm>
            <a:off x="441360" y="5745240"/>
            <a:ext cx="561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eAssociation follows a simila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9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680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7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8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719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, Beacon Interval, Capabilities, ESSID, Supported Rates,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 Indication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ID, Capabilities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, Beacon Interval, Capabilities, ESSID, Supported Rates,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or Beacon except for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Listen Interval, ESSID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ion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Status Code, Station ID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ore MAC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Listen Interval, ESSID, Supported Rates, Current A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sociation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Status Code, Station ID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, Sequence, Status, Challeng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 txBox="1"/>
          <p:nvPr/>
        </p:nvSpPr>
        <p:spPr>
          <a:xfrm>
            <a:off x="3867120" y="3314880"/>
            <a:ext cx="36892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CSMA/CA Expl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127160"/>
            <a:ext cx="8039160" cy="23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90880" y="162252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640" y="2562120"/>
            <a:ext cx="728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1440" y="2155680"/>
            <a:ext cx="3340440" cy="406800"/>
          </a:xfrm>
          <a:custGeom>
            <a:avLst/>
            <a:gdLst/>
            <a:ahLst/>
            <a:rect l="0" t="0" r="r" b="b"/>
            <a:pathLst>
              <a:path fill="none" w="9279" h="1130">
                <a:moveTo>
                  <a:pt x="0" y="1130"/>
                </a:moveTo>
                <a:lnTo>
                  <a:pt x="246" y="0"/>
                </a:lnTo>
                <a:lnTo>
                  <a:pt x="9279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067440" y="2155680"/>
            <a:ext cx="87120" cy="406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33880" y="2155680"/>
            <a:ext cx="871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57480" y="2155680"/>
            <a:ext cx="8748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08480" y="2155680"/>
            <a:ext cx="889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484520" y="2155680"/>
            <a:ext cx="889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60920" y="2155680"/>
            <a:ext cx="871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891040" y="2155680"/>
            <a:ext cx="8748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0880" y="1349280"/>
            <a:ext cx="0" cy="121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81440" y="1347840"/>
            <a:ext cx="0" cy="123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67440" y="164628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2562120"/>
            <a:ext cx="0" cy="40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7480" y="2562120"/>
            <a:ext cx="0" cy="40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7920" y="286704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1440" y="1749600"/>
            <a:ext cx="227664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53240" y="1709640"/>
            <a:ext cx="214560" cy="62280"/>
          </a:xfrm>
          <a:custGeom>
            <a:avLst/>
            <a:gdLst/>
            <a:ahLst/>
            <a:rect l="0" t="0" r="r" b="b"/>
            <a:pathLst>
              <a:path w="596" h="173">
                <a:moveTo>
                  <a:pt x="596" y="102"/>
                </a:moveTo>
                <a:lnTo>
                  <a:pt x="0" y="0"/>
                </a:lnTo>
                <a:lnTo>
                  <a:pt x="0" y="173"/>
                </a:lnTo>
                <a:lnTo>
                  <a:pt x="596" y="10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4520" y="2832120"/>
            <a:ext cx="197280" cy="63720"/>
          </a:xfrm>
          <a:custGeom>
            <a:avLst/>
            <a:gdLst/>
            <a:ahLst/>
            <a:rect l="0" t="0" r="r" b="b"/>
            <a:pathLst>
              <a:path w="548" h="177">
                <a:moveTo>
                  <a:pt x="548" y="89"/>
                </a:moveTo>
                <a:lnTo>
                  <a:pt x="0" y="0"/>
                </a:lnTo>
                <a:lnTo>
                  <a:pt x="0" y="177"/>
                </a:lnTo>
                <a:lnTo>
                  <a:pt x="548" y="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7480" y="2838600"/>
            <a:ext cx="203400" cy="63720"/>
          </a:xfrm>
          <a:custGeom>
            <a:avLst/>
            <a:gdLst/>
            <a:ahLst/>
            <a:rect l="0" t="0" r="r" b="b"/>
            <a:pathLst>
              <a:path w="565" h="177">
                <a:moveTo>
                  <a:pt x="0" y="70"/>
                </a:moveTo>
                <a:lnTo>
                  <a:pt x="565" y="0"/>
                </a:lnTo>
                <a:lnTo>
                  <a:pt x="565" y="177"/>
                </a:lnTo>
                <a:lnTo>
                  <a:pt x="0" y="7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92400" y="1339920"/>
            <a:ext cx="560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29200" y="1419120"/>
            <a:ext cx="1940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ention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30640" y="2635200"/>
            <a:ext cx="86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1440" y="256212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9200" y="3373560"/>
            <a:ext cx="497520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65240" y="3102120"/>
            <a:ext cx="115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41720" y="2179800"/>
            <a:ext cx="1940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-Wind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315120" y="2192400"/>
            <a:ext cx="1409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Fr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19520" y="3068640"/>
            <a:ext cx="4781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lot and Decrement Backoff as long as medium is id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1440" y="3335400"/>
            <a:ext cx="198720" cy="76680"/>
          </a:xfrm>
          <a:custGeom>
            <a:avLst/>
            <a:gdLst/>
            <a:ahLst/>
            <a:rect l="0" t="0" r="r" b="b"/>
            <a:pathLst>
              <a:path w="552" h="213">
                <a:moveTo>
                  <a:pt x="0" y="106"/>
                </a:moveTo>
                <a:lnTo>
                  <a:pt x="552" y="0"/>
                </a:lnTo>
                <a:lnTo>
                  <a:pt x="552" y="213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7240" y="3335400"/>
            <a:ext cx="221040" cy="82800"/>
          </a:xfrm>
          <a:custGeom>
            <a:avLst/>
            <a:gdLst/>
            <a:ahLst/>
            <a:rect l="0" t="0" r="r" b="b"/>
            <a:pathLst>
              <a:path w="614" h="230">
                <a:moveTo>
                  <a:pt x="614" y="105"/>
                </a:moveTo>
                <a:lnTo>
                  <a:pt x="0" y="0"/>
                </a:lnTo>
                <a:lnTo>
                  <a:pt x="0" y="230"/>
                </a:lnTo>
                <a:lnTo>
                  <a:pt x="614" y="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1440" y="1722600"/>
            <a:ext cx="225720" cy="62280"/>
          </a:xfrm>
          <a:custGeom>
            <a:avLst/>
            <a:gdLst/>
            <a:ahLst/>
            <a:rect l="0" t="0" r="r" b="b"/>
            <a:pathLst>
              <a:path w="627" h="173">
                <a:moveTo>
                  <a:pt x="0" y="67"/>
                </a:moveTo>
                <a:lnTo>
                  <a:pt x="627" y="0"/>
                </a:lnTo>
                <a:lnTo>
                  <a:pt x="627" y="173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9200" y="1589040"/>
            <a:ext cx="187560" cy="70200"/>
          </a:xfrm>
          <a:custGeom>
            <a:avLst/>
            <a:gdLst/>
            <a:ahLst/>
            <a:rect l="0" t="0" r="r" b="b"/>
            <a:pathLst>
              <a:path w="521" h="195">
                <a:moveTo>
                  <a:pt x="521" y="88"/>
                </a:moveTo>
                <a:lnTo>
                  <a:pt x="0" y="0"/>
                </a:lnTo>
                <a:lnTo>
                  <a:pt x="30" y="195"/>
                </a:lnTo>
                <a:lnTo>
                  <a:pt x="521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6200" y="1589040"/>
            <a:ext cx="192600" cy="70200"/>
          </a:xfrm>
          <a:custGeom>
            <a:avLst/>
            <a:gdLst/>
            <a:ahLst/>
            <a:rect l="0" t="0" r="r" b="b"/>
            <a:pathLst>
              <a:path w="535" h="195">
                <a:moveTo>
                  <a:pt x="0" y="88"/>
                </a:moveTo>
                <a:lnTo>
                  <a:pt x="517" y="0"/>
                </a:lnTo>
                <a:lnTo>
                  <a:pt x="535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18000" y="195912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1600" y="2314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90880" y="2003400"/>
            <a:ext cx="627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90880" y="2378160"/>
            <a:ext cx="4507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1968480"/>
            <a:ext cx="187560" cy="70200"/>
          </a:xfrm>
          <a:custGeom>
            <a:avLst/>
            <a:gdLst/>
            <a:ahLst/>
            <a:rect l="0" t="0" r="r" b="b"/>
            <a:pathLst>
              <a:path w="521" h="195">
                <a:moveTo>
                  <a:pt x="521" y="88"/>
                </a:moveTo>
                <a:lnTo>
                  <a:pt x="0" y="0"/>
                </a:lnTo>
                <a:lnTo>
                  <a:pt x="30" y="195"/>
                </a:lnTo>
                <a:lnTo>
                  <a:pt x="521" y="8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97360" y="1968480"/>
            <a:ext cx="192600" cy="70200"/>
          </a:xfrm>
          <a:custGeom>
            <a:avLst/>
            <a:gdLst/>
            <a:ahLst/>
            <a:rect l="0" t="0" r="r" b="b"/>
            <a:pathLst>
              <a:path w="535" h="195">
                <a:moveTo>
                  <a:pt x="0" y="88"/>
                </a:moveTo>
                <a:lnTo>
                  <a:pt x="517" y="0"/>
                </a:lnTo>
                <a:lnTo>
                  <a:pt x="535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21000" y="2343240"/>
            <a:ext cx="119520" cy="74880"/>
          </a:xfrm>
          <a:custGeom>
            <a:avLst/>
            <a:gdLst/>
            <a:ahLst/>
            <a:rect l="0" t="0" r="r" b="b"/>
            <a:pathLst>
              <a:path w="332" h="208">
                <a:moveTo>
                  <a:pt x="332" y="88"/>
                </a:moveTo>
                <a:lnTo>
                  <a:pt x="0" y="0"/>
                </a:lnTo>
                <a:lnTo>
                  <a:pt x="13" y="208"/>
                </a:lnTo>
                <a:lnTo>
                  <a:pt x="332" y="88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90880" y="2343240"/>
            <a:ext cx="141480" cy="70200"/>
          </a:xfrm>
          <a:custGeom>
            <a:avLst/>
            <a:gdLst/>
            <a:ahLst/>
            <a:rect l="0" t="0" r="r" b="b"/>
            <a:pathLst>
              <a:path w="393" h="195">
                <a:moveTo>
                  <a:pt x="0" y="88"/>
                </a:moveTo>
                <a:lnTo>
                  <a:pt x="384" y="0"/>
                </a:lnTo>
                <a:lnTo>
                  <a:pt x="393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32280" y="2057400"/>
            <a:ext cx="533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F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98880" y="1701720"/>
            <a:ext cx="541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IF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206676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9800" y="19144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08040" y="1901880"/>
            <a:ext cx="0" cy="15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41320" y="1773360"/>
            <a:ext cx="5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8120" y="2031840"/>
            <a:ext cx="186120" cy="70200"/>
          </a:xfrm>
          <a:custGeom>
            <a:avLst/>
            <a:gdLst/>
            <a:ahLst/>
            <a:rect l="0" t="0" r="r" b="b"/>
            <a:pathLst>
              <a:path w="517" h="195">
                <a:moveTo>
                  <a:pt x="517" y="88"/>
                </a:moveTo>
                <a:lnTo>
                  <a:pt x="0" y="0"/>
                </a:lnTo>
                <a:lnTo>
                  <a:pt x="30" y="195"/>
                </a:lnTo>
                <a:lnTo>
                  <a:pt x="517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3320" y="2031840"/>
            <a:ext cx="192600" cy="70200"/>
          </a:xfrm>
          <a:custGeom>
            <a:avLst/>
            <a:gdLst/>
            <a:ahLst/>
            <a:rect l="0" t="0" r="r" b="b"/>
            <a:pathLst>
              <a:path w="535" h="195">
                <a:moveTo>
                  <a:pt x="0" y="88"/>
                </a:moveTo>
                <a:lnTo>
                  <a:pt x="522" y="0"/>
                </a:lnTo>
                <a:lnTo>
                  <a:pt x="535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19200" y="3335400"/>
            <a:ext cx="197280" cy="76680"/>
          </a:xfrm>
          <a:custGeom>
            <a:avLst/>
            <a:gdLst/>
            <a:ahLst/>
            <a:rect l="0" t="0" r="r" b="b"/>
            <a:pathLst>
              <a:path w="548" h="213">
                <a:moveTo>
                  <a:pt x="0" y="106"/>
                </a:moveTo>
                <a:lnTo>
                  <a:pt x="548" y="0"/>
                </a:lnTo>
                <a:lnTo>
                  <a:pt x="548" y="213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440" y="1111320"/>
            <a:ext cx="215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access when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87440" y="1365120"/>
            <a:ext cx="201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ree longer than D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96880" y="2130480"/>
            <a:ext cx="1494360" cy="429120"/>
            <a:chOff x="1496880" y="2130480"/>
            <a:chExt cx="1494360" cy="429120"/>
          </a:xfrm>
        </p:grpSpPr>
        <p:sp>
          <p:nvSpPr>
            <p:cNvPr id="154" name=""/>
            <p:cNvSpPr/>
            <p:nvPr/>
          </p:nvSpPr>
          <p:spPr>
            <a:xfrm>
              <a:off x="1496880" y="2130480"/>
              <a:ext cx="1494360" cy="429120"/>
            </a:xfrm>
            <a:custGeom>
              <a:avLst/>
              <a:gdLst/>
              <a:ahLst/>
              <a:rect l="0" t="0" r="r" b="b"/>
              <a:pathLst>
                <a:path w="4151" h="1192">
                  <a:moveTo>
                    <a:pt x="0" y="1192"/>
                  </a:moveTo>
                  <a:lnTo>
                    <a:pt x="242" y="0"/>
                  </a:lnTo>
                  <a:lnTo>
                    <a:pt x="4151" y="0"/>
                  </a:lnTo>
                  <a:lnTo>
                    <a:pt x="4151" y="1192"/>
                  </a:lnTo>
                  <a:lnTo>
                    <a:pt x="0" y="1192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538280" y="2193840"/>
              <a:ext cx="1398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y Medi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768240" y="3657600"/>
            <a:ext cx="7740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 collision probability where mostly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are waiting for medium to become 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Random Backoff after a Defer, resolving contention to avoid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icient Backoff algorithm stable at high l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nential Backoff window increases for retrans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off timer elapses only when medium is i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 different fixed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llow immediate responses and PCF coexis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1506600"/>
            <a:ext cx="5553000" cy="22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CSMA/CA + ACK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4114800"/>
            <a:ext cx="762012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er access based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ier Sen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CA from PHY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Carrier S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t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access when medium is sensed free longer then DIFS, otherwise defer and back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 of directed frames to return an ACK immediately when CRC corr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no ACK received then retransmit frame after a random backoff (up to maximum lim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68480" y="1884240"/>
            <a:ext cx="1254240" cy="326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57640" y="2476440"/>
            <a:ext cx="339840" cy="322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882880" y="200016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08320" y="202572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35584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46600" y="2392200"/>
            <a:ext cx="612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78360" y="23623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380" y="83"/>
                </a:moveTo>
                <a:lnTo>
                  <a:pt x="0" y="0"/>
                </a:lnTo>
                <a:lnTo>
                  <a:pt x="0" y="186"/>
                </a:lnTo>
                <a:lnTo>
                  <a:pt x="38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23623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0" y="83"/>
                </a:moveTo>
                <a:lnTo>
                  <a:pt x="380" y="0"/>
                </a:lnTo>
                <a:lnTo>
                  <a:pt x="380" y="186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100400" y="2500200"/>
            <a:ext cx="468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197160" y="1903320"/>
            <a:ext cx="523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459320" y="2590920"/>
            <a:ext cx="0" cy="68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722840" y="2884320"/>
            <a:ext cx="0" cy="474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5800" y="2982960"/>
            <a:ext cx="210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7560" y="29527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380" y="83"/>
                </a:moveTo>
                <a:lnTo>
                  <a:pt x="0" y="0"/>
                </a:lnTo>
                <a:lnTo>
                  <a:pt x="0" y="186"/>
                </a:lnTo>
                <a:lnTo>
                  <a:pt x="38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6080" y="29527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0" y="83"/>
                </a:moveTo>
                <a:lnTo>
                  <a:pt x="380" y="0"/>
                </a:lnTo>
                <a:lnTo>
                  <a:pt x="380" y="186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1680" y="3201840"/>
            <a:ext cx="446040" cy="15408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23040" y="3084480"/>
            <a:ext cx="700560" cy="295560"/>
          </a:xfrm>
          <a:custGeom>
            <a:avLst/>
            <a:gdLst/>
            <a:ahLst/>
            <a:rect l="0" t="0" r="r" b="b"/>
            <a:pathLst>
              <a:path fill="none" w="1946" h="821">
                <a:moveTo>
                  <a:pt x="0" y="821"/>
                </a:moveTo>
                <a:lnTo>
                  <a:pt x="242" y="0"/>
                </a:lnTo>
                <a:lnTo>
                  <a:pt x="1946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952720"/>
            <a:ext cx="138600" cy="66960"/>
          </a:xfrm>
          <a:custGeom>
            <a:avLst/>
            <a:gdLst/>
            <a:ahLst/>
            <a:rect l="0" t="0" r="r" b="b"/>
            <a:pathLst>
              <a:path w="385" h="186">
                <a:moveTo>
                  <a:pt x="385" y="83"/>
                </a:moveTo>
                <a:lnTo>
                  <a:pt x="0" y="0"/>
                </a:lnTo>
                <a:lnTo>
                  <a:pt x="0" y="186"/>
                </a:lnTo>
                <a:lnTo>
                  <a:pt x="385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05480" y="3084480"/>
            <a:ext cx="1050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P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2840" y="3084480"/>
            <a:ext cx="1138680" cy="295560"/>
          </a:xfrm>
          <a:custGeom>
            <a:avLst/>
            <a:gdLst/>
            <a:ahLst/>
            <a:rect l="0" t="0" r="r" b="b"/>
            <a:pathLst>
              <a:path fill="none" w="3163" h="821">
                <a:moveTo>
                  <a:pt x="0" y="821"/>
                </a:moveTo>
                <a:lnTo>
                  <a:pt x="242" y="0"/>
                </a:lnTo>
                <a:lnTo>
                  <a:pt x="316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809960" y="3084480"/>
            <a:ext cx="874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984920" y="3084480"/>
            <a:ext cx="8712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072040" y="3084480"/>
            <a:ext cx="874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897440" y="3084480"/>
            <a:ext cx="874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30200" y="1930320"/>
            <a:ext cx="5580360" cy="1460520"/>
            <a:chOff x="1330200" y="1930320"/>
            <a:chExt cx="5580360" cy="1460520"/>
          </a:xfrm>
        </p:grpSpPr>
        <p:grpSp>
          <p:nvGrpSpPr>
            <p:cNvPr id="187" name=""/>
            <p:cNvGrpSpPr/>
            <p:nvPr/>
          </p:nvGrpSpPr>
          <p:grpSpPr>
            <a:xfrm>
              <a:off x="1655640" y="2209680"/>
              <a:ext cx="5254920" cy="1181160"/>
              <a:chOff x="1655640" y="2209680"/>
              <a:chExt cx="5254920" cy="1181160"/>
            </a:xfrm>
          </p:grpSpPr>
          <p:sp>
            <p:nvSpPr>
              <p:cNvPr id="188" name=""/>
              <p:cNvSpPr/>
              <p:nvPr/>
            </p:nvSpPr>
            <p:spPr>
              <a:xfrm>
                <a:off x="1655640" y="2209680"/>
                <a:ext cx="52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55640" y="2800440"/>
                <a:ext cx="52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55640" y="3390840"/>
                <a:ext cx="52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 txBox="1"/>
            <p:nvPr/>
          </p:nvSpPr>
          <p:spPr>
            <a:xfrm>
              <a:off x="1330200" y="1930320"/>
              <a:ext cx="477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r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1319040" y="2495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52520" y="3081240"/>
            <a:ext cx="70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14680" y="1739880"/>
            <a:ext cx="0" cy="46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6400" y="17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57280" y="1814400"/>
            <a:ext cx="787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78240" y="178272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380" y="89"/>
                </a:moveTo>
                <a:lnTo>
                  <a:pt x="0" y="0"/>
                </a:lnTo>
                <a:lnTo>
                  <a:pt x="0" y="191"/>
                </a:lnTo>
                <a:lnTo>
                  <a:pt x="380" y="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81440" y="178272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0" y="89"/>
                </a:moveTo>
                <a:lnTo>
                  <a:pt x="380" y="0"/>
                </a:lnTo>
                <a:lnTo>
                  <a:pt x="380" y="191"/>
                </a:lnTo>
                <a:lnTo>
                  <a:pt x="0" y="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65720" y="2793960"/>
            <a:ext cx="1281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82880" y="1901880"/>
            <a:ext cx="0" cy="18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2840" y="2887560"/>
            <a:ext cx="0" cy="88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82880" y="3672000"/>
            <a:ext cx="32781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7280" y="364176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0" y="84"/>
                </a:moveTo>
                <a:lnTo>
                  <a:pt x="380" y="0"/>
                </a:lnTo>
                <a:lnTo>
                  <a:pt x="380" y="191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37240" y="364176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0" y="84"/>
                </a:moveTo>
                <a:lnTo>
                  <a:pt x="380" y="0"/>
                </a:lnTo>
                <a:lnTo>
                  <a:pt x="380" y="191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91080" y="364176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380" y="84"/>
                </a:moveTo>
                <a:lnTo>
                  <a:pt x="0" y="0"/>
                </a:lnTo>
                <a:lnTo>
                  <a:pt x="0" y="191"/>
                </a:lnTo>
                <a:lnTo>
                  <a:pt x="380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30640" y="3416400"/>
            <a:ext cx="10875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 Ac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43440" y="3409920"/>
            <a:ext cx="1549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after Def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17840" y="154620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40280" y="217476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389480" y="278928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Throughp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90720" y="525780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and stable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le throughput at overloa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“Bursty Traffic”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94000" y="1306440"/>
            <a:ext cx="6062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05000" y="2236680"/>
            <a:ext cx="6324480" cy="22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30680" y="2992320"/>
            <a:ext cx="4043520" cy="1454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335240"/>
            <a:ext cx="7543800" cy="43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rs contending for the medium may not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“Hear each other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shown belo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parate Control frame exchange (RTS / CTS) between transmitter and receiver will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eserve the Mediu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subsequent data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distributed around both Tx and Rx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Hidden Node”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94240" y="3681360"/>
            <a:ext cx="2517480" cy="38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27400" y="3833640"/>
            <a:ext cx="213660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6880" y="3981600"/>
            <a:ext cx="317520" cy="241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9920" y="3292560"/>
            <a:ext cx="317520" cy="3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81560" y="3521160"/>
            <a:ext cx="317520" cy="2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41760" y="3325680"/>
            <a:ext cx="387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122640" y="395748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5880" y="349884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94240" y="3987720"/>
            <a:ext cx="228960" cy="76680"/>
          </a:xfrm>
          <a:custGeom>
            <a:avLst/>
            <a:gdLst/>
            <a:ahLst/>
            <a:rect l="0" t="0" r="r" b="b"/>
            <a:pathLst>
              <a:path w="636" h="213">
                <a:moveTo>
                  <a:pt x="0" y="213"/>
                </a:moveTo>
                <a:lnTo>
                  <a:pt x="636" y="0"/>
                </a:lnTo>
                <a:lnTo>
                  <a:pt x="636" y="213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83120" y="3681360"/>
            <a:ext cx="228960" cy="76680"/>
          </a:xfrm>
          <a:custGeom>
            <a:avLst/>
            <a:gdLst/>
            <a:ahLst/>
            <a:rect l="0" t="0" r="r" b="b"/>
            <a:pathLst>
              <a:path w="636" h="213">
                <a:moveTo>
                  <a:pt x="636" y="0"/>
                </a:moveTo>
                <a:lnTo>
                  <a:pt x="0" y="213"/>
                </a:lnTo>
                <a:lnTo>
                  <a:pt x="0" y="0"/>
                </a:lnTo>
                <a:lnTo>
                  <a:pt x="63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513400" y="2849400"/>
            <a:ext cx="946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-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646440" y="2706840"/>
            <a:ext cx="946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-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632040" y="3595680"/>
            <a:ext cx="878040" cy="363600"/>
            <a:chOff x="3632040" y="3595680"/>
            <a:chExt cx="878040" cy="363600"/>
          </a:xfrm>
        </p:grpSpPr>
        <p:sp>
          <p:nvSpPr>
            <p:cNvPr id="235" name=""/>
            <p:cNvSpPr/>
            <p:nvPr/>
          </p:nvSpPr>
          <p:spPr>
            <a:xfrm flipV="1">
              <a:off x="3632040" y="3595680"/>
              <a:ext cx="878040" cy="363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1880" y="3595680"/>
              <a:ext cx="249480" cy="152640"/>
            </a:xfrm>
            <a:custGeom>
              <a:avLst/>
              <a:gdLst/>
              <a:ahLst/>
              <a:rect l="0" t="0" r="r" b="b"/>
              <a:pathLst>
                <a:path w="693" h="424">
                  <a:moveTo>
                    <a:pt x="693" y="0"/>
                  </a:moveTo>
                  <a:lnTo>
                    <a:pt x="0" y="158"/>
                  </a:lnTo>
                  <a:lnTo>
                    <a:pt x="158" y="424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523880" y="2448000"/>
            <a:ext cx="1020960" cy="200160"/>
            <a:chOff x="1523880" y="2448000"/>
            <a:chExt cx="1020960" cy="200160"/>
          </a:xfrm>
        </p:grpSpPr>
        <p:sp>
          <p:nvSpPr>
            <p:cNvPr id="238" name=""/>
            <p:cNvSpPr/>
            <p:nvPr/>
          </p:nvSpPr>
          <p:spPr>
            <a:xfrm>
              <a:off x="1523880" y="2448000"/>
              <a:ext cx="1020960" cy="19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44680" y="2562120"/>
              <a:ext cx="190800" cy="86040"/>
            </a:xfrm>
            <a:custGeom>
              <a:avLst/>
              <a:gdLst/>
              <a:ahLst/>
              <a:rect l="0" t="0" r="r" b="b"/>
              <a:pathLst>
                <a:path w="530" h="239">
                  <a:moveTo>
                    <a:pt x="530" y="239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530" y="239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514520" y="3040200"/>
            <a:ext cx="1020600" cy="201960"/>
            <a:chOff x="1514520" y="3040200"/>
            <a:chExt cx="1020600" cy="201960"/>
          </a:xfrm>
        </p:grpSpPr>
        <p:sp>
          <p:nvSpPr>
            <p:cNvPr id="241" name=""/>
            <p:cNvSpPr/>
            <p:nvPr/>
          </p:nvSpPr>
          <p:spPr>
            <a:xfrm>
              <a:off x="1514520" y="3040200"/>
              <a:ext cx="1020600" cy="2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5320" y="3154320"/>
              <a:ext cx="190800" cy="87840"/>
            </a:xfrm>
            <a:custGeom>
              <a:avLst/>
              <a:gdLst/>
              <a:ahLst/>
              <a:rect l="0" t="0" r="r" b="b"/>
              <a:pathLst>
                <a:path w="530" h="244">
                  <a:moveTo>
                    <a:pt x="530" y="244"/>
                  </a:moveTo>
                  <a:lnTo>
                    <a:pt x="0" y="0"/>
                  </a:lnTo>
                  <a:lnTo>
                    <a:pt x="0" y="244"/>
                  </a:lnTo>
                  <a:lnTo>
                    <a:pt x="530" y="2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495440" y="2733840"/>
            <a:ext cx="1020600" cy="201600"/>
            <a:chOff x="1495440" y="2733840"/>
            <a:chExt cx="1020600" cy="201600"/>
          </a:xfrm>
        </p:grpSpPr>
        <p:sp>
          <p:nvSpPr>
            <p:cNvPr id="244" name=""/>
            <p:cNvSpPr/>
            <p:nvPr/>
          </p:nvSpPr>
          <p:spPr>
            <a:xfrm flipH="1">
              <a:off x="1495440" y="2733840"/>
              <a:ext cx="1020600" cy="2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04800" y="2849400"/>
              <a:ext cx="190800" cy="86040"/>
            </a:xfrm>
            <a:custGeom>
              <a:avLst/>
              <a:gdLst/>
              <a:ahLst/>
              <a:rect l="0" t="0" r="r" b="b"/>
              <a:pathLst>
                <a:path w="530" h="239">
                  <a:moveTo>
                    <a:pt x="0" y="239"/>
                  </a:moveTo>
                  <a:lnTo>
                    <a:pt x="530" y="0"/>
                  </a:lnTo>
                  <a:lnTo>
                    <a:pt x="53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495440" y="3308400"/>
            <a:ext cx="1020600" cy="200160"/>
            <a:chOff x="1495440" y="3308400"/>
            <a:chExt cx="1020600" cy="200160"/>
          </a:xfrm>
        </p:grpSpPr>
        <p:sp>
          <p:nvSpPr>
            <p:cNvPr id="247" name=""/>
            <p:cNvSpPr/>
            <p:nvPr/>
          </p:nvSpPr>
          <p:spPr>
            <a:xfrm flipH="1">
              <a:off x="1495440" y="3308400"/>
              <a:ext cx="1020600" cy="19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04800" y="3422520"/>
              <a:ext cx="190800" cy="86040"/>
            </a:xfrm>
            <a:custGeom>
              <a:avLst/>
              <a:gdLst/>
              <a:ahLst/>
              <a:rect l="0" t="0" r="r" b="b"/>
              <a:pathLst>
                <a:path w="530" h="239">
                  <a:moveTo>
                    <a:pt x="0" y="239"/>
                  </a:moveTo>
                  <a:lnTo>
                    <a:pt x="530" y="0"/>
                  </a:lnTo>
                  <a:lnTo>
                    <a:pt x="53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1214280" y="219852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35400" y="2198520"/>
            <a:ext cx="387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824120" y="238752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814400" y="264492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824120" y="2979720"/>
            <a:ext cx="39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833480" y="3247920"/>
            <a:ext cx="358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043600" y="3375000"/>
            <a:ext cx="1066680" cy="150840"/>
            <a:chOff x="5043600" y="3375000"/>
            <a:chExt cx="1066680" cy="150840"/>
          </a:xfrm>
        </p:grpSpPr>
        <p:sp>
          <p:nvSpPr>
            <p:cNvPr id="256" name=""/>
            <p:cNvSpPr/>
            <p:nvPr/>
          </p:nvSpPr>
          <p:spPr>
            <a:xfrm flipH="1" flipV="1">
              <a:off x="5043600" y="3375000"/>
              <a:ext cx="1066680" cy="15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5560" y="3375000"/>
              <a:ext cx="302040" cy="63720"/>
            </a:xfrm>
            <a:custGeom>
              <a:avLst/>
              <a:gdLst/>
              <a:ahLst/>
              <a:rect l="0" t="0" r="r" b="b"/>
              <a:pathLst>
                <a:path w="839" h="177">
                  <a:moveTo>
                    <a:pt x="0" y="0"/>
                  </a:moveTo>
                  <a:lnTo>
                    <a:pt x="839" y="66"/>
                  </a:lnTo>
                  <a:lnTo>
                    <a:pt x="645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878200" y="2830680"/>
            <a:ext cx="2215080" cy="1626120"/>
          </a:xfrm>
          <a:custGeom>
            <a:avLst/>
            <a:gdLst/>
            <a:ahLst/>
            <a:rect l="0" t="0" r="r" b="b"/>
            <a:pathLst>
              <a:path fill="none" w="6153" h="4517">
                <a:moveTo>
                  <a:pt x="1548" y="0"/>
                </a:moveTo>
                <a:lnTo>
                  <a:pt x="2598" y="220"/>
                </a:lnTo>
                <a:lnTo>
                  <a:pt x="2959" y="304"/>
                </a:lnTo>
                <a:lnTo>
                  <a:pt x="3325" y="445"/>
                </a:lnTo>
                <a:lnTo>
                  <a:pt x="3506" y="471"/>
                </a:lnTo>
                <a:lnTo>
                  <a:pt x="3780" y="555"/>
                </a:lnTo>
                <a:lnTo>
                  <a:pt x="3960" y="612"/>
                </a:lnTo>
                <a:lnTo>
                  <a:pt x="4190" y="696"/>
                </a:lnTo>
                <a:lnTo>
                  <a:pt x="4326" y="754"/>
                </a:lnTo>
                <a:lnTo>
                  <a:pt x="4742" y="890"/>
                </a:lnTo>
                <a:lnTo>
                  <a:pt x="5104" y="1009"/>
                </a:lnTo>
                <a:lnTo>
                  <a:pt x="5284" y="1178"/>
                </a:lnTo>
                <a:lnTo>
                  <a:pt x="5333" y="1231"/>
                </a:lnTo>
                <a:lnTo>
                  <a:pt x="5421" y="1315"/>
                </a:lnTo>
                <a:lnTo>
                  <a:pt x="5558" y="1398"/>
                </a:lnTo>
                <a:lnTo>
                  <a:pt x="5694" y="1566"/>
                </a:lnTo>
                <a:lnTo>
                  <a:pt x="5787" y="1681"/>
                </a:lnTo>
                <a:lnTo>
                  <a:pt x="5968" y="1848"/>
                </a:lnTo>
                <a:lnTo>
                  <a:pt x="6060" y="2020"/>
                </a:lnTo>
                <a:lnTo>
                  <a:pt x="6105" y="2104"/>
                </a:lnTo>
                <a:lnTo>
                  <a:pt x="6105" y="2241"/>
                </a:lnTo>
                <a:lnTo>
                  <a:pt x="6153" y="2439"/>
                </a:lnTo>
                <a:lnTo>
                  <a:pt x="6153" y="2576"/>
                </a:lnTo>
                <a:lnTo>
                  <a:pt x="6153" y="2827"/>
                </a:lnTo>
                <a:lnTo>
                  <a:pt x="6060" y="2942"/>
                </a:lnTo>
                <a:lnTo>
                  <a:pt x="5968" y="3167"/>
                </a:lnTo>
                <a:lnTo>
                  <a:pt x="5880" y="3308"/>
                </a:lnTo>
                <a:lnTo>
                  <a:pt x="5694" y="3476"/>
                </a:lnTo>
                <a:lnTo>
                  <a:pt x="5470" y="3534"/>
                </a:lnTo>
                <a:lnTo>
                  <a:pt x="5333" y="3644"/>
                </a:lnTo>
                <a:lnTo>
                  <a:pt x="5104" y="3811"/>
                </a:lnTo>
                <a:lnTo>
                  <a:pt x="5015" y="3869"/>
                </a:lnTo>
                <a:lnTo>
                  <a:pt x="4786" y="3922"/>
                </a:lnTo>
                <a:lnTo>
                  <a:pt x="4604" y="3979"/>
                </a:lnTo>
                <a:lnTo>
                  <a:pt x="3960" y="4151"/>
                </a:lnTo>
                <a:lnTo>
                  <a:pt x="3140" y="4235"/>
                </a:lnTo>
                <a:lnTo>
                  <a:pt x="2915" y="4292"/>
                </a:lnTo>
                <a:lnTo>
                  <a:pt x="2735" y="4319"/>
                </a:lnTo>
                <a:lnTo>
                  <a:pt x="2139" y="4376"/>
                </a:lnTo>
                <a:lnTo>
                  <a:pt x="1641" y="4433"/>
                </a:lnTo>
                <a:lnTo>
                  <a:pt x="1274" y="4433"/>
                </a:lnTo>
                <a:lnTo>
                  <a:pt x="771" y="4486"/>
                </a:lnTo>
                <a:lnTo>
                  <a:pt x="498" y="4517"/>
                </a:lnTo>
                <a:lnTo>
                  <a:pt x="0" y="4486"/>
                </a:lnTo>
              </a:path>
            </a:pathLst>
          </a:cu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111560" y="3805200"/>
            <a:ext cx="221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do not hear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111560" y="4033800"/>
            <a:ext cx="159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y hear the 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Hidden Node” Pro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90720" y="4038480"/>
            <a:ext cx="7391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ld in RTS and CTS frames distribu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Reserv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formation which is stored in a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Net Allocation Vector (NAV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r on either NAV or "CCA" indicating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edium Bus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RTS / CTS is optional but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ea typeface="Arial"/>
              </a:rPr>
              <a:t>m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is controlled by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TS_Threshol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meter per s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limit overhead for short fr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00160" y="1206360"/>
            <a:ext cx="6943680" cy="267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3480" y="1527120"/>
            <a:ext cx="477720" cy="3524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84280" y="2160720"/>
            <a:ext cx="477720" cy="352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35440" y="1527120"/>
            <a:ext cx="1581120" cy="352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91080" y="2160720"/>
            <a:ext cx="366840" cy="35244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92480" y="165276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95440" y="204624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4720" y="202716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54160" y="1652760"/>
            <a:ext cx="0" cy="42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8920" y="1652760"/>
            <a:ext cx="0" cy="42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02240" y="20192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5320" y="155736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33520" y="219060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35640" y="218916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73560" y="15508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940280" y="22860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270400" y="2600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08360" y="2705040"/>
            <a:ext cx="264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73600" y="2673360"/>
            <a:ext cx="173520" cy="71640"/>
          </a:xfrm>
          <a:custGeom>
            <a:avLst/>
            <a:gdLst/>
            <a:ahLst/>
            <a:rect l="0" t="0" r="r" b="b"/>
            <a:pathLst>
              <a:path w="482" h="199">
                <a:moveTo>
                  <a:pt x="482" y="88"/>
                </a:moveTo>
                <a:lnTo>
                  <a:pt x="0" y="0"/>
                </a:lnTo>
                <a:lnTo>
                  <a:pt x="0" y="199"/>
                </a:lnTo>
                <a:lnTo>
                  <a:pt x="482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75440" y="2673360"/>
            <a:ext cx="171720" cy="71640"/>
          </a:xfrm>
          <a:custGeom>
            <a:avLst/>
            <a:gdLst/>
            <a:ahLst/>
            <a:rect l="0" t="0" r="r" b="b"/>
            <a:pathLst>
              <a:path w="477" h="199">
                <a:moveTo>
                  <a:pt x="0" y="88"/>
                </a:moveTo>
                <a:lnTo>
                  <a:pt x="477" y="0"/>
                </a:lnTo>
                <a:lnTo>
                  <a:pt x="477" y="199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14520" y="1373040"/>
            <a:ext cx="0" cy="481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44640" y="1393920"/>
            <a:ext cx="0" cy="463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89080" y="1440000"/>
            <a:ext cx="99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41360" y="1406520"/>
            <a:ext cx="173520" cy="73440"/>
          </a:xfrm>
          <a:custGeom>
            <a:avLst/>
            <a:gdLst/>
            <a:ahLst/>
            <a:rect l="0" t="0" r="r" b="b"/>
            <a:pathLst>
              <a:path w="482" h="204">
                <a:moveTo>
                  <a:pt x="482" y="93"/>
                </a:moveTo>
                <a:lnTo>
                  <a:pt x="0" y="0"/>
                </a:lnTo>
                <a:lnTo>
                  <a:pt x="0" y="204"/>
                </a:lnTo>
                <a:lnTo>
                  <a:pt x="482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49320" y="1406520"/>
            <a:ext cx="171720" cy="73440"/>
          </a:xfrm>
          <a:custGeom>
            <a:avLst/>
            <a:gdLst/>
            <a:ahLst/>
            <a:rect l="0" t="0" r="r" b="b"/>
            <a:pathLst>
              <a:path w="477" h="204">
                <a:moveTo>
                  <a:pt x="0" y="93"/>
                </a:moveTo>
                <a:lnTo>
                  <a:pt x="477" y="0"/>
                </a:lnTo>
                <a:lnTo>
                  <a:pt x="477" y="204"/>
                </a:lnTo>
                <a:lnTo>
                  <a:pt x="0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409760" y="1863720"/>
            <a:ext cx="6615000" cy="1266840"/>
            <a:chOff x="1409760" y="1863720"/>
            <a:chExt cx="6615000" cy="1266840"/>
          </a:xfrm>
        </p:grpSpPr>
        <p:sp>
          <p:nvSpPr>
            <p:cNvPr id="291" name=""/>
            <p:cNvSpPr/>
            <p:nvPr/>
          </p:nvSpPr>
          <p:spPr>
            <a:xfrm>
              <a:off x="1409760" y="1863720"/>
              <a:ext cx="661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09760" y="2496960"/>
              <a:ext cx="661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09760" y="3130560"/>
              <a:ext cx="661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282760" y="2801880"/>
            <a:ext cx="2665440" cy="3348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35360" y="3121200"/>
            <a:ext cx="211284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43400" y="2863800"/>
            <a:ext cx="860400" cy="22068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381480" y="2824200"/>
            <a:ext cx="56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53120" y="2813040"/>
            <a:ext cx="883080" cy="317880"/>
          </a:xfrm>
          <a:custGeom>
            <a:avLst/>
            <a:gdLst/>
            <a:ahLst/>
            <a:rect l="0" t="0" r="r" b="b"/>
            <a:pathLst>
              <a:path fill="none" w="2453" h="883">
                <a:moveTo>
                  <a:pt x="0" y="883"/>
                </a:moveTo>
                <a:lnTo>
                  <a:pt x="304" y="0"/>
                </a:lnTo>
                <a:lnTo>
                  <a:pt x="2453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97760" y="2673360"/>
            <a:ext cx="171720" cy="71640"/>
          </a:xfrm>
          <a:custGeom>
            <a:avLst/>
            <a:gdLst/>
            <a:ahLst/>
            <a:rect l="0" t="0" r="r" b="b"/>
            <a:pathLst>
              <a:path w="477" h="199">
                <a:moveTo>
                  <a:pt x="477" y="88"/>
                </a:moveTo>
                <a:lnTo>
                  <a:pt x="0" y="0"/>
                </a:lnTo>
                <a:lnTo>
                  <a:pt x="0" y="199"/>
                </a:lnTo>
                <a:lnTo>
                  <a:pt x="477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281640" y="2817720"/>
            <a:ext cx="1117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P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70400" y="2813040"/>
            <a:ext cx="1433880" cy="317880"/>
          </a:xfrm>
          <a:custGeom>
            <a:avLst/>
            <a:gdLst/>
            <a:ahLst/>
            <a:rect l="0" t="0" r="r" b="b"/>
            <a:pathLst>
              <a:path fill="none" w="3983" h="883">
                <a:moveTo>
                  <a:pt x="0" y="883"/>
                </a:moveTo>
                <a:lnTo>
                  <a:pt x="304" y="0"/>
                </a:lnTo>
                <a:lnTo>
                  <a:pt x="398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380200" y="2813040"/>
            <a:ext cx="11088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600880" y="2813040"/>
            <a:ext cx="11088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711760" y="2813040"/>
            <a:ext cx="10944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91080" y="2813040"/>
            <a:ext cx="10980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23840" y="1569960"/>
            <a:ext cx="4953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09800" y="2190600"/>
            <a:ext cx="5922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50840" y="2817720"/>
            <a:ext cx="7351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902200" y="2468520"/>
            <a:ext cx="4255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92480" y="3024360"/>
            <a:ext cx="0" cy="844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270400" y="2602080"/>
            <a:ext cx="0" cy="126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292480" y="3760920"/>
            <a:ext cx="49640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97600" y="3727440"/>
            <a:ext cx="173520" cy="73440"/>
          </a:xfrm>
          <a:custGeom>
            <a:avLst/>
            <a:gdLst/>
            <a:ahLst/>
            <a:rect l="0" t="0" r="r" b="b"/>
            <a:pathLst>
              <a:path w="482" h="204">
                <a:moveTo>
                  <a:pt x="482" y="93"/>
                </a:moveTo>
                <a:lnTo>
                  <a:pt x="0" y="0"/>
                </a:lnTo>
                <a:lnTo>
                  <a:pt x="0" y="204"/>
                </a:lnTo>
                <a:lnTo>
                  <a:pt x="482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03640" y="3727440"/>
            <a:ext cx="173520" cy="73440"/>
          </a:xfrm>
          <a:custGeom>
            <a:avLst/>
            <a:gdLst/>
            <a:ahLst/>
            <a:rect l="0" t="0" r="r" b="b"/>
            <a:pathLst>
              <a:path w="482" h="204">
                <a:moveTo>
                  <a:pt x="0" y="93"/>
                </a:moveTo>
                <a:lnTo>
                  <a:pt x="482" y="0"/>
                </a:lnTo>
                <a:lnTo>
                  <a:pt x="482" y="204"/>
                </a:lnTo>
                <a:lnTo>
                  <a:pt x="0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75440" y="3727440"/>
            <a:ext cx="171720" cy="73440"/>
          </a:xfrm>
          <a:custGeom>
            <a:avLst/>
            <a:gdLst/>
            <a:ahLst/>
            <a:rect l="0" t="0" r="r" b="b"/>
            <a:pathLst>
              <a:path w="477" h="204">
                <a:moveTo>
                  <a:pt x="0" y="93"/>
                </a:moveTo>
                <a:lnTo>
                  <a:pt x="477" y="0"/>
                </a:lnTo>
                <a:lnTo>
                  <a:pt x="477" y="204"/>
                </a:lnTo>
                <a:lnTo>
                  <a:pt x="0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84480" y="3478320"/>
            <a:ext cx="115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508720" y="3478320"/>
            <a:ext cx="1655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after De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51320" y="3179880"/>
            <a:ext cx="836640" cy="20484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394080" y="3133800"/>
            <a:ext cx="56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87920" y="2846520"/>
            <a:ext cx="5493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440" y="3162240"/>
            <a:ext cx="5493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0280" y="1165320"/>
            <a:ext cx="5014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82680" y="20750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33840" y="2075040"/>
            <a:ext cx="331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87680" y="207504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Vic Hayes</cp:lastModifiedBy>
  <cp:revision>0</cp:revision>
  <dc:subject>March 96 meeting</dc:subject>
  <dc:title>802.11 Tutorial</dc:title>
</cp:coreProperties>
</file>