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17533FF-C8EE-4838-AAFF-1E9E009AC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embers of the CCIR are the administrations of the nations around the world.  Participation is therefore limited to organisations that are member through the national delegation of their count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CIR Plenary Assemblies were held 5 yearly.  The are now held every two years, and are called World Radio Assembl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ld Radio Conferences are held every two years also, coinciding with and after the World Radio Assembl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vember 93 there will be a WRC for setting the agenda for the WRC 95.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or large boundary is the Region 1 bound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ink ellipse is the part CEPT is active in the European harmoniz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the eastern European countries are rapidly becoming members of CEPT thus, in principle, accepting the Recommend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orrection made on November 30 1993 (remark about satellite service  was on wrong pla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equence is in frequen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iming is roughly as follow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60 GHz</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DE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2.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HIPERLA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371600" y="768240"/>
            <a:ext cx="5029200" cy="3767400"/>
          </a:xfrm>
          <a:prstGeom prst="rect">
            <a:avLst/>
          </a:prstGeom>
          <a:ln w="0">
            <a:noFill/>
          </a:ln>
        </p:spPr>
      </p:sp>
      <p:sp>
        <p:nvSpPr>
          <p:cNvPr id="2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line is the region 2 are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mall ellipse is the USA are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371600" y="768240"/>
            <a:ext cx="5029200" cy="3767400"/>
          </a:xfrm>
          <a:prstGeom prst="rect">
            <a:avLst/>
          </a:prstGeom>
          <a:ln w="0">
            <a:noFill/>
          </a:ln>
        </p:spPr>
      </p:sp>
      <p:sp>
        <p:nvSpPr>
          <p:cNvPr id="2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equence by frequen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imin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ISM band 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Licensed 19 GHz allo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The PCS band allocation is  very recent,  Report and order expected on October 22, 199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71600" y="768240"/>
            <a:ext cx="5029200" cy="3767400"/>
          </a:xfrm>
          <a:prstGeom prst="rect">
            <a:avLst/>
          </a:prstGeom>
          <a:ln w="0">
            <a:noFill/>
          </a:ln>
        </p:spPr>
      </p:sp>
      <p:sp>
        <p:nvSpPr>
          <p:cNvPr id="2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line is the region 3 bound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pan is indicated by the small ellip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371600" y="768240"/>
            <a:ext cx="5029200" cy="3767400"/>
          </a:xfrm>
          <a:prstGeom prst="rect">
            <a:avLst/>
          </a:prstGeom>
          <a:ln w="0">
            <a:noFill/>
          </a:ln>
        </p:spPr>
      </p:sp>
      <p:sp>
        <p:nvSpPr>
          <p:cNvPr id="2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llocations in the 17 - 19 GHz area are mainly driven by Motorola, Some are in the 17-18 GHz others are in the 18-19 GHz b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371600" y="768240"/>
            <a:ext cx="5029200" cy="3767400"/>
          </a:xfrm>
          <a:prstGeom prst="rect">
            <a:avLst/>
          </a:prstGeom>
          <a:ln w="0">
            <a:noFill/>
          </a:ln>
        </p:spPr>
      </p:sp>
      <p:sp>
        <p:nvSpPr>
          <p:cNvPr id="2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768240"/>
            <a:ext cx="5029200" cy="3767400"/>
          </a:xfrm>
          <a:prstGeom prst="rect">
            <a:avLst/>
          </a:prstGeom>
          <a:ln w="0">
            <a:noFill/>
          </a:ln>
        </p:spPr>
      </p:sp>
      <p:sp>
        <p:nvSpPr>
          <p:cNvPr id="2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371600" y="768240"/>
            <a:ext cx="5029200" cy="3767400"/>
          </a:xfrm>
          <a:prstGeom prst="rect">
            <a:avLst/>
          </a:prstGeom>
          <a:ln w="0">
            <a:noFill/>
          </a:ln>
        </p:spPr>
      </p:sp>
      <p:sp>
        <p:nvSpPr>
          <p:cNvPr id="2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371600" y="768240"/>
            <a:ext cx="5029200" cy="3767400"/>
          </a:xfrm>
          <a:prstGeom prst="rect">
            <a:avLst/>
          </a:prstGeom>
          <a:ln w="0">
            <a:noFill/>
          </a:ln>
        </p:spPr>
      </p:sp>
      <p:sp>
        <p:nvSpPr>
          <p:cNvPr id="2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71360" y="57240"/>
            <a:ext cx="8724960" cy="6667560"/>
          </a:xfrm>
          <a:prstGeom prst="roundRect">
            <a:avLst/>
          </a:prstGeom>
          <a:noFill/>
          <a:ln w="38160">
            <a:solidFill>
              <a:srgbClr val="919191"/>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p:nvPr/>
        </p:nvSpPr>
        <p:spPr>
          <a:xfrm>
            <a:off x="380880" y="6362640"/>
            <a:ext cx="8325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631800" y="6408720"/>
            <a:ext cx="68007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pyright ©1996 IEEE, All rights reserved. This contains parts from an unapproved draft, subject to change</a:t>
            </a:r>
            <a:endParaRPr b="0" lang="en-US" sz="1200" spc="-1" strike="noStrike">
              <a:solidFill>
                <a:srgbClr val="000000"/>
              </a:solidFill>
              <a:latin typeface="Arial"/>
            </a:endParaRPr>
          </a:p>
        </p:txBody>
      </p:sp>
      <p:sp>
        <p:nvSpPr>
          <p:cNvPr id="3" name=""/>
          <p:cNvSpPr txBox="1"/>
          <p:nvPr/>
        </p:nvSpPr>
        <p:spPr>
          <a:xfrm>
            <a:off x="7905600" y="6362640"/>
            <a:ext cx="590400" cy="304920"/>
          </a:xfrm>
          <a:prstGeom prst="rect">
            <a:avLst/>
          </a:prstGeom>
          <a:noFill/>
          <a:ln w="0">
            <a:noFill/>
          </a:ln>
        </p:spPr>
        <p:txBody>
          <a:bodyPr lIns="0" rIns="0" tIns="0" bIns="0" anchor="t">
            <a:noAutofit/>
          </a:bodyPr>
          <a:p>
            <a:pPr>
              <a:lnSpc>
                <a:spcPct val="100000"/>
              </a:lnSpc>
              <a:spcBef>
                <a:spcPts val="1199"/>
              </a:spcBef>
            </a:pPr>
            <a:fld id="{07FA5B48-1880-4D3A-946C-1B1CB782931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utorial on 802.11 to 802 </a:t>
            </a:r>
            <a:endParaRPr b="0" lang="en-US" sz="3600" spc="-1" strike="noStrike">
              <a:solidFill>
                <a:srgbClr val="000000"/>
              </a:solidFill>
              <a:latin typeface="Arial"/>
            </a:endParaRPr>
          </a:p>
        </p:txBody>
      </p:sp>
      <p:sp>
        <p:nvSpPr>
          <p:cNvPr id="4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 IEEE P802.11</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One of the founders and chair from the beginning</a:t>
            </a:r>
            <a:br>
              <a:rPr sz="2400"/>
            </a:br>
            <a:r>
              <a:rPr b="0" lang="en-US" sz="2400" spc="-1" strike="noStrike">
                <a:solidFill>
                  <a:srgbClr val="000000"/>
                </a:solidFill>
                <a:latin typeface="Times New Roman"/>
                <a:ea typeface="Times New Roman"/>
              </a:rPr>
              <a:t>(September 1990)</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Lucent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7"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make this purpose feasible, this PAR also authorizes IEEE P802 to petition or provide comments to regulatory bodies worldwide (e.g.. the FCC in the USA, the Department of Communications in Canada, the RF agency of the Department of Trade and Industry in the UK and the Radio Frequency Commission of the CEPT  of Eur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AC</a:t>
            </a:r>
            <a:endParaRPr b="0" lang="en-US" sz="3600" spc="-1" strike="noStrike">
              <a:solidFill>
                <a:srgbClr val="000000"/>
              </a:solidFill>
              <a:latin typeface="Arial"/>
            </a:endParaRPr>
          </a:p>
        </p:txBody>
      </p:sp>
      <p:sp>
        <p:nvSpPr>
          <p:cNvPr id="69"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Architecture and MAC architecture overview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reg Ennis, consultant to Symbol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May 1993</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AC (2)</a:t>
            </a:r>
            <a:endParaRPr b="0" lang="en-US" sz="3600" spc="-1" strike="noStrike">
              <a:solidFill>
                <a:srgbClr val="000000"/>
              </a:solidFill>
              <a:latin typeface="Arial"/>
            </a:endParaRPr>
          </a:p>
        </p:txBody>
      </p:sp>
      <p:sp>
        <p:nvSpPr>
          <p:cNvPr id="7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sic Access mechanism and Frame forma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m Diepstraten, Lucent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November 199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 Management and mobility provis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il Belanger, Airone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July 1992</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Introduction</a:t>
            </a:r>
            <a:endParaRPr b="0" lang="en-US" sz="3600" spc="-1" strike="noStrike">
              <a:solidFill>
                <a:srgbClr val="000000"/>
              </a:solidFill>
              <a:latin typeface="Arial"/>
            </a:endParaRPr>
          </a:p>
        </p:txBody>
      </p:sp>
      <p:sp>
        <p:nvSpPr>
          <p:cNvPr id="7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urrent draft supports 3 PHY specific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 for radio</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 for Infr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adio Regulations</a:t>
            </a:r>
            <a:endParaRPr b="0" lang="en-US" sz="3600" spc="-1" strike="noStrike">
              <a:solidFill>
                <a:srgbClr val="000000"/>
              </a:solidFill>
              <a:latin typeface="Arial"/>
            </a:endParaRPr>
          </a:p>
        </p:txBody>
      </p:sp>
      <p:sp>
        <p:nvSpPr>
          <p:cNvPr id="7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dio spectrum is a scarce resource and needs to be regula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ponsibility of local Administr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ternational Regulations are the responsibility of the International Telecommunications Union, Radiocommunication Secto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ld name is CCIR (International Radio Consultative Committe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by Administration (or through administr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n decisions made in the Radiocommunication Assembli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ld name World Administrative Radio Conference (WARC)</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Last one held in 1992</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one planned for 199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ITU divides the world in three Regions for the allocation of frequencies in the Radio Regul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1</a:t>
            </a:r>
            <a:endParaRPr b="0" lang="en-US" sz="3600" spc="-1" strike="noStrike">
              <a:solidFill>
                <a:srgbClr val="000000"/>
              </a:solidFill>
              <a:latin typeface="Arial"/>
            </a:endParaRPr>
          </a:p>
        </p:txBody>
      </p:sp>
      <p:pic>
        <p:nvPicPr>
          <p:cNvPr id="77" name="" descr=""/>
          <p:cNvPicPr/>
          <p:nvPr/>
        </p:nvPicPr>
        <p:blipFill>
          <a:blip r:embed="rId1"/>
          <a:stretch/>
        </p:blipFill>
        <p:spPr>
          <a:xfrm>
            <a:off x="849240" y="1446120"/>
            <a:ext cx="7435800" cy="1144440"/>
          </a:xfrm>
          <a:prstGeom prst="rect">
            <a:avLst/>
          </a:prstGeom>
          <a:ln w="0">
            <a:noFill/>
          </a:ln>
        </p:spPr>
      </p:pic>
      <p:sp>
        <p:nvSpPr>
          <p:cNvPr id="78" name=""/>
          <p:cNvSpPr txBox="1"/>
          <p:nvPr/>
        </p:nvSpPr>
        <p:spPr>
          <a:xfrm>
            <a:off x="747720" y="2757600"/>
            <a:ext cx="7634160" cy="3490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urope is part of Region 1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EPT responsible for harmonization in Europe</a:t>
            </a:r>
            <a:endParaRPr b="0" lang="en-US" sz="2400" spc="-1" strike="noStrike">
              <a:solidFill>
                <a:srgbClr val="000000"/>
              </a:solidFill>
              <a:latin typeface="Arial"/>
            </a:endParaRPr>
          </a:p>
        </p:txBody>
      </p:sp>
      <p:sp>
        <p:nvSpPr>
          <p:cNvPr id="79"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191200" y="1514520"/>
            <a:ext cx="28440" cy="18108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676680" y="1504800"/>
            <a:ext cx="28440" cy="20952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1962000" y="3695760"/>
            <a:ext cx="5362560" cy="2352600"/>
          </a:xfrm>
          <a:prstGeom prst="rect">
            <a:avLst/>
          </a:prstGeom>
          <a:ln w="0">
            <a:noFill/>
          </a:ln>
        </p:spPr>
      </p:pic>
      <p:sp>
        <p:nvSpPr>
          <p:cNvPr id="84" name=""/>
          <p:cNvSpPr/>
          <p:nvPr/>
        </p:nvSpPr>
        <p:spPr>
          <a:xfrm>
            <a:off x="4667400" y="3809880"/>
            <a:ext cx="571680" cy="60948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4000680" y="3695760"/>
            <a:ext cx="2438640" cy="2362680"/>
          </a:xfrm>
          <a:custGeom>
            <a:avLst/>
            <a:gdLst/>
            <a:ahLst/>
            <a:rect l="0" t="0" r="r" b="b"/>
            <a:pathLst>
              <a:path fill="none" w="6774" h="6563">
                <a:moveTo>
                  <a:pt x="1693" y="5875"/>
                </a:moveTo>
                <a:lnTo>
                  <a:pt x="952" y="3493"/>
                </a:lnTo>
                <a:lnTo>
                  <a:pt x="0" y="2117"/>
                </a:lnTo>
                <a:lnTo>
                  <a:pt x="3280" y="0"/>
                </a:lnTo>
                <a:lnTo>
                  <a:pt x="6245" y="370"/>
                </a:lnTo>
                <a:lnTo>
                  <a:pt x="6774" y="1375"/>
                </a:lnTo>
                <a:lnTo>
                  <a:pt x="5504" y="1800"/>
                </a:lnTo>
                <a:lnTo>
                  <a:pt x="5133" y="1481"/>
                </a:lnTo>
                <a:lnTo>
                  <a:pt x="4446" y="1694"/>
                </a:lnTo>
                <a:lnTo>
                  <a:pt x="3758" y="1481"/>
                </a:lnTo>
                <a:lnTo>
                  <a:pt x="3652" y="1958"/>
                </a:lnTo>
                <a:lnTo>
                  <a:pt x="4340" y="2488"/>
                </a:lnTo>
                <a:lnTo>
                  <a:pt x="4393" y="5452"/>
                </a:lnTo>
                <a:lnTo>
                  <a:pt x="3333" y="6457"/>
                </a:lnTo>
                <a:lnTo>
                  <a:pt x="2169" y="6563"/>
                </a:lnTo>
                <a:lnTo>
                  <a:pt x="1693" y="5875"/>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2066760" y="1514520"/>
            <a:ext cx="66600" cy="1904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12680" y="1042920"/>
            <a:ext cx="80640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1 foot</a:t>
            </a:r>
            <a:endParaRPr b="0" lang="en-US" sz="1800" spc="-1" strike="noStrike">
              <a:solidFill>
                <a:srgbClr val="000000"/>
              </a:solidFill>
              <a:latin typeface="Arial"/>
            </a:endParaRPr>
          </a:p>
        </p:txBody>
      </p:sp>
      <p:sp>
        <p:nvSpPr>
          <p:cNvPr id="88" name=""/>
          <p:cNvSpPr txBox="1"/>
          <p:nvPr/>
        </p:nvSpPr>
        <p:spPr>
          <a:xfrm>
            <a:off x="4079880" y="1042920"/>
            <a:ext cx="70488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3 cm</a:t>
            </a:r>
            <a:endParaRPr b="0" lang="en-US" sz="1800" spc="-1" strike="noStrike">
              <a:solidFill>
                <a:srgbClr val="000000"/>
              </a:solidFill>
              <a:latin typeface="Arial"/>
            </a:endParaRPr>
          </a:p>
        </p:txBody>
      </p:sp>
      <p:sp>
        <p:nvSpPr>
          <p:cNvPr id="89" name=""/>
          <p:cNvSpPr txBox="1"/>
          <p:nvPr/>
        </p:nvSpPr>
        <p:spPr>
          <a:xfrm>
            <a:off x="7337520" y="1042920"/>
            <a:ext cx="78120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3 mm</a:t>
            </a:r>
            <a:endParaRPr b="0" lang="en-US" sz="1800" spc="-1" strike="noStrike">
              <a:solidFill>
                <a:srgbClr val="000000"/>
              </a:solidFill>
              <a:latin typeface="Arial"/>
            </a:endParaRPr>
          </a:p>
        </p:txBody>
      </p:sp>
      <p:sp>
        <p:nvSpPr>
          <p:cNvPr id="90" name=""/>
          <p:cNvSpPr txBox="1"/>
          <p:nvPr/>
        </p:nvSpPr>
        <p:spPr>
          <a:xfrm>
            <a:off x="563400" y="2575080"/>
            <a:ext cx="54936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UHF</a:t>
            </a:r>
            <a:endParaRPr b="0" lang="en-US" sz="1400" spc="-1" strike="noStrike">
              <a:solidFill>
                <a:srgbClr val="000000"/>
              </a:solidFill>
              <a:latin typeface="Arial"/>
            </a:endParaRPr>
          </a:p>
        </p:txBody>
      </p:sp>
      <p:sp>
        <p:nvSpPr>
          <p:cNvPr id="91" name=""/>
          <p:cNvSpPr txBox="1"/>
          <p:nvPr/>
        </p:nvSpPr>
        <p:spPr>
          <a:xfrm>
            <a:off x="4213080" y="2575080"/>
            <a:ext cx="10238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m waves</a:t>
            </a:r>
            <a:endParaRPr b="0" lang="en-US" sz="1400" spc="-1" strike="noStrike">
              <a:solidFill>
                <a:srgbClr val="000000"/>
              </a:solidFill>
              <a:latin typeface="Arial"/>
            </a:endParaRPr>
          </a:p>
        </p:txBody>
      </p:sp>
      <p:sp>
        <p:nvSpPr>
          <p:cNvPr id="92" name=""/>
          <p:cNvSpPr txBox="1"/>
          <p:nvPr/>
        </p:nvSpPr>
        <p:spPr>
          <a:xfrm>
            <a:off x="7288200" y="2575080"/>
            <a:ext cx="108432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mm waves</a:t>
            </a:r>
            <a:endParaRPr b="0" lang="en-US" sz="1400" spc="-1" strike="noStrike">
              <a:solidFill>
                <a:srgbClr val="000000"/>
              </a:solidFill>
              <a:latin typeface="Arial"/>
            </a:endParaRPr>
          </a:p>
        </p:txBody>
      </p:sp>
      <p:sp>
        <p:nvSpPr>
          <p:cNvPr id="93" name=""/>
          <p:cNvSpPr/>
          <p:nvPr/>
        </p:nvSpPr>
        <p:spPr>
          <a:xfrm>
            <a:off x="1104840" y="27050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2971800" y="2705040"/>
            <a:ext cx="1238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219640" y="2743200"/>
            <a:ext cx="914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95880" y="2743200"/>
            <a:ext cx="1238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1</a:t>
            </a:r>
            <a:endParaRPr b="0" lang="en-US" sz="3600" spc="-1" strike="noStrike">
              <a:solidFill>
                <a:srgbClr val="000000"/>
              </a:solidFill>
              <a:latin typeface="Arial"/>
            </a:endParaRPr>
          </a:p>
        </p:txBody>
      </p:sp>
      <p:sp>
        <p:nvSpPr>
          <p:cNvPr id="98" name=""/>
          <p:cNvSpPr txBox="1"/>
          <p:nvPr/>
        </p:nvSpPr>
        <p:spPr>
          <a:xfrm>
            <a:off x="657360" y="108576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DECT, 1.880 - 1.900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gital European Cordless T(elephone)elecommunication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RLANs of 100 MHz in the 2.45 GHz band, T/R 10-0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p part (2.4835 - 2.500 GHz) may be withdrawn for satellite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HIPERLAN, 100 + 50 MHz in 5.2 GHz area and 200 MHz in 17 GHz area, T/R 22-06</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High Performance European radio LA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RLANs in 61.0 - 61.5 GHz, T/R 22-03</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915 MHz band has been allocated to GSM (Groupe Speciale Mobi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me persons thinking about spectrum auctions as in USA</a:t>
            </a:r>
            <a:endParaRPr b="0" lang="en-US" sz="2400" spc="-1" strike="noStrike">
              <a:solidFill>
                <a:srgbClr val="000000"/>
              </a:solidFill>
              <a:latin typeface="Arial"/>
            </a:endParaRPr>
          </a:p>
        </p:txBody>
      </p:sp>
      <p:sp>
        <p:nvSpPr>
          <p:cNvPr id="99" name=""/>
          <p:cNvSpPr/>
          <p:nvPr/>
        </p:nvSpPr>
        <p:spPr>
          <a:xfrm>
            <a:off x="938160" y="1195560"/>
            <a:ext cx="66600" cy="1904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928800" y="202896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990720" y="3486240"/>
            <a:ext cx="57240" cy="18108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990720" y="463860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pic>
        <p:nvPicPr>
          <p:cNvPr id="104" name="" descr=""/>
          <p:cNvPicPr/>
          <p:nvPr/>
        </p:nvPicPr>
        <p:blipFill>
          <a:blip r:embed="rId1"/>
          <a:stretch/>
        </p:blipFill>
        <p:spPr>
          <a:xfrm>
            <a:off x="849240" y="1446120"/>
            <a:ext cx="7435800" cy="1144440"/>
          </a:xfrm>
          <a:prstGeom prst="rect">
            <a:avLst/>
          </a:prstGeom>
          <a:ln w="0">
            <a:noFill/>
          </a:ln>
        </p:spPr>
      </p:pic>
      <p:sp>
        <p:nvSpPr>
          <p:cNvPr id="105" name=""/>
          <p:cNvSpPr txBox="1"/>
          <p:nvPr/>
        </p:nvSpPr>
        <p:spPr>
          <a:xfrm>
            <a:off x="747720" y="2771640"/>
            <a:ext cx="7634160" cy="3476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A is part of Region 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CC is the agency for regulation in USA</a:t>
            </a:r>
            <a:endParaRPr b="0" lang="en-US" sz="2400" spc="-1" strike="noStrike">
              <a:solidFill>
                <a:srgbClr val="000000"/>
              </a:solidFill>
              <a:latin typeface="Arial"/>
            </a:endParaRPr>
          </a:p>
        </p:txBody>
      </p:sp>
      <p:sp>
        <p:nvSpPr>
          <p:cNvPr id="106" name=""/>
          <p:cNvSpPr/>
          <p:nvPr/>
        </p:nvSpPr>
        <p:spPr>
          <a:xfrm>
            <a:off x="2600280" y="17384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5343480" y="174312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11" name="" descr=""/>
          <p:cNvPicPr/>
          <p:nvPr/>
        </p:nvPicPr>
        <p:blipFill>
          <a:blip r:embed="rId2"/>
          <a:stretch/>
        </p:blipFill>
        <p:spPr>
          <a:xfrm>
            <a:off x="1962000" y="3695760"/>
            <a:ext cx="5362560" cy="2352600"/>
          </a:xfrm>
          <a:prstGeom prst="rect">
            <a:avLst/>
          </a:prstGeom>
          <a:ln w="0">
            <a:noFill/>
          </a:ln>
        </p:spPr>
      </p:pic>
      <p:sp>
        <p:nvSpPr>
          <p:cNvPr id="112" name=""/>
          <p:cNvSpPr/>
          <p:nvPr/>
        </p:nvSpPr>
        <p:spPr>
          <a:xfrm>
            <a:off x="1962000" y="3714840"/>
            <a:ext cx="2400840" cy="2343600"/>
          </a:xfrm>
          <a:custGeom>
            <a:avLst/>
            <a:gdLst/>
            <a:ahLst/>
            <a:rect l="0" t="0" r="r" b="b"/>
            <a:pathLst>
              <a:path fill="none" w="6669" h="6510">
                <a:moveTo>
                  <a:pt x="5240" y="6510"/>
                </a:moveTo>
                <a:lnTo>
                  <a:pt x="5399" y="6457"/>
                </a:lnTo>
                <a:lnTo>
                  <a:pt x="5558" y="6404"/>
                </a:lnTo>
                <a:lnTo>
                  <a:pt x="5716" y="6352"/>
                </a:lnTo>
                <a:lnTo>
                  <a:pt x="5822" y="6193"/>
                </a:lnTo>
                <a:lnTo>
                  <a:pt x="6669" y="3969"/>
                </a:lnTo>
                <a:lnTo>
                  <a:pt x="4869" y="899"/>
                </a:lnTo>
                <a:lnTo>
                  <a:pt x="5187" y="370"/>
                </a:lnTo>
                <a:lnTo>
                  <a:pt x="3493" y="0"/>
                </a:lnTo>
                <a:lnTo>
                  <a:pt x="1853" y="529"/>
                </a:lnTo>
                <a:lnTo>
                  <a:pt x="529" y="1958"/>
                </a:lnTo>
                <a:lnTo>
                  <a:pt x="0" y="2964"/>
                </a:lnTo>
                <a:lnTo>
                  <a:pt x="1694" y="3017"/>
                </a:lnTo>
                <a:lnTo>
                  <a:pt x="1058" y="6457"/>
                </a:lnTo>
                <a:lnTo>
                  <a:pt x="2382" y="6140"/>
                </a:lnTo>
                <a:lnTo>
                  <a:pt x="3334" y="3863"/>
                </a:lnTo>
                <a:lnTo>
                  <a:pt x="4022" y="5769"/>
                </a:lnTo>
                <a:lnTo>
                  <a:pt x="4816" y="6510"/>
                </a:lnTo>
                <a:lnTo>
                  <a:pt x="5611" y="6352"/>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3" name=""/>
          <p:cNvSpPr/>
          <p:nvPr/>
        </p:nvSpPr>
        <p:spPr>
          <a:xfrm>
            <a:off x="2828880" y="4062240"/>
            <a:ext cx="762120" cy="30492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4" name=""/>
          <p:cNvSpPr/>
          <p:nvPr/>
        </p:nvSpPr>
        <p:spPr>
          <a:xfrm>
            <a:off x="2575080" y="17352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6543720" y="179064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16" name=""/>
          <p:cNvSpPr/>
          <p:nvPr/>
        </p:nvSpPr>
        <p:spPr>
          <a:xfrm>
            <a:off x="7058160" y="176220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sp>
        <p:nvSpPr>
          <p:cNvPr id="118" name=""/>
          <p:cNvSpPr txBox="1"/>
          <p:nvPr/>
        </p:nvSpPr>
        <p:spPr>
          <a:xfrm>
            <a:off x="666720" y="108576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CC Part 15 rules allow for use of Spread Spectrum devic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902 - 928 MHz</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so in Canada and Mexico</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4 - 2.4835 GHz</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so in Canad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5.725 - 5.875 GHz</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licensed PCS, 1.910 - 1.930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0 MHz for voice applications (1.920-1.930 GHz)</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0 MHz for data applications (1.910-1.920 GHz)</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eeds to be cleared firs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location to be paid by new users </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finition of users unclear for non-licensed application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nditionally designated to UTAM, Unlicensed (ad-hoc committee) for 2 GHz microwave Transition And Managemen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licensed PCS, 2.390 - 2.400 GHz</a:t>
            </a:r>
            <a:endParaRPr b="0" lang="en-US" sz="2400" spc="-1" strike="noStrike">
              <a:solidFill>
                <a:srgbClr val="000000"/>
              </a:solidFill>
              <a:latin typeface="Arial"/>
            </a:endParaRPr>
          </a:p>
        </p:txBody>
      </p:sp>
      <p:sp>
        <p:nvSpPr>
          <p:cNvPr id="119" name=""/>
          <p:cNvSpPr/>
          <p:nvPr/>
        </p:nvSpPr>
        <p:spPr>
          <a:xfrm>
            <a:off x="947880" y="120024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995400" y="31003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976320" y="5891040"/>
            <a:ext cx="5724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sp>
        <p:nvSpPr>
          <p:cNvPr id="12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tice of Proposed Rulemaking for above 40 GHz alloc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5 GHz for unlicensed servi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cludes LANs, vehicle radar systems to avoid collision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5 GHz in a single band: 59-64 GHz</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dditional 3.5 GHz in 7 bands between 71 and 153 GHz</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3 GHz for licensed servi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GHz in two bands, 40.5 - 42.5 GHz and 47.2 - 48.2 GHz</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4.3 GHz in 7 bands between 71 and 153 GHz</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icensed band for data communications, 18.8 - 19.2 GHz</a:t>
            </a:r>
            <a:endParaRPr b="0" lang="en-US" sz="2400" spc="-1" strike="noStrike">
              <a:solidFill>
                <a:srgbClr val="000000"/>
              </a:solidFill>
              <a:latin typeface="Arial"/>
            </a:endParaRPr>
          </a:p>
        </p:txBody>
      </p:sp>
      <p:sp>
        <p:nvSpPr>
          <p:cNvPr id="124" name=""/>
          <p:cNvSpPr/>
          <p:nvPr/>
        </p:nvSpPr>
        <p:spPr>
          <a:xfrm>
            <a:off x="914400" y="470520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971640" y="300528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129280" y="237636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Outline (1)</a:t>
            </a:r>
            <a:endParaRPr b="0" lang="en-US" sz="3600" spc="-1" strike="noStrike">
              <a:solidFill>
                <a:srgbClr val="000000"/>
              </a:solidFill>
              <a:latin typeface="Arial"/>
            </a:endParaRPr>
          </a:p>
        </p:txBody>
      </p:sp>
      <p:sp>
        <p:nvSpPr>
          <p:cNvPr id="5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reless Architecture and MAC architecture overview</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asic Access mechanism and Frame format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C Management and mobility provision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pectrum selection</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requency Hopping PH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rect Sequence PH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frared 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3</a:t>
            </a:r>
            <a:endParaRPr b="0" lang="en-US" sz="3600" spc="-1" strike="noStrike">
              <a:solidFill>
                <a:srgbClr val="000000"/>
              </a:solidFill>
              <a:latin typeface="Arial"/>
            </a:endParaRPr>
          </a:p>
        </p:txBody>
      </p:sp>
      <p:pic>
        <p:nvPicPr>
          <p:cNvPr id="128" name="" descr=""/>
          <p:cNvPicPr/>
          <p:nvPr/>
        </p:nvPicPr>
        <p:blipFill>
          <a:blip r:embed="rId1"/>
          <a:stretch/>
        </p:blipFill>
        <p:spPr>
          <a:xfrm>
            <a:off x="849240" y="1446120"/>
            <a:ext cx="7435800" cy="1144440"/>
          </a:xfrm>
          <a:prstGeom prst="rect">
            <a:avLst/>
          </a:prstGeom>
          <a:ln w="0">
            <a:noFill/>
          </a:ln>
        </p:spPr>
      </p:pic>
      <p:sp>
        <p:nvSpPr>
          <p:cNvPr id="129" name=""/>
          <p:cNvSpPr txBox="1"/>
          <p:nvPr/>
        </p:nvSpPr>
        <p:spPr>
          <a:xfrm>
            <a:off x="747720" y="2814480"/>
            <a:ext cx="7634160" cy="3433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Japan is part of Region 3</a:t>
            </a:r>
            <a:endParaRPr b="0" lang="en-US" sz="2400" spc="-1" strike="noStrike">
              <a:solidFill>
                <a:srgbClr val="000000"/>
              </a:solidFill>
              <a:latin typeface="Arial"/>
            </a:endParaRPr>
          </a:p>
        </p:txBody>
      </p:sp>
      <p:pic>
        <p:nvPicPr>
          <p:cNvPr id="130" name="" descr=""/>
          <p:cNvPicPr/>
          <p:nvPr/>
        </p:nvPicPr>
        <p:blipFill>
          <a:blip r:embed="rId2"/>
          <a:stretch/>
        </p:blipFill>
        <p:spPr>
          <a:xfrm>
            <a:off x="1962000" y="3695760"/>
            <a:ext cx="5362560" cy="2352600"/>
          </a:xfrm>
          <a:prstGeom prst="rect">
            <a:avLst/>
          </a:prstGeom>
          <a:ln w="0">
            <a:noFill/>
          </a:ln>
        </p:spPr>
      </p:pic>
      <p:sp>
        <p:nvSpPr>
          <p:cNvPr id="131" name=""/>
          <p:cNvSpPr/>
          <p:nvPr/>
        </p:nvSpPr>
        <p:spPr>
          <a:xfrm>
            <a:off x="5315040" y="3867120"/>
            <a:ext cx="2038680" cy="2190960"/>
          </a:xfrm>
          <a:custGeom>
            <a:avLst/>
            <a:gdLst/>
            <a:ahLst/>
            <a:rect l="0" t="0" r="r" b="b"/>
            <a:pathLst>
              <a:path fill="none" w="5663" h="6086">
                <a:moveTo>
                  <a:pt x="740" y="4869"/>
                </a:moveTo>
                <a:lnTo>
                  <a:pt x="687" y="1957"/>
                </a:lnTo>
                <a:lnTo>
                  <a:pt x="0" y="1534"/>
                </a:lnTo>
                <a:lnTo>
                  <a:pt x="158" y="899"/>
                </a:lnTo>
                <a:lnTo>
                  <a:pt x="740" y="1217"/>
                </a:lnTo>
                <a:lnTo>
                  <a:pt x="1481" y="1058"/>
                </a:lnTo>
                <a:lnTo>
                  <a:pt x="1957" y="1428"/>
                </a:lnTo>
                <a:lnTo>
                  <a:pt x="3123" y="952"/>
                </a:lnTo>
                <a:lnTo>
                  <a:pt x="2407" y="0"/>
                </a:lnTo>
                <a:lnTo>
                  <a:pt x="5557" y="2275"/>
                </a:lnTo>
                <a:lnTo>
                  <a:pt x="5663" y="3334"/>
                </a:lnTo>
                <a:lnTo>
                  <a:pt x="5081" y="5028"/>
                </a:lnTo>
                <a:lnTo>
                  <a:pt x="4340" y="5980"/>
                </a:lnTo>
                <a:lnTo>
                  <a:pt x="3599" y="6086"/>
                </a:lnTo>
                <a:lnTo>
                  <a:pt x="2407" y="5504"/>
                </a:lnTo>
                <a:lnTo>
                  <a:pt x="1481" y="3546"/>
                </a:lnTo>
                <a:lnTo>
                  <a:pt x="740" y="4869"/>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32" name=""/>
          <p:cNvSpPr/>
          <p:nvPr/>
        </p:nvSpPr>
        <p:spPr>
          <a:xfrm>
            <a:off x="2600280" y="1971720"/>
            <a:ext cx="3816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5381640" y="197172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29440" y="4214880"/>
            <a:ext cx="247680" cy="28116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3</a:t>
            </a:r>
            <a:endParaRPr b="0" lang="en-US" sz="3600" spc="-1" strike="noStrike">
              <a:solidFill>
                <a:srgbClr val="000000"/>
              </a:solidFill>
              <a:latin typeface="Arial"/>
            </a:endParaRPr>
          </a:p>
        </p:txBody>
      </p:sp>
      <p:sp>
        <p:nvSpPr>
          <p:cNvPr id="136"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in Japan for RLANs 2.471 - 2.497 GHz</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ny other countries in Region 3 adopting the 2.4 - 2.5 GHz allocation for RLA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s expected in the area of 17 - 19 GHz</a:t>
            </a:r>
            <a:endParaRPr b="0" lang="en-US" sz="2400" spc="-1" strike="noStrike">
              <a:solidFill>
                <a:srgbClr val="000000"/>
              </a:solidFill>
              <a:latin typeface="Arial"/>
            </a:endParaRPr>
          </a:p>
        </p:txBody>
      </p:sp>
      <p:sp>
        <p:nvSpPr>
          <p:cNvPr id="137" name=""/>
          <p:cNvSpPr/>
          <p:nvPr/>
        </p:nvSpPr>
        <p:spPr>
          <a:xfrm>
            <a:off x="938160" y="154296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1019160" y="275256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40" name="" descr=""/>
          <p:cNvPicPr/>
          <p:nvPr/>
        </p:nvPicPr>
        <p:blipFill>
          <a:blip r:embed="rId1"/>
          <a:stretch/>
        </p:blipFill>
        <p:spPr>
          <a:xfrm>
            <a:off x="849240" y="1446120"/>
            <a:ext cx="7435800" cy="1144440"/>
          </a:xfrm>
          <a:prstGeom prst="rect">
            <a:avLst/>
          </a:prstGeom>
          <a:ln w="0">
            <a:noFill/>
          </a:ln>
        </p:spPr>
      </p:pic>
      <p:sp>
        <p:nvSpPr>
          <p:cNvPr id="141" name=""/>
          <p:cNvSpPr txBox="1"/>
          <p:nvPr/>
        </p:nvSpPr>
        <p:spPr>
          <a:xfrm>
            <a:off x="723960" y="250812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915 MHz band is only available in Region 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9 GHz allocations in US and Europe differ in ruling:</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pectrum etiquette (co-existence standar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eds to be cleared from Microwave point-to-point link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learing will be done area by are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st of clearing will be charged to devices (US$ 20)</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ationwide clearing will take apr. 5 yea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eer-to-peer devices not allowed before nationwide clearan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urop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CT standard(interoperability standard</a:t>
            </a:r>
            <a:endParaRPr b="0" lang="en-US" sz="1800" spc="-1" strike="noStrike">
              <a:solidFill>
                <a:srgbClr val="000000"/>
              </a:solidFill>
              <a:latin typeface="Arial"/>
            </a:endParaRPr>
          </a:p>
        </p:txBody>
      </p:sp>
      <p:sp>
        <p:nvSpPr>
          <p:cNvPr id="142"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95320" y="1847880"/>
            <a:ext cx="381240" cy="991080"/>
          </a:xfrm>
          <a:custGeom>
            <a:avLst/>
            <a:gdLst/>
            <a:ahLst/>
            <a:rect l="0" t="0" r="r" b="b"/>
            <a:pathLst>
              <a:path fill="none" w="1059" h="2753">
                <a:moveTo>
                  <a:pt x="1059" y="0"/>
                </a:moveTo>
                <a:lnTo>
                  <a:pt x="1059" y="0"/>
                </a:lnTo>
                <a:cubicBezTo>
                  <a:pt x="873" y="0"/>
                  <a:pt x="690" y="127"/>
                  <a:pt x="529" y="369"/>
                </a:cubicBezTo>
                <a:cubicBezTo>
                  <a:pt x="369" y="610"/>
                  <a:pt x="235" y="958"/>
                  <a:pt x="142" y="1377"/>
                </a:cubicBezTo>
                <a:cubicBezTo>
                  <a:pt x="49" y="1795"/>
                  <a:pt x="0" y="2270"/>
                  <a:pt x="0" y="275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a:off x="1581120" y="1866960"/>
            <a:ext cx="686160" cy="1638720"/>
          </a:xfrm>
          <a:custGeom>
            <a:avLst/>
            <a:gdLst/>
            <a:ahLst/>
            <a:rect l="0" t="0" r="r" b="b"/>
            <a:pathLst>
              <a:path fill="none" w="1906" h="4552">
                <a:moveTo>
                  <a:pt x="1906" y="0"/>
                </a:moveTo>
                <a:lnTo>
                  <a:pt x="1906" y="0"/>
                </a:lnTo>
                <a:cubicBezTo>
                  <a:pt x="1571" y="0"/>
                  <a:pt x="1243" y="210"/>
                  <a:pt x="953" y="610"/>
                </a:cubicBezTo>
                <a:cubicBezTo>
                  <a:pt x="663" y="1009"/>
                  <a:pt x="423" y="1584"/>
                  <a:pt x="255" y="2276"/>
                </a:cubicBezTo>
                <a:cubicBezTo>
                  <a:pt x="88" y="2968"/>
                  <a:pt x="0" y="3753"/>
                  <a:pt x="0" y="4552"/>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a:off x="1333440" y="1581120"/>
            <a:ext cx="857520" cy="4038840"/>
          </a:xfrm>
          <a:custGeom>
            <a:avLst/>
            <a:gdLst/>
            <a:ahLst/>
            <a:rect l="0" t="0" r="r" b="b"/>
            <a:pathLst>
              <a:path fill="none" w="2382" h="11219">
                <a:moveTo>
                  <a:pt x="2382" y="0"/>
                </a:moveTo>
                <a:lnTo>
                  <a:pt x="2382" y="0"/>
                </a:lnTo>
                <a:cubicBezTo>
                  <a:pt x="1964" y="0"/>
                  <a:pt x="1553" y="518"/>
                  <a:pt x="1191" y="1503"/>
                </a:cubicBezTo>
                <a:cubicBezTo>
                  <a:pt x="829" y="2488"/>
                  <a:pt x="528" y="3904"/>
                  <a:pt x="319" y="5610"/>
                </a:cubicBezTo>
                <a:cubicBezTo>
                  <a:pt x="110" y="7315"/>
                  <a:pt x="0" y="9250"/>
                  <a:pt x="0" y="11219"/>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2543040" y="17334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6543720" y="177156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59" name=""/>
          <p:cNvSpPr/>
          <p:nvPr/>
        </p:nvSpPr>
        <p:spPr>
          <a:xfrm>
            <a:off x="7058160" y="174312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61" name="" descr=""/>
          <p:cNvPicPr/>
          <p:nvPr/>
        </p:nvPicPr>
        <p:blipFill>
          <a:blip r:embed="rId1"/>
          <a:stretch/>
        </p:blipFill>
        <p:spPr>
          <a:xfrm>
            <a:off x="849240" y="1446120"/>
            <a:ext cx="7435800" cy="1144440"/>
          </a:xfrm>
          <a:prstGeom prst="rect">
            <a:avLst/>
          </a:prstGeom>
          <a:ln w="0">
            <a:noFill/>
          </a:ln>
        </p:spPr>
      </p:pic>
      <p:sp>
        <p:nvSpPr>
          <p:cNvPr id="162" name=""/>
          <p:cNvSpPr txBox="1"/>
          <p:nvPr/>
        </p:nvSpPr>
        <p:spPr>
          <a:xfrm>
            <a:off x="666720" y="275580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2.4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vailable in many countries around the glob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 working on an interoperability standard for 1 and 2 Mbit/s datarat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sadvantag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econdary statu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wave ove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PERLAN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European part of Region 1</a:t>
            </a:r>
            <a:endParaRPr b="0" lang="en-US" sz="2000" spc="-1" strike="noStrike">
              <a:solidFill>
                <a:srgbClr val="000000"/>
              </a:solidFill>
              <a:latin typeface="Arial"/>
            </a:endParaRPr>
          </a:p>
        </p:txBody>
      </p:sp>
      <p:sp>
        <p:nvSpPr>
          <p:cNvPr id="163"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895320" y="2057400"/>
            <a:ext cx="1733760" cy="819360"/>
          </a:xfrm>
          <a:custGeom>
            <a:avLst/>
            <a:gdLst/>
            <a:ahLst/>
            <a:rect l="0" t="0" r="r" b="b"/>
            <a:pathLst>
              <a:path fill="none" w="4816" h="2276">
                <a:moveTo>
                  <a:pt x="4816" y="0"/>
                </a:moveTo>
                <a:lnTo>
                  <a:pt x="4816" y="0"/>
                </a:lnTo>
                <a:cubicBezTo>
                  <a:pt x="3971" y="0"/>
                  <a:pt x="3140" y="105"/>
                  <a:pt x="2408" y="305"/>
                </a:cubicBezTo>
                <a:cubicBezTo>
                  <a:pt x="1676" y="505"/>
                  <a:pt x="1068" y="792"/>
                  <a:pt x="645" y="1138"/>
                </a:cubicBezTo>
                <a:cubicBezTo>
                  <a:pt x="223" y="1484"/>
                  <a:pt x="0" y="1876"/>
                  <a:pt x="0" y="2276"/>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895320" y="1600200"/>
            <a:ext cx="2819880" cy="3333960"/>
          </a:xfrm>
          <a:custGeom>
            <a:avLst/>
            <a:gdLst/>
            <a:ahLst/>
            <a:rect l="0" t="0" r="r" b="b"/>
            <a:pathLst>
              <a:path fill="none" w="7833" h="9261">
                <a:moveTo>
                  <a:pt x="7833" y="0"/>
                </a:moveTo>
                <a:lnTo>
                  <a:pt x="7833" y="0"/>
                </a:lnTo>
                <a:cubicBezTo>
                  <a:pt x="6458" y="0"/>
                  <a:pt x="5107" y="428"/>
                  <a:pt x="3916" y="1241"/>
                </a:cubicBezTo>
                <a:cubicBezTo>
                  <a:pt x="2726" y="2054"/>
                  <a:pt x="1737" y="3223"/>
                  <a:pt x="1049" y="4631"/>
                </a:cubicBezTo>
                <a:cubicBezTo>
                  <a:pt x="362" y="6038"/>
                  <a:pt x="0" y="7635"/>
                  <a:pt x="0" y="926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2548080" y="173052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6543720" y="182880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79" name=""/>
          <p:cNvSpPr/>
          <p:nvPr/>
        </p:nvSpPr>
        <p:spPr>
          <a:xfrm>
            <a:off x="7058160" y="180036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81" name="" descr=""/>
          <p:cNvPicPr/>
          <p:nvPr/>
        </p:nvPicPr>
        <p:blipFill>
          <a:blip r:embed="rId1"/>
          <a:stretch/>
        </p:blipFill>
        <p:spPr>
          <a:xfrm>
            <a:off x="849240" y="1446120"/>
            <a:ext cx="7435800" cy="1144440"/>
          </a:xfrm>
          <a:prstGeom prst="rect">
            <a:avLst/>
          </a:prstGeom>
          <a:ln w="0">
            <a:noFill/>
          </a:ln>
        </p:spPr>
      </p:pic>
      <p:sp>
        <p:nvSpPr>
          <p:cNvPr id="182" name=""/>
          <p:cNvSpPr txBox="1"/>
          <p:nvPr/>
        </p:nvSpPr>
        <p:spPr>
          <a:xfrm>
            <a:off x="647640" y="2584440"/>
            <a:ext cx="7772400" cy="368316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5.8 GHz band(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available in the USA</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PERLA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lease turn to prior slid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me channels in the 18.8 - 19.2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the US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bject to licens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7 - 19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Japan, rules unknown</a:t>
            </a:r>
            <a:endParaRPr b="0" lang="en-US" sz="2000" spc="-1" strike="noStrike">
              <a:solidFill>
                <a:srgbClr val="000000"/>
              </a:solidFill>
              <a:latin typeface="Arial"/>
            </a:endParaRPr>
          </a:p>
        </p:txBody>
      </p:sp>
      <p:sp>
        <p:nvSpPr>
          <p:cNvPr id="183"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809880" y="177156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876240" y="1828800"/>
            <a:ext cx="2934000" cy="1047960"/>
          </a:xfrm>
          <a:custGeom>
            <a:avLst/>
            <a:gdLst/>
            <a:ahLst/>
            <a:rect l="0" t="0" r="r" b="b"/>
            <a:pathLst>
              <a:path fill="none" w="8150" h="2911">
                <a:moveTo>
                  <a:pt x="8150" y="0"/>
                </a:moveTo>
                <a:lnTo>
                  <a:pt x="8150" y="0"/>
                </a:lnTo>
                <a:cubicBezTo>
                  <a:pt x="6719" y="0"/>
                  <a:pt x="5314" y="135"/>
                  <a:pt x="4075" y="390"/>
                </a:cubicBezTo>
                <a:cubicBezTo>
                  <a:pt x="2836" y="645"/>
                  <a:pt x="1807" y="1013"/>
                  <a:pt x="1092" y="1456"/>
                </a:cubicBezTo>
                <a:cubicBezTo>
                  <a:pt x="377" y="1898"/>
                  <a:pt x="0" y="2400"/>
                  <a:pt x="0" y="291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914400" y="1600200"/>
            <a:ext cx="4305600" cy="1905480"/>
          </a:xfrm>
          <a:custGeom>
            <a:avLst/>
            <a:gdLst/>
            <a:ahLst/>
            <a:rect l="0" t="0" r="r" b="b"/>
            <a:pathLst>
              <a:path fill="none" w="11960" h="5293">
                <a:moveTo>
                  <a:pt x="11960" y="0"/>
                </a:moveTo>
                <a:lnTo>
                  <a:pt x="11960" y="0"/>
                </a:lnTo>
                <a:cubicBezTo>
                  <a:pt x="9861" y="0"/>
                  <a:pt x="7798" y="245"/>
                  <a:pt x="5980" y="709"/>
                </a:cubicBezTo>
                <a:cubicBezTo>
                  <a:pt x="4162" y="1174"/>
                  <a:pt x="2652" y="1842"/>
                  <a:pt x="1602" y="2647"/>
                </a:cubicBezTo>
                <a:cubicBezTo>
                  <a:pt x="553" y="3451"/>
                  <a:pt x="0" y="4364"/>
                  <a:pt x="0" y="529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7" name=""/>
          <p:cNvSpPr/>
          <p:nvPr/>
        </p:nvSpPr>
        <p:spPr>
          <a:xfrm>
            <a:off x="895320" y="1828800"/>
            <a:ext cx="4496040" cy="2386440"/>
          </a:xfrm>
          <a:custGeom>
            <a:avLst/>
            <a:gdLst/>
            <a:ahLst/>
            <a:rect l="0" t="0" r="r" b="b"/>
            <a:pathLst>
              <a:path fill="none" w="12489" h="6629">
                <a:moveTo>
                  <a:pt x="12489" y="0"/>
                </a:moveTo>
                <a:lnTo>
                  <a:pt x="12489" y="0"/>
                </a:lnTo>
                <a:cubicBezTo>
                  <a:pt x="10297" y="0"/>
                  <a:pt x="8143" y="306"/>
                  <a:pt x="6244" y="888"/>
                </a:cubicBezTo>
                <a:cubicBezTo>
                  <a:pt x="4346" y="1470"/>
                  <a:pt x="2769" y="2307"/>
                  <a:pt x="1673" y="3315"/>
                </a:cubicBezTo>
                <a:cubicBezTo>
                  <a:pt x="577" y="4322"/>
                  <a:pt x="0" y="5465"/>
                  <a:pt x="0" y="6629"/>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8" name=""/>
          <p:cNvSpPr/>
          <p:nvPr/>
        </p:nvSpPr>
        <p:spPr>
          <a:xfrm>
            <a:off x="933480" y="2076480"/>
            <a:ext cx="4458240" cy="3086280"/>
          </a:xfrm>
          <a:custGeom>
            <a:avLst/>
            <a:gdLst/>
            <a:ahLst/>
            <a:rect l="0" t="0" r="r" b="b"/>
            <a:pathLst>
              <a:path fill="none" w="12384" h="8573">
                <a:moveTo>
                  <a:pt x="12384" y="0"/>
                </a:moveTo>
                <a:lnTo>
                  <a:pt x="12384" y="0"/>
                </a:lnTo>
                <a:cubicBezTo>
                  <a:pt x="10210" y="0"/>
                  <a:pt x="8075" y="396"/>
                  <a:pt x="6192" y="1149"/>
                </a:cubicBezTo>
                <a:cubicBezTo>
                  <a:pt x="4309" y="1901"/>
                  <a:pt x="2746" y="2983"/>
                  <a:pt x="1659" y="4287"/>
                </a:cubicBezTo>
                <a:cubicBezTo>
                  <a:pt x="572" y="5590"/>
                  <a:pt x="0" y="7068"/>
                  <a:pt x="0" y="857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9" name=""/>
          <p:cNvSpPr/>
          <p:nvPr/>
        </p:nvSpPr>
        <p:spPr>
          <a:xfrm>
            <a:off x="2549520" y="17208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6543720" y="182880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201" name=""/>
          <p:cNvSpPr/>
          <p:nvPr/>
        </p:nvSpPr>
        <p:spPr>
          <a:xfrm>
            <a:off x="7058160" y="180036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203" name="" descr=""/>
          <p:cNvPicPr/>
          <p:nvPr/>
        </p:nvPicPr>
        <p:blipFill>
          <a:blip r:embed="rId1"/>
          <a:stretch/>
        </p:blipFill>
        <p:spPr>
          <a:xfrm>
            <a:off x="849240" y="1446120"/>
            <a:ext cx="7435800" cy="1144440"/>
          </a:xfrm>
          <a:prstGeom prst="rect">
            <a:avLst/>
          </a:prstGeom>
          <a:ln w="0">
            <a:noFill/>
          </a:ln>
        </p:spPr>
      </p:pic>
      <p:sp>
        <p:nvSpPr>
          <p:cNvPr id="204" name=""/>
          <p:cNvSpPr txBox="1"/>
          <p:nvPr/>
        </p:nvSpPr>
        <p:spPr>
          <a:xfrm>
            <a:off x="685800" y="287028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61.0 - 61.5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echnology is too expensive ye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ine of sight required due to properties of waves at this frequenc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 in the Oxygen absorption band</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limits coverage area</a:t>
            </a:r>
            <a:endParaRPr b="0" lang="en-US" sz="1800" spc="-1" strike="noStrike">
              <a:solidFill>
                <a:srgbClr val="000000"/>
              </a:solidFill>
              <a:latin typeface="Arial"/>
            </a:endParaRPr>
          </a:p>
        </p:txBody>
      </p:sp>
      <p:sp>
        <p:nvSpPr>
          <p:cNvPr id="205"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876240" y="1581120"/>
            <a:ext cx="6229800" cy="1352880"/>
          </a:xfrm>
          <a:custGeom>
            <a:avLst/>
            <a:gdLst/>
            <a:ahLst/>
            <a:rect l="0" t="0" r="r" b="b"/>
            <a:pathLst>
              <a:path fill="none" w="17305" h="3758">
                <a:moveTo>
                  <a:pt x="17305" y="0"/>
                </a:moveTo>
                <a:lnTo>
                  <a:pt x="17305" y="0"/>
                </a:lnTo>
                <a:cubicBezTo>
                  <a:pt x="14267" y="0"/>
                  <a:pt x="11283" y="174"/>
                  <a:pt x="8652" y="503"/>
                </a:cubicBezTo>
                <a:cubicBezTo>
                  <a:pt x="6022" y="833"/>
                  <a:pt x="3837" y="1308"/>
                  <a:pt x="2318" y="1879"/>
                </a:cubicBezTo>
                <a:cubicBezTo>
                  <a:pt x="800" y="2450"/>
                  <a:pt x="0" y="3098"/>
                  <a:pt x="0" y="3758"/>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18" name=""/>
          <p:cNvSpPr/>
          <p:nvPr/>
        </p:nvSpPr>
        <p:spPr>
          <a:xfrm>
            <a:off x="2546280" y="173664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 name=""/>
          <p:cNvSpPr/>
          <p:nvPr/>
        </p:nvSpPr>
        <p:spPr>
          <a:xfrm>
            <a:off x="6543720" y="180972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220" name=""/>
          <p:cNvSpPr/>
          <p:nvPr/>
        </p:nvSpPr>
        <p:spPr>
          <a:xfrm>
            <a:off x="7058160" y="178128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vailability of the 2.4 GHz band</a:t>
            </a:r>
            <a:endParaRPr b="0" lang="en-US" sz="3600" spc="-1" strike="noStrike">
              <a:solidFill>
                <a:srgbClr val="000000"/>
              </a:solidFill>
              <a:latin typeface="Arial"/>
            </a:endParaRPr>
          </a:p>
        </p:txBody>
      </p:sp>
      <p:sp>
        <p:nvSpPr>
          <p:cNvPr id="222" name=""/>
          <p:cNvSpPr txBox="1"/>
          <p:nvPr/>
        </p:nvSpPr>
        <p:spPr>
          <a:xfrm>
            <a:off x="7153200" y="1866960"/>
            <a:ext cx="1539720" cy="4473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ustria</a:t>
            </a:r>
            <a:br>
              <a:rPr sz="1200"/>
            </a:br>
            <a:r>
              <a:rPr b="1" lang="en-US" sz="1200" spc="-1" strike="noStrike">
                <a:solidFill>
                  <a:srgbClr val="000000"/>
                </a:solidFill>
                <a:latin typeface="Arial"/>
                <a:ea typeface="Arial"/>
              </a:rPr>
              <a:t>Belgium</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Denmark</a:t>
            </a:r>
            <a:br>
              <a:rPr sz="1200"/>
            </a:br>
            <a:r>
              <a:rPr b="1" lang="en-US" sz="1200" spc="-1" strike="noStrike">
                <a:solidFill>
                  <a:srgbClr val="000000"/>
                </a:solidFill>
                <a:latin typeface="Arial"/>
                <a:ea typeface="Arial"/>
              </a:rPr>
              <a:t>Fin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France </a:t>
            </a:r>
            <a:br>
              <a:rPr sz="1200"/>
            </a:br>
            <a:r>
              <a:rPr b="1" lang="en-US" sz="1200" spc="-1" strike="noStrike">
                <a:solidFill>
                  <a:srgbClr val="000000"/>
                </a:solidFill>
                <a:latin typeface="Arial"/>
                <a:ea typeface="Arial"/>
              </a:rPr>
              <a:t>German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celand</a:t>
            </a:r>
            <a:br>
              <a:rPr sz="1200"/>
            </a:br>
            <a:r>
              <a:rPr b="1" lang="en-US" sz="1200" spc="-1" strike="noStrike">
                <a:solidFill>
                  <a:srgbClr val="000000"/>
                </a:solidFill>
                <a:latin typeface="Arial"/>
                <a:ea typeface="Arial"/>
              </a:rPr>
              <a:t>Ire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taly</a:t>
            </a:r>
            <a:br>
              <a:rPr sz="1200"/>
            </a:br>
            <a:r>
              <a:rPr b="1" lang="en-US" sz="1200" spc="-1" strike="noStrike">
                <a:solidFill>
                  <a:srgbClr val="000000"/>
                </a:solidFill>
                <a:latin typeface="Arial"/>
                <a:ea typeface="Arial"/>
              </a:rPr>
              <a:t>Netherlands</a:t>
            </a:r>
            <a:br>
              <a:rPr sz="1200"/>
            </a:br>
            <a:r>
              <a:rPr b="1" lang="en-US" sz="1200" spc="-1" strike="noStrike">
                <a:solidFill>
                  <a:srgbClr val="000000"/>
                </a:solidFill>
                <a:latin typeface="Arial"/>
                <a:ea typeface="Arial"/>
              </a:rPr>
              <a:t>Norwa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rtugal</a:t>
            </a:r>
            <a:br>
              <a:rPr sz="1200"/>
            </a:br>
            <a:r>
              <a:rPr b="1" lang="en-US" sz="1200" spc="-1" strike="noStrike">
                <a:solidFill>
                  <a:srgbClr val="000000"/>
                </a:solidFill>
                <a:latin typeface="Arial"/>
                <a:ea typeface="Arial"/>
              </a:rPr>
              <a:t>Spai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weden</a:t>
            </a:r>
            <a:br>
              <a:rPr sz="1200"/>
            </a:br>
            <a:r>
              <a:rPr b="1" lang="en-US" sz="1200" spc="-1" strike="noStrike">
                <a:solidFill>
                  <a:srgbClr val="000000"/>
                </a:solidFill>
                <a:latin typeface="Arial"/>
                <a:ea typeface="Arial"/>
              </a:rPr>
              <a:t>Switzerland</a:t>
            </a:r>
            <a:br>
              <a:rPr sz="1200"/>
            </a:br>
            <a:r>
              <a:rPr b="1" lang="en-US" sz="1200" spc="-1" strike="noStrike">
                <a:solidFill>
                  <a:srgbClr val="000000"/>
                </a:solidFill>
                <a:latin typeface="Arial"/>
                <a:ea typeface="Arial"/>
              </a:rPr>
              <a:t>UK</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zech Republic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Estoni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Hungar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atv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ithuan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land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Russ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Ukraine (*)</a:t>
            </a:r>
            <a:endParaRPr b="0" lang="en-US" sz="1200" spc="-1" strike="noStrike">
              <a:solidFill>
                <a:srgbClr val="000000"/>
              </a:solidFill>
              <a:latin typeface="Arial"/>
            </a:endParaRPr>
          </a:p>
        </p:txBody>
      </p:sp>
      <p:sp>
        <p:nvSpPr>
          <p:cNvPr id="223" name=""/>
          <p:cNvSpPr txBox="1"/>
          <p:nvPr/>
        </p:nvSpPr>
        <p:spPr>
          <a:xfrm>
            <a:off x="723960" y="1806480"/>
            <a:ext cx="73512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US</a:t>
            </a:r>
            <a:br>
              <a:rPr sz="1200"/>
            </a:br>
            <a:r>
              <a:rPr b="1" lang="en-US" sz="1200" spc="-1" strike="noStrike">
                <a:solidFill>
                  <a:srgbClr val="000000"/>
                </a:solidFill>
                <a:latin typeface="Arial"/>
                <a:ea typeface="Arial"/>
              </a:rPr>
              <a:t>Canada</a:t>
            </a:r>
            <a:br>
              <a:rPr sz="1200"/>
            </a:br>
            <a:endParaRPr b="0" lang="en-US" sz="1200" spc="-1" strike="noStrike">
              <a:solidFill>
                <a:srgbClr val="000000"/>
              </a:solidFill>
              <a:latin typeface="Arial"/>
            </a:endParaRPr>
          </a:p>
        </p:txBody>
      </p:sp>
      <p:sp>
        <p:nvSpPr>
          <p:cNvPr id="224" name=""/>
          <p:cNvSpPr txBox="1"/>
          <p:nvPr/>
        </p:nvSpPr>
        <p:spPr>
          <a:xfrm>
            <a:off x="790560" y="3753000"/>
            <a:ext cx="1200240" cy="22827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ustrali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hina (*)</a:t>
            </a:r>
            <a:br>
              <a:rPr sz="1200"/>
            </a:br>
            <a:r>
              <a:rPr b="1" lang="en-US" sz="1200" spc="-1" strike="noStrike">
                <a:solidFill>
                  <a:srgbClr val="000000"/>
                </a:solidFill>
                <a:latin typeface="Arial"/>
                <a:ea typeface="Arial"/>
              </a:rPr>
              <a:t>Hong Kong</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ndonesia (*)</a:t>
            </a:r>
            <a:br>
              <a:rPr sz="1200"/>
            </a:br>
            <a:r>
              <a:rPr b="1" lang="en-US" sz="1200" spc="-1" strike="noStrike">
                <a:solidFill>
                  <a:srgbClr val="000000"/>
                </a:solidFill>
                <a:latin typeface="Arial"/>
                <a:ea typeface="Arial"/>
              </a:rPr>
              <a:t>Japa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Korea</a:t>
            </a:r>
            <a:br>
              <a:rPr sz="1200"/>
            </a:br>
            <a:r>
              <a:rPr b="1" lang="en-US" sz="1200" spc="-1" strike="noStrike">
                <a:solidFill>
                  <a:srgbClr val="000000"/>
                </a:solidFill>
                <a:latin typeface="Arial"/>
                <a:ea typeface="Arial"/>
              </a:rPr>
              <a:t>Malaysia</a:t>
            </a:r>
            <a:br>
              <a:rPr sz="1200"/>
            </a:br>
            <a:r>
              <a:rPr b="1" lang="en-US" sz="1200" spc="-1" strike="noStrike">
                <a:solidFill>
                  <a:srgbClr val="000000"/>
                </a:solidFill>
                <a:latin typeface="Arial"/>
                <a:ea typeface="Arial"/>
              </a:rPr>
              <a:t>New Zea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hilippines (*)</a:t>
            </a:r>
            <a:br>
              <a:rPr sz="1200"/>
            </a:br>
            <a:r>
              <a:rPr b="1" lang="en-US" sz="1200" spc="-1" strike="noStrike">
                <a:solidFill>
                  <a:srgbClr val="000000"/>
                </a:solidFill>
                <a:latin typeface="Arial"/>
                <a:ea typeface="Arial"/>
              </a:rPr>
              <a:t>Singapore</a:t>
            </a:r>
            <a:br>
              <a:rPr sz="1200"/>
            </a:br>
            <a:r>
              <a:rPr b="1" lang="en-US" sz="1200" spc="-1" strike="noStrike">
                <a:solidFill>
                  <a:srgbClr val="000000"/>
                </a:solidFill>
                <a:latin typeface="Arial"/>
                <a:ea typeface="Arial"/>
              </a:rPr>
              <a:t>Taiwan (*)</a:t>
            </a:r>
            <a:br>
              <a:rPr sz="1200"/>
            </a:br>
            <a:r>
              <a:rPr b="1" lang="en-US" sz="1200" spc="-1" strike="noStrike">
                <a:solidFill>
                  <a:srgbClr val="000000"/>
                </a:solidFill>
                <a:latin typeface="Arial"/>
                <a:ea typeface="Arial"/>
              </a:rPr>
              <a:t>Thailand</a:t>
            </a:r>
            <a:endParaRPr b="0" lang="en-US" sz="1200" spc="-1" strike="noStrike">
              <a:solidFill>
                <a:srgbClr val="000000"/>
              </a:solidFill>
              <a:latin typeface="Arial"/>
            </a:endParaRPr>
          </a:p>
        </p:txBody>
      </p:sp>
      <p:sp>
        <p:nvSpPr>
          <p:cNvPr id="225" name=""/>
          <p:cNvSpPr txBox="1"/>
          <p:nvPr/>
        </p:nvSpPr>
        <p:spPr>
          <a:xfrm>
            <a:off x="5524560" y="4605480"/>
            <a:ext cx="1149480" cy="13701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bu Dhabi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ypru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srael</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Morocco (*)</a:t>
            </a:r>
            <a:br>
              <a:rPr sz="1200"/>
            </a:br>
            <a:r>
              <a:rPr b="1" lang="en-US" sz="1200" spc="-1" strike="noStrike">
                <a:solidFill>
                  <a:srgbClr val="000000"/>
                </a:solidFill>
                <a:latin typeface="Arial"/>
                <a:ea typeface="Arial"/>
              </a:rPr>
              <a:t>Saudi Arabia</a:t>
            </a:r>
            <a:br>
              <a:rPr sz="1200"/>
            </a:br>
            <a:r>
              <a:rPr b="1" lang="en-US" sz="1200" spc="-1" strike="noStrike">
                <a:solidFill>
                  <a:srgbClr val="000000"/>
                </a:solidFill>
                <a:latin typeface="Arial"/>
                <a:ea typeface="Arial"/>
              </a:rPr>
              <a:t>South Afric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Turkey (*)</a:t>
            </a:r>
            <a:endParaRPr b="0" lang="en-US" sz="1200" spc="-1" strike="noStrike">
              <a:solidFill>
                <a:srgbClr val="000000"/>
              </a:solidFill>
              <a:latin typeface="Arial"/>
            </a:endParaRPr>
          </a:p>
        </p:txBody>
      </p:sp>
      <p:grpSp>
        <p:nvGrpSpPr>
          <p:cNvPr id="226" name=""/>
          <p:cNvGrpSpPr/>
          <p:nvPr/>
        </p:nvGrpSpPr>
        <p:grpSpPr>
          <a:xfrm>
            <a:off x="1768320" y="2311560"/>
            <a:ext cx="4366080" cy="2235240"/>
            <a:chOff x="1768320" y="2311560"/>
            <a:chExt cx="4366080" cy="2235240"/>
          </a:xfrm>
        </p:grpSpPr>
        <p:sp>
          <p:nvSpPr>
            <p:cNvPr id="227" name=""/>
            <p:cNvSpPr/>
            <p:nvPr/>
          </p:nvSpPr>
          <p:spPr>
            <a:xfrm>
              <a:off x="3968640" y="2940120"/>
              <a:ext cx="20880" cy="27360"/>
            </a:xfrm>
            <a:custGeom>
              <a:avLst/>
              <a:gdLst/>
              <a:ahLst/>
              <a:rect l="0" t="0" r="r" b="b"/>
              <a:pathLst>
                <a:path w="58" h="76">
                  <a:moveTo>
                    <a:pt x="58" y="5"/>
                  </a:moveTo>
                  <a:lnTo>
                    <a:pt x="58" y="71"/>
                  </a:lnTo>
                  <a:lnTo>
                    <a:pt x="41" y="76"/>
                  </a:lnTo>
                  <a:lnTo>
                    <a:pt x="0" y="14"/>
                  </a:lnTo>
                  <a:lnTo>
                    <a:pt x="22" y="0"/>
                  </a:lnTo>
                  <a:lnTo>
                    <a:pt x="58" y="5"/>
                  </a:lnTo>
                  <a:close/>
                </a:path>
              </a:pathLst>
            </a:custGeom>
            <a:solidFill>
              <a:srgbClr val="00ae00"/>
            </a:solidFill>
            <a:ln w="25560">
              <a:solidFill>
                <a:srgbClr val="919191"/>
              </a:solidFill>
              <a:round/>
            </a:ln>
          </p:spPr>
          <p:txBody>
            <a:bodyPr lIns="102600" rIns="102600" tIns="-30240" bIns="-30240" anchor="t">
              <a:noAutofit/>
            </a:bodyPr>
            <a:p>
              <a:endParaRPr b="0" lang="en-US" sz="1800" spc="-1" strike="noStrike">
                <a:solidFill>
                  <a:srgbClr val="000000"/>
                </a:solidFill>
                <a:latin typeface="Arial"/>
              </a:endParaRPr>
            </a:p>
          </p:txBody>
        </p:sp>
        <p:sp>
          <p:nvSpPr>
            <p:cNvPr id="228" name=""/>
            <p:cNvSpPr/>
            <p:nvPr/>
          </p:nvSpPr>
          <p:spPr>
            <a:xfrm>
              <a:off x="3922560" y="2894040"/>
              <a:ext cx="22680" cy="38520"/>
            </a:xfrm>
            <a:custGeom>
              <a:avLst/>
              <a:gdLst/>
              <a:ahLst/>
              <a:rect l="0" t="0" r="r" b="b"/>
              <a:pathLst>
                <a:path w="63" h="107">
                  <a:moveTo>
                    <a:pt x="63" y="0"/>
                  </a:moveTo>
                  <a:lnTo>
                    <a:pt x="0" y="20"/>
                  </a:lnTo>
                  <a:lnTo>
                    <a:pt x="10" y="107"/>
                  </a:lnTo>
                  <a:lnTo>
                    <a:pt x="56" y="99"/>
                  </a:lnTo>
                  <a:lnTo>
                    <a:pt x="63" y="0"/>
                  </a:lnTo>
                  <a:close/>
                </a:path>
              </a:pathLst>
            </a:custGeom>
            <a:solidFill>
              <a:srgbClr val="00ae00"/>
            </a:solidFill>
            <a:ln w="25560">
              <a:solidFill>
                <a:srgbClr val="919191"/>
              </a:solidFill>
              <a:round/>
            </a:ln>
          </p:spPr>
          <p:txBody>
            <a:bodyPr lIns="102600" rIns="102600" tIns="-19080" bIns="-19080" anchor="t">
              <a:noAutofit/>
            </a:bodyPr>
            <a:p>
              <a:endParaRPr b="0" lang="en-US" sz="1800" spc="-1" strike="noStrike">
                <a:solidFill>
                  <a:srgbClr val="000000"/>
                </a:solidFill>
                <a:latin typeface="Arial"/>
              </a:endParaRPr>
            </a:p>
          </p:txBody>
        </p:sp>
        <p:grpSp>
          <p:nvGrpSpPr>
            <p:cNvPr id="229" name=""/>
            <p:cNvGrpSpPr/>
            <p:nvPr/>
          </p:nvGrpSpPr>
          <p:grpSpPr>
            <a:xfrm>
              <a:off x="5751360" y="4170240"/>
              <a:ext cx="383040" cy="222840"/>
              <a:chOff x="5751360" y="4170240"/>
              <a:chExt cx="383040" cy="222840"/>
            </a:xfrm>
          </p:grpSpPr>
          <p:sp>
            <p:nvSpPr>
              <p:cNvPr id="230" name=""/>
              <p:cNvSpPr/>
              <p:nvPr/>
            </p:nvSpPr>
            <p:spPr>
              <a:xfrm>
                <a:off x="6072120" y="4170240"/>
                <a:ext cx="62280" cy="135360"/>
              </a:xfrm>
              <a:custGeom>
                <a:avLst/>
                <a:gdLst/>
                <a:ahLst/>
                <a:rect l="0" t="0" r="r" b="b"/>
                <a:pathLst>
                  <a:path w="173" h="376">
                    <a:moveTo>
                      <a:pt x="56" y="2"/>
                    </a:moveTo>
                    <a:lnTo>
                      <a:pt x="72" y="0"/>
                    </a:lnTo>
                    <a:lnTo>
                      <a:pt x="104" y="41"/>
                    </a:lnTo>
                    <a:lnTo>
                      <a:pt x="98" y="158"/>
                    </a:lnTo>
                    <a:lnTo>
                      <a:pt x="121" y="158"/>
                    </a:lnTo>
                    <a:lnTo>
                      <a:pt x="124" y="176"/>
                    </a:lnTo>
                    <a:lnTo>
                      <a:pt x="135" y="200"/>
                    </a:lnTo>
                    <a:lnTo>
                      <a:pt x="138" y="215"/>
                    </a:lnTo>
                    <a:lnTo>
                      <a:pt x="157" y="212"/>
                    </a:lnTo>
                    <a:lnTo>
                      <a:pt x="170" y="185"/>
                    </a:lnTo>
                    <a:lnTo>
                      <a:pt x="173" y="200"/>
                    </a:lnTo>
                    <a:lnTo>
                      <a:pt x="164" y="221"/>
                    </a:lnTo>
                    <a:lnTo>
                      <a:pt x="157" y="236"/>
                    </a:lnTo>
                    <a:lnTo>
                      <a:pt x="151" y="268"/>
                    </a:lnTo>
                    <a:lnTo>
                      <a:pt x="131" y="284"/>
                    </a:lnTo>
                    <a:lnTo>
                      <a:pt x="117" y="290"/>
                    </a:lnTo>
                    <a:lnTo>
                      <a:pt x="98" y="305"/>
                    </a:lnTo>
                    <a:lnTo>
                      <a:pt x="95" y="320"/>
                    </a:lnTo>
                    <a:lnTo>
                      <a:pt x="98" y="335"/>
                    </a:lnTo>
                    <a:lnTo>
                      <a:pt x="104" y="356"/>
                    </a:lnTo>
                    <a:lnTo>
                      <a:pt x="82" y="364"/>
                    </a:lnTo>
                    <a:lnTo>
                      <a:pt x="69" y="370"/>
                    </a:lnTo>
                    <a:lnTo>
                      <a:pt x="56" y="376"/>
                    </a:lnTo>
                    <a:lnTo>
                      <a:pt x="46" y="370"/>
                    </a:lnTo>
                    <a:lnTo>
                      <a:pt x="25" y="364"/>
                    </a:lnTo>
                    <a:lnTo>
                      <a:pt x="16" y="356"/>
                    </a:lnTo>
                    <a:lnTo>
                      <a:pt x="25" y="341"/>
                    </a:lnTo>
                    <a:lnTo>
                      <a:pt x="42" y="335"/>
                    </a:lnTo>
                    <a:lnTo>
                      <a:pt x="56" y="308"/>
                    </a:lnTo>
                    <a:lnTo>
                      <a:pt x="56" y="299"/>
                    </a:lnTo>
                    <a:lnTo>
                      <a:pt x="42" y="290"/>
                    </a:lnTo>
                    <a:lnTo>
                      <a:pt x="25" y="271"/>
                    </a:lnTo>
                    <a:lnTo>
                      <a:pt x="12" y="271"/>
                    </a:lnTo>
                    <a:lnTo>
                      <a:pt x="3" y="268"/>
                    </a:lnTo>
                    <a:lnTo>
                      <a:pt x="0" y="250"/>
                    </a:lnTo>
                    <a:lnTo>
                      <a:pt x="3" y="241"/>
                    </a:lnTo>
                    <a:lnTo>
                      <a:pt x="12" y="241"/>
                    </a:lnTo>
                    <a:lnTo>
                      <a:pt x="25" y="236"/>
                    </a:lnTo>
                    <a:lnTo>
                      <a:pt x="42" y="221"/>
                    </a:lnTo>
                    <a:lnTo>
                      <a:pt x="52" y="215"/>
                    </a:lnTo>
                    <a:lnTo>
                      <a:pt x="59" y="158"/>
                    </a:lnTo>
                    <a:lnTo>
                      <a:pt x="52" y="143"/>
                    </a:lnTo>
                    <a:lnTo>
                      <a:pt x="38" y="134"/>
                    </a:lnTo>
                    <a:lnTo>
                      <a:pt x="32" y="102"/>
                    </a:lnTo>
                    <a:lnTo>
                      <a:pt x="38" y="71"/>
                    </a:lnTo>
                    <a:lnTo>
                      <a:pt x="42" y="50"/>
                    </a:lnTo>
                    <a:lnTo>
                      <a:pt x="56" y="2"/>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1" name=""/>
              <p:cNvSpPr/>
              <p:nvPr/>
            </p:nvSpPr>
            <p:spPr>
              <a:xfrm>
                <a:off x="5954760" y="4278240"/>
                <a:ext cx="114840" cy="114840"/>
              </a:xfrm>
              <a:custGeom>
                <a:avLst/>
                <a:gdLst/>
                <a:ahLst/>
                <a:rect l="0" t="0" r="r" b="b"/>
                <a:pathLst>
                  <a:path w="319" h="319">
                    <a:moveTo>
                      <a:pt x="222" y="0"/>
                    </a:moveTo>
                    <a:lnTo>
                      <a:pt x="261" y="0"/>
                    </a:lnTo>
                    <a:lnTo>
                      <a:pt x="319" y="87"/>
                    </a:lnTo>
                    <a:lnTo>
                      <a:pt x="258" y="161"/>
                    </a:lnTo>
                    <a:lnTo>
                      <a:pt x="258" y="190"/>
                    </a:lnTo>
                    <a:lnTo>
                      <a:pt x="245" y="199"/>
                    </a:lnTo>
                    <a:lnTo>
                      <a:pt x="209" y="199"/>
                    </a:lnTo>
                    <a:lnTo>
                      <a:pt x="167" y="242"/>
                    </a:lnTo>
                    <a:lnTo>
                      <a:pt x="129" y="283"/>
                    </a:lnTo>
                    <a:lnTo>
                      <a:pt x="103" y="319"/>
                    </a:lnTo>
                    <a:lnTo>
                      <a:pt x="103" y="289"/>
                    </a:lnTo>
                    <a:lnTo>
                      <a:pt x="54" y="292"/>
                    </a:lnTo>
                    <a:lnTo>
                      <a:pt x="35" y="292"/>
                    </a:lnTo>
                    <a:lnTo>
                      <a:pt x="0" y="292"/>
                    </a:lnTo>
                    <a:lnTo>
                      <a:pt x="48" y="242"/>
                    </a:lnTo>
                    <a:lnTo>
                      <a:pt x="64" y="217"/>
                    </a:lnTo>
                    <a:lnTo>
                      <a:pt x="81" y="217"/>
                    </a:lnTo>
                    <a:lnTo>
                      <a:pt x="116" y="176"/>
                    </a:lnTo>
                    <a:lnTo>
                      <a:pt x="129" y="176"/>
                    </a:lnTo>
                    <a:lnTo>
                      <a:pt x="129" y="170"/>
                    </a:lnTo>
                    <a:lnTo>
                      <a:pt x="145" y="155"/>
                    </a:lnTo>
                    <a:lnTo>
                      <a:pt x="167" y="155"/>
                    </a:lnTo>
                    <a:lnTo>
                      <a:pt x="158" y="107"/>
                    </a:lnTo>
                    <a:lnTo>
                      <a:pt x="164" y="107"/>
                    </a:lnTo>
                    <a:lnTo>
                      <a:pt x="183" y="84"/>
                    </a:lnTo>
                    <a:lnTo>
                      <a:pt x="193" y="104"/>
                    </a:lnTo>
                    <a:lnTo>
                      <a:pt x="228" y="65"/>
                    </a:lnTo>
                    <a:lnTo>
                      <a:pt x="222" y="0"/>
                    </a:lnTo>
                    <a:close/>
                  </a:path>
                </a:pathLst>
              </a:custGeom>
              <a:solidFill>
                <a:srgbClr val="00ae00"/>
              </a:solidFill>
              <a:ln w="25560">
                <a:solidFill>
                  <a:srgbClr val="919191"/>
                </a:solidFill>
                <a:round/>
              </a:ln>
            </p:spPr>
            <p:txBody>
              <a:bodyPr lIns="102600" rIns="102600" tIns="57240" bIns="57240" anchor="t">
                <a:noAutofit/>
              </a:bodyPr>
              <a:p>
                <a:endParaRPr b="0" lang="en-US" sz="1800" spc="-1" strike="noStrike">
                  <a:solidFill>
                    <a:srgbClr val="000000"/>
                  </a:solidFill>
                  <a:latin typeface="Arial"/>
                </a:endParaRPr>
              </a:p>
            </p:txBody>
          </p:sp>
          <p:sp>
            <p:nvSpPr>
              <p:cNvPr id="232" name=""/>
              <p:cNvSpPr/>
              <p:nvPr/>
            </p:nvSpPr>
            <p:spPr>
              <a:xfrm>
                <a:off x="5751360" y="4284720"/>
                <a:ext cx="41760" cy="62280"/>
              </a:xfrm>
              <a:custGeom>
                <a:avLst/>
                <a:gdLst/>
                <a:ahLst/>
                <a:rect l="0" t="0" r="r" b="b"/>
                <a:pathLst>
                  <a:path w="116" h="173">
                    <a:moveTo>
                      <a:pt x="0" y="0"/>
                    </a:moveTo>
                    <a:lnTo>
                      <a:pt x="24" y="0"/>
                    </a:lnTo>
                    <a:lnTo>
                      <a:pt x="53" y="21"/>
                    </a:lnTo>
                    <a:lnTo>
                      <a:pt x="116" y="21"/>
                    </a:lnTo>
                    <a:lnTo>
                      <a:pt x="107" y="52"/>
                    </a:lnTo>
                    <a:lnTo>
                      <a:pt x="116" y="85"/>
                    </a:lnTo>
                    <a:lnTo>
                      <a:pt x="94" y="85"/>
                    </a:lnTo>
                    <a:lnTo>
                      <a:pt x="91" y="88"/>
                    </a:lnTo>
                    <a:lnTo>
                      <a:pt x="78" y="94"/>
                    </a:lnTo>
                    <a:lnTo>
                      <a:pt x="91" y="173"/>
                    </a:lnTo>
                    <a:lnTo>
                      <a:pt x="53" y="167"/>
                    </a:lnTo>
                    <a:lnTo>
                      <a:pt x="18" y="143"/>
                    </a:lnTo>
                    <a:lnTo>
                      <a:pt x="18" y="88"/>
                    </a:lnTo>
                    <a:lnTo>
                      <a:pt x="18" y="67"/>
                    </a:lnTo>
                    <a:lnTo>
                      <a:pt x="0" y="52"/>
                    </a:lnTo>
                    <a:lnTo>
                      <a:pt x="0" y="0"/>
                    </a:lnTo>
                    <a:close/>
                  </a:path>
                </a:pathLst>
              </a:custGeom>
              <a:solidFill>
                <a:srgbClr val="00ae00"/>
              </a:solidFill>
              <a:ln w="25560">
                <a:solidFill>
                  <a:srgbClr val="919191"/>
                </a:solidFill>
                <a:round/>
              </a:ln>
            </p:spPr>
            <p:txBody>
              <a:bodyPr lIns="102600" rIns="102600" tIns="4680" bIns="4680" anchor="t">
                <a:noAutofit/>
              </a:bodyPr>
              <a:p>
                <a:endParaRPr b="0" lang="en-US" sz="1800" spc="-1" strike="noStrike">
                  <a:solidFill>
                    <a:srgbClr val="000000"/>
                  </a:solidFill>
                  <a:latin typeface="Arial"/>
                </a:endParaRPr>
              </a:p>
            </p:txBody>
          </p:sp>
        </p:grpSp>
        <p:sp>
          <p:nvSpPr>
            <p:cNvPr id="233" name=""/>
            <p:cNvSpPr/>
            <p:nvPr/>
          </p:nvSpPr>
          <p:spPr>
            <a:xfrm>
              <a:off x="5827680" y="3637080"/>
              <a:ext cx="71640" cy="65520"/>
            </a:xfrm>
            <a:custGeom>
              <a:avLst/>
              <a:gdLst/>
              <a:ahLst/>
              <a:rect l="0" t="0" r="r" b="b"/>
              <a:pathLst>
                <a:path w="199" h="182">
                  <a:moveTo>
                    <a:pt x="32" y="69"/>
                  </a:moveTo>
                  <a:lnTo>
                    <a:pt x="0" y="144"/>
                  </a:lnTo>
                  <a:lnTo>
                    <a:pt x="13" y="176"/>
                  </a:lnTo>
                  <a:lnTo>
                    <a:pt x="68" y="182"/>
                  </a:lnTo>
                  <a:lnTo>
                    <a:pt x="118" y="182"/>
                  </a:lnTo>
                  <a:lnTo>
                    <a:pt x="134" y="150"/>
                  </a:lnTo>
                  <a:lnTo>
                    <a:pt x="147" y="119"/>
                  </a:lnTo>
                  <a:lnTo>
                    <a:pt x="199" y="119"/>
                  </a:lnTo>
                  <a:lnTo>
                    <a:pt x="189" y="72"/>
                  </a:lnTo>
                  <a:lnTo>
                    <a:pt x="189" y="26"/>
                  </a:lnTo>
                  <a:lnTo>
                    <a:pt x="137" y="0"/>
                  </a:lnTo>
                  <a:lnTo>
                    <a:pt x="131" y="51"/>
                  </a:lnTo>
                  <a:lnTo>
                    <a:pt x="163" y="83"/>
                  </a:lnTo>
                  <a:lnTo>
                    <a:pt x="111" y="83"/>
                  </a:lnTo>
                  <a:lnTo>
                    <a:pt x="94" y="104"/>
                  </a:lnTo>
                  <a:lnTo>
                    <a:pt x="32" y="69"/>
                  </a:lnTo>
                  <a:close/>
                </a:path>
              </a:pathLst>
            </a:custGeom>
            <a:solidFill>
              <a:srgbClr val="00ae00"/>
            </a:solidFill>
            <a:ln w="25560">
              <a:solidFill>
                <a:srgbClr val="919191"/>
              </a:solidFill>
              <a:round/>
            </a:ln>
          </p:spPr>
          <p:txBody>
            <a:bodyPr lIns="102600" rIns="102600" tIns="7920" bIns="7920" anchor="t">
              <a:noAutofit/>
            </a:bodyPr>
            <a:p>
              <a:endParaRPr b="0" lang="en-US" sz="1800" spc="-1" strike="noStrike">
                <a:solidFill>
                  <a:srgbClr val="000000"/>
                </a:solidFill>
                <a:latin typeface="Arial"/>
              </a:endParaRPr>
            </a:p>
          </p:txBody>
        </p:sp>
        <p:grpSp>
          <p:nvGrpSpPr>
            <p:cNvPr id="234" name=""/>
            <p:cNvGrpSpPr/>
            <p:nvPr/>
          </p:nvGrpSpPr>
          <p:grpSpPr>
            <a:xfrm>
              <a:off x="5192640" y="2806560"/>
              <a:ext cx="186120" cy="486360"/>
              <a:chOff x="5192640" y="2806560"/>
              <a:chExt cx="186120" cy="486360"/>
            </a:xfrm>
          </p:grpSpPr>
          <p:sp>
            <p:nvSpPr>
              <p:cNvPr id="235" name=""/>
              <p:cNvSpPr/>
              <p:nvPr/>
            </p:nvSpPr>
            <p:spPr>
              <a:xfrm>
                <a:off x="5192640" y="3241800"/>
                <a:ext cx="44640" cy="51120"/>
              </a:xfrm>
              <a:custGeom>
                <a:avLst/>
                <a:gdLst/>
                <a:ahLst/>
                <a:rect l="0" t="0" r="r" b="b"/>
                <a:pathLst>
                  <a:path w="124" h="142">
                    <a:moveTo>
                      <a:pt x="0" y="110"/>
                    </a:moveTo>
                    <a:lnTo>
                      <a:pt x="22" y="135"/>
                    </a:lnTo>
                    <a:lnTo>
                      <a:pt x="48" y="132"/>
                    </a:lnTo>
                    <a:lnTo>
                      <a:pt x="88" y="142"/>
                    </a:lnTo>
                    <a:lnTo>
                      <a:pt x="117" y="142"/>
                    </a:lnTo>
                    <a:lnTo>
                      <a:pt x="124" y="95"/>
                    </a:lnTo>
                    <a:lnTo>
                      <a:pt x="114" y="59"/>
                    </a:lnTo>
                    <a:lnTo>
                      <a:pt x="91" y="21"/>
                    </a:lnTo>
                    <a:lnTo>
                      <a:pt x="72" y="21"/>
                    </a:lnTo>
                    <a:lnTo>
                      <a:pt x="61" y="0"/>
                    </a:lnTo>
                    <a:lnTo>
                      <a:pt x="32" y="0"/>
                    </a:lnTo>
                    <a:lnTo>
                      <a:pt x="32" y="43"/>
                    </a:lnTo>
                    <a:lnTo>
                      <a:pt x="0" y="110"/>
                    </a:lnTo>
                    <a:close/>
                  </a:path>
                </a:pathLst>
              </a:custGeom>
              <a:solidFill>
                <a:srgbClr val="00ae00"/>
              </a:solidFill>
              <a:ln w="25560">
                <a:solidFill>
                  <a:srgbClr val="919191"/>
                </a:solidFill>
                <a:round/>
              </a:ln>
            </p:spPr>
            <p:txBody>
              <a:bodyPr lIns="102600" rIns="102600" tIns="-6480" bIns="-6480" anchor="t">
                <a:noAutofit/>
              </a:bodyPr>
              <a:p>
                <a:endParaRPr b="0" lang="en-US" sz="1800" spc="-1" strike="noStrike">
                  <a:solidFill>
                    <a:srgbClr val="000000"/>
                  </a:solidFill>
                  <a:latin typeface="Arial"/>
                </a:endParaRPr>
              </a:p>
            </p:txBody>
          </p:sp>
          <p:sp>
            <p:nvSpPr>
              <p:cNvPr id="236" name=""/>
              <p:cNvSpPr/>
              <p:nvPr/>
            </p:nvSpPr>
            <p:spPr>
              <a:xfrm>
                <a:off x="5311800" y="3156120"/>
                <a:ext cx="38520" cy="63720"/>
              </a:xfrm>
              <a:custGeom>
                <a:avLst/>
                <a:gdLst/>
                <a:ahLst/>
                <a:rect l="0" t="0" r="r" b="b"/>
                <a:pathLst>
                  <a:path w="107" h="177">
                    <a:moveTo>
                      <a:pt x="23" y="0"/>
                    </a:moveTo>
                    <a:lnTo>
                      <a:pt x="71" y="3"/>
                    </a:lnTo>
                    <a:lnTo>
                      <a:pt x="87" y="52"/>
                    </a:lnTo>
                    <a:lnTo>
                      <a:pt x="107" y="80"/>
                    </a:lnTo>
                    <a:lnTo>
                      <a:pt x="90" y="103"/>
                    </a:lnTo>
                    <a:lnTo>
                      <a:pt x="107" y="127"/>
                    </a:lnTo>
                    <a:lnTo>
                      <a:pt x="99" y="161"/>
                    </a:lnTo>
                    <a:lnTo>
                      <a:pt x="84" y="177"/>
                    </a:lnTo>
                    <a:lnTo>
                      <a:pt x="50" y="171"/>
                    </a:lnTo>
                    <a:lnTo>
                      <a:pt x="30" y="171"/>
                    </a:lnTo>
                    <a:lnTo>
                      <a:pt x="17" y="149"/>
                    </a:lnTo>
                    <a:lnTo>
                      <a:pt x="5" y="121"/>
                    </a:lnTo>
                    <a:lnTo>
                      <a:pt x="5" y="96"/>
                    </a:lnTo>
                    <a:lnTo>
                      <a:pt x="0" y="58"/>
                    </a:lnTo>
                    <a:lnTo>
                      <a:pt x="23" y="0"/>
                    </a:lnTo>
                    <a:close/>
                  </a:path>
                </a:pathLst>
              </a:custGeom>
              <a:solidFill>
                <a:srgbClr val="00ae00"/>
              </a:solidFill>
              <a:ln w="25560">
                <a:solidFill>
                  <a:srgbClr val="919191"/>
                </a:solidFill>
                <a:round/>
              </a:ln>
            </p:spPr>
            <p:txBody>
              <a:bodyPr lIns="102600" rIns="102600" tIns="6120" bIns="6120" anchor="t">
                <a:noAutofit/>
              </a:bodyPr>
              <a:p>
                <a:endParaRPr b="0" lang="en-US" sz="1800" spc="-1" strike="noStrike">
                  <a:solidFill>
                    <a:srgbClr val="000000"/>
                  </a:solidFill>
                  <a:latin typeface="Arial"/>
                </a:endParaRPr>
              </a:p>
            </p:txBody>
          </p:sp>
          <p:sp>
            <p:nvSpPr>
              <p:cNvPr id="237" name=""/>
              <p:cNvSpPr/>
              <p:nvPr/>
            </p:nvSpPr>
            <p:spPr>
              <a:xfrm>
                <a:off x="5303880" y="2806560"/>
                <a:ext cx="74880" cy="60840"/>
              </a:xfrm>
              <a:custGeom>
                <a:avLst/>
                <a:gdLst/>
                <a:ahLst/>
                <a:rect l="0" t="0" r="r" b="b"/>
                <a:pathLst>
                  <a:path w="208" h="169">
                    <a:moveTo>
                      <a:pt x="29" y="0"/>
                    </a:moveTo>
                    <a:lnTo>
                      <a:pt x="55" y="27"/>
                    </a:lnTo>
                    <a:lnTo>
                      <a:pt x="80" y="21"/>
                    </a:lnTo>
                    <a:lnTo>
                      <a:pt x="120" y="27"/>
                    </a:lnTo>
                    <a:lnTo>
                      <a:pt x="156" y="27"/>
                    </a:lnTo>
                    <a:lnTo>
                      <a:pt x="172" y="44"/>
                    </a:lnTo>
                    <a:lnTo>
                      <a:pt x="195" y="81"/>
                    </a:lnTo>
                    <a:lnTo>
                      <a:pt x="208" y="97"/>
                    </a:lnTo>
                    <a:lnTo>
                      <a:pt x="159" y="109"/>
                    </a:lnTo>
                    <a:lnTo>
                      <a:pt x="146" y="118"/>
                    </a:lnTo>
                    <a:lnTo>
                      <a:pt x="159" y="141"/>
                    </a:lnTo>
                    <a:lnTo>
                      <a:pt x="159" y="163"/>
                    </a:lnTo>
                    <a:lnTo>
                      <a:pt x="114" y="141"/>
                    </a:lnTo>
                    <a:lnTo>
                      <a:pt x="74" y="125"/>
                    </a:lnTo>
                    <a:lnTo>
                      <a:pt x="55" y="132"/>
                    </a:lnTo>
                    <a:lnTo>
                      <a:pt x="55" y="163"/>
                    </a:lnTo>
                    <a:lnTo>
                      <a:pt x="29" y="169"/>
                    </a:lnTo>
                    <a:lnTo>
                      <a:pt x="16" y="141"/>
                    </a:lnTo>
                    <a:lnTo>
                      <a:pt x="12" y="109"/>
                    </a:lnTo>
                    <a:lnTo>
                      <a:pt x="0" y="103"/>
                    </a:lnTo>
                    <a:lnTo>
                      <a:pt x="12" y="72"/>
                    </a:lnTo>
                    <a:lnTo>
                      <a:pt x="35" y="59"/>
                    </a:lnTo>
                    <a:lnTo>
                      <a:pt x="29" y="0"/>
                    </a:lnTo>
                    <a:close/>
                  </a:path>
                </a:pathLst>
              </a:custGeom>
              <a:solidFill>
                <a:srgbClr val="00ae00"/>
              </a:solidFill>
              <a:ln w="25560">
                <a:solidFill>
                  <a:srgbClr val="919191"/>
                </a:solidFill>
                <a:round/>
              </a:ln>
            </p:spPr>
            <p:txBody>
              <a:bodyPr lIns="102600" rIns="102600" tIns="3240" bIns="3240" anchor="t">
                <a:noAutofit/>
              </a:bodyPr>
              <a:p>
                <a:endParaRPr b="0" lang="en-US" sz="1800" spc="-1" strike="noStrike">
                  <a:solidFill>
                    <a:srgbClr val="000000"/>
                  </a:solidFill>
                  <a:latin typeface="Arial"/>
                </a:endParaRPr>
              </a:p>
            </p:txBody>
          </p:sp>
        </p:grpSp>
        <p:sp>
          <p:nvSpPr>
            <p:cNvPr id="238" name=""/>
            <p:cNvSpPr/>
            <p:nvPr/>
          </p:nvSpPr>
          <p:spPr>
            <a:xfrm>
              <a:off x="5364000" y="3787920"/>
              <a:ext cx="513000" cy="466920"/>
            </a:xfrm>
            <a:custGeom>
              <a:avLst/>
              <a:gdLst/>
              <a:ahLst/>
              <a:rect l="0" t="0" r="r" b="b"/>
              <a:pathLst>
                <a:path w="1425" h="1297">
                  <a:moveTo>
                    <a:pt x="1022" y="0"/>
                  </a:moveTo>
                  <a:lnTo>
                    <a:pt x="1098" y="0"/>
                  </a:lnTo>
                  <a:lnTo>
                    <a:pt x="1098" y="105"/>
                  </a:lnTo>
                  <a:lnTo>
                    <a:pt x="1130" y="135"/>
                  </a:lnTo>
                  <a:lnTo>
                    <a:pt x="1136" y="150"/>
                  </a:lnTo>
                  <a:lnTo>
                    <a:pt x="1155" y="150"/>
                  </a:lnTo>
                  <a:lnTo>
                    <a:pt x="1162" y="171"/>
                  </a:lnTo>
                  <a:lnTo>
                    <a:pt x="1171" y="276"/>
                  </a:lnTo>
                  <a:lnTo>
                    <a:pt x="1212" y="342"/>
                  </a:lnTo>
                  <a:lnTo>
                    <a:pt x="1276" y="441"/>
                  </a:lnTo>
                  <a:lnTo>
                    <a:pt x="1276" y="456"/>
                  </a:lnTo>
                  <a:lnTo>
                    <a:pt x="1346" y="540"/>
                  </a:lnTo>
                  <a:lnTo>
                    <a:pt x="1346" y="555"/>
                  </a:lnTo>
                  <a:lnTo>
                    <a:pt x="1412" y="621"/>
                  </a:lnTo>
                  <a:lnTo>
                    <a:pt x="1425" y="742"/>
                  </a:lnTo>
                  <a:lnTo>
                    <a:pt x="1412" y="850"/>
                  </a:lnTo>
                  <a:lnTo>
                    <a:pt x="1390" y="904"/>
                  </a:lnTo>
                  <a:lnTo>
                    <a:pt x="1365" y="928"/>
                  </a:lnTo>
                  <a:lnTo>
                    <a:pt x="1358" y="982"/>
                  </a:lnTo>
                  <a:lnTo>
                    <a:pt x="1333" y="1027"/>
                  </a:lnTo>
                  <a:lnTo>
                    <a:pt x="1311" y="1048"/>
                  </a:lnTo>
                  <a:lnTo>
                    <a:pt x="1314" y="1063"/>
                  </a:lnTo>
                  <a:lnTo>
                    <a:pt x="1288" y="1096"/>
                  </a:lnTo>
                  <a:lnTo>
                    <a:pt x="1276" y="1162"/>
                  </a:lnTo>
                  <a:lnTo>
                    <a:pt x="1273" y="1198"/>
                  </a:lnTo>
                  <a:lnTo>
                    <a:pt x="1247" y="1213"/>
                  </a:lnTo>
                  <a:lnTo>
                    <a:pt x="1244" y="1231"/>
                  </a:lnTo>
                  <a:lnTo>
                    <a:pt x="1225" y="1261"/>
                  </a:lnTo>
                  <a:lnTo>
                    <a:pt x="1196" y="1267"/>
                  </a:lnTo>
                  <a:lnTo>
                    <a:pt x="1174" y="1276"/>
                  </a:lnTo>
                  <a:lnTo>
                    <a:pt x="1146" y="1297"/>
                  </a:lnTo>
                  <a:lnTo>
                    <a:pt x="1108" y="1255"/>
                  </a:lnTo>
                  <a:lnTo>
                    <a:pt x="1066" y="1261"/>
                  </a:lnTo>
                  <a:lnTo>
                    <a:pt x="1054" y="1261"/>
                  </a:lnTo>
                  <a:lnTo>
                    <a:pt x="993" y="1270"/>
                  </a:lnTo>
                  <a:lnTo>
                    <a:pt x="955" y="1231"/>
                  </a:lnTo>
                  <a:lnTo>
                    <a:pt x="930" y="1189"/>
                  </a:lnTo>
                  <a:lnTo>
                    <a:pt x="914" y="1192"/>
                  </a:lnTo>
                  <a:lnTo>
                    <a:pt x="895" y="1156"/>
                  </a:lnTo>
                  <a:lnTo>
                    <a:pt x="889" y="1126"/>
                  </a:lnTo>
                  <a:lnTo>
                    <a:pt x="879" y="1114"/>
                  </a:lnTo>
                  <a:lnTo>
                    <a:pt x="879" y="1063"/>
                  </a:lnTo>
                  <a:lnTo>
                    <a:pt x="882" y="1033"/>
                  </a:lnTo>
                  <a:lnTo>
                    <a:pt x="876" y="1012"/>
                  </a:lnTo>
                  <a:lnTo>
                    <a:pt x="841" y="1021"/>
                  </a:lnTo>
                  <a:lnTo>
                    <a:pt x="825" y="1027"/>
                  </a:lnTo>
                  <a:lnTo>
                    <a:pt x="794" y="1027"/>
                  </a:lnTo>
                  <a:lnTo>
                    <a:pt x="781" y="1027"/>
                  </a:lnTo>
                  <a:lnTo>
                    <a:pt x="768" y="1027"/>
                  </a:lnTo>
                  <a:lnTo>
                    <a:pt x="749" y="997"/>
                  </a:lnTo>
                  <a:lnTo>
                    <a:pt x="727" y="955"/>
                  </a:lnTo>
                  <a:lnTo>
                    <a:pt x="724" y="961"/>
                  </a:lnTo>
                  <a:lnTo>
                    <a:pt x="685" y="961"/>
                  </a:lnTo>
                  <a:lnTo>
                    <a:pt x="678" y="943"/>
                  </a:lnTo>
                  <a:lnTo>
                    <a:pt x="659" y="961"/>
                  </a:lnTo>
                  <a:lnTo>
                    <a:pt x="637" y="955"/>
                  </a:lnTo>
                  <a:lnTo>
                    <a:pt x="602" y="955"/>
                  </a:lnTo>
                  <a:lnTo>
                    <a:pt x="583" y="943"/>
                  </a:lnTo>
                  <a:lnTo>
                    <a:pt x="574" y="961"/>
                  </a:lnTo>
                  <a:lnTo>
                    <a:pt x="539" y="964"/>
                  </a:lnTo>
                  <a:lnTo>
                    <a:pt x="532" y="955"/>
                  </a:lnTo>
                  <a:lnTo>
                    <a:pt x="510" y="982"/>
                  </a:lnTo>
                  <a:lnTo>
                    <a:pt x="485" y="1006"/>
                  </a:lnTo>
                  <a:lnTo>
                    <a:pt x="469" y="1006"/>
                  </a:lnTo>
                  <a:lnTo>
                    <a:pt x="444" y="1039"/>
                  </a:lnTo>
                  <a:lnTo>
                    <a:pt x="406" y="1039"/>
                  </a:lnTo>
                  <a:lnTo>
                    <a:pt x="374" y="1048"/>
                  </a:lnTo>
                  <a:lnTo>
                    <a:pt x="342" y="1063"/>
                  </a:lnTo>
                  <a:lnTo>
                    <a:pt x="323" y="1084"/>
                  </a:lnTo>
                  <a:lnTo>
                    <a:pt x="310" y="1078"/>
                  </a:lnTo>
                  <a:lnTo>
                    <a:pt x="298" y="1099"/>
                  </a:lnTo>
                  <a:lnTo>
                    <a:pt x="282" y="1105"/>
                  </a:lnTo>
                  <a:lnTo>
                    <a:pt x="260" y="1132"/>
                  </a:lnTo>
                  <a:lnTo>
                    <a:pt x="193" y="1132"/>
                  </a:lnTo>
                  <a:lnTo>
                    <a:pt x="164" y="1096"/>
                  </a:lnTo>
                  <a:lnTo>
                    <a:pt x="158" y="1078"/>
                  </a:lnTo>
                  <a:lnTo>
                    <a:pt x="152" y="1096"/>
                  </a:lnTo>
                  <a:lnTo>
                    <a:pt x="139" y="1069"/>
                  </a:lnTo>
                  <a:lnTo>
                    <a:pt x="142" y="1000"/>
                  </a:lnTo>
                  <a:lnTo>
                    <a:pt x="152" y="961"/>
                  </a:lnTo>
                  <a:lnTo>
                    <a:pt x="139" y="928"/>
                  </a:lnTo>
                  <a:lnTo>
                    <a:pt x="126" y="898"/>
                  </a:lnTo>
                  <a:lnTo>
                    <a:pt x="120" y="862"/>
                  </a:lnTo>
                  <a:lnTo>
                    <a:pt x="101" y="847"/>
                  </a:lnTo>
                  <a:lnTo>
                    <a:pt x="95" y="841"/>
                  </a:lnTo>
                  <a:lnTo>
                    <a:pt x="91" y="826"/>
                  </a:lnTo>
                  <a:lnTo>
                    <a:pt x="63" y="778"/>
                  </a:lnTo>
                  <a:lnTo>
                    <a:pt x="25" y="664"/>
                  </a:lnTo>
                  <a:lnTo>
                    <a:pt x="12" y="585"/>
                  </a:lnTo>
                  <a:lnTo>
                    <a:pt x="12" y="540"/>
                  </a:lnTo>
                  <a:lnTo>
                    <a:pt x="0" y="525"/>
                  </a:lnTo>
                  <a:lnTo>
                    <a:pt x="3" y="483"/>
                  </a:lnTo>
                  <a:lnTo>
                    <a:pt x="15" y="462"/>
                  </a:lnTo>
                  <a:lnTo>
                    <a:pt x="63" y="405"/>
                  </a:lnTo>
                  <a:lnTo>
                    <a:pt x="107" y="411"/>
                  </a:lnTo>
                  <a:lnTo>
                    <a:pt x="117" y="420"/>
                  </a:lnTo>
                  <a:lnTo>
                    <a:pt x="177" y="420"/>
                  </a:lnTo>
                  <a:lnTo>
                    <a:pt x="180" y="405"/>
                  </a:lnTo>
                  <a:lnTo>
                    <a:pt x="193" y="411"/>
                  </a:lnTo>
                  <a:lnTo>
                    <a:pt x="209" y="393"/>
                  </a:lnTo>
                  <a:lnTo>
                    <a:pt x="222" y="399"/>
                  </a:lnTo>
                  <a:lnTo>
                    <a:pt x="234" y="390"/>
                  </a:lnTo>
                  <a:lnTo>
                    <a:pt x="231" y="372"/>
                  </a:lnTo>
                  <a:lnTo>
                    <a:pt x="244" y="336"/>
                  </a:lnTo>
                  <a:lnTo>
                    <a:pt x="260" y="321"/>
                  </a:lnTo>
                  <a:lnTo>
                    <a:pt x="253" y="312"/>
                  </a:lnTo>
                  <a:lnTo>
                    <a:pt x="260" y="300"/>
                  </a:lnTo>
                  <a:lnTo>
                    <a:pt x="253" y="285"/>
                  </a:lnTo>
                  <a:lnTo>
                    <a:pt x="279" y="258"/>
                  </a:lnTo>
                  <a:lnTo>
                    <a:pt x="317" y="255"/>
                  </a:lnTo>
                  <a:lnTo>
                    <a:pt x="355" y="192"/>
                  </a:lnTo>
                  <a:lnTo>
                    <a:pt x="399" y="141"/>
                  </a:lnTo>
                  <a:lnTo>
                    <a:pt x="421" y="135"/>
                  </a:lnTo>
                  <a:lnTo>
                    <a:pt x="434" y="120"/>
                  </a:lnTo>
                  <a:lnTo>
                    <a:pt x="456" y="120"/>
                  </a:lnTo>
                  <a:lnTo>
                    <a:pt x="494" y="165"/>
                  </a:lnTo>
                  <a:lnTo>
                    <a:pt x="507" y="171"/>
                  </a:lnTo>
                  <a:lnTo>
                    <a:pt x="520" y="150"/>
                  </a:lnTo>
                  <a:lnTo>
                    <a:pt x="545" y="120"/>
                  </a:lnTo>
                  <a:lnTo>
                    <a:pt x="561" y="114"/>
                  </a:lnTo>
                  <a:lnTo>
                    <a:pt x="577" y="72"/>
                  </a:lnTo>
                  <a:lnTo>
                    <a:pt x="596" y="66"/>
                  </a:lnTo>
                  <a:lnTo>
                    <a:pt x="615" y="51"/>
                  </a:lnTo>
                  <a:lnTo>
                    <a:pt x="637" y="36"/>
                  </a:lnTo>
                  <a:lnTo>
                    <a:pt x="659" y="36"/>
                  </a:lnTo>
                  <a:lnTo>
                    <a:pt x="675" y="15"/>
                  </a:lnTo>
                  <a:lnTo>
                    <a:pt x="701" y="15"/>
                  </a:lnTo>
                  <a:lnTo>
                    <a:pt x="730" y="15"/>
                  </a:lnTo>
                  <a:lnTo>
                    <a:pt x="768" y="27"/>
                  </a:lnTo>
                  <a:lnTo>
                    <a:pt x="794" y="48"/>
                  </a:lnTo>
                  <a:lnTo>
                    <a:pt x="800" y="63"/>
                  </a:lnTo>
                  <a:lnTo>
                    <a:pt x="803" y="72"/>
                  </a:lnTo>
                  <a:lnTo>
                    <a:pt x="806" y="99"/>
                  </a:lnTo>
                  <a:lnTo>
                    <a:pt x="803" y="108"/>
                  </a:lnTo>
                  <a:lnTo>
                    <a:pt x="803" y="135"/>
                  </a:lnTo>
                  <a:lnTo>
                    <a:pt x="800" y="150"/>
                  </a:lnTo>
                  <a:lnTo>
                    <a:pt x="863" y="207"/>
                  </a:lnTo>
                  <a:lnTo>
                    <a:pt x="882" y="237"/>
                  </a:lnTo>
                  <a:lnTo>
                    <a:pt x="908" y="249"/>
                  </a:lnTo>
                  <a:lnTo>
                    <a:pt x="933" y="264"/>
                  </a:lnTo>
                  <a:lnTo>
                    <a:pt x="952" y="270"/>
                  </a:lnTo>
                  <a:lnTo>
                    <a:pt x="978" y="255"/>
                  </a:lnTo>
                  <a:lnTo>
                    <a:pt x="997" y="207"/>
                  </a:lnTo>
                  <a:lnTo>
                    <a:pt x="1006" y="171"/>
                  </a:lnTo>
                  <a:lnTo>
                    <a:pt x="1016" y="99"/>
                  </a:lnTo>
                  <a:lnTo>
                    <a:pt x="1022" y="66"/>
                  </a:lnTo>
                  <a:lnTo>
                    <a:pt x="1022"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5245200" y="3687840"/>
              <a:ext cx="284400" cy="65520"/>
            </a:xfrm>
            <a:custGeom>
              <a:avLst/>
              <a:gdLst/>
              <a:ahLst/>
              <a:rect l="0" t="0" r="r" b="b"/>
              <a:pathLst>
                <a:path w="790" h="182">
                  <a:moveTo>
                    <a:pt x="0" y="0"/>
                  </a:moveTo>
                  <a:lnTo>
                    <a:pt x="60" y="27"/>
                  </a:lnTo>
                  <a:lnTo>
                    <a:pt x="111" y="27"/>
                  </a:lnTo>
                  <a:lnTo>
                    <a:pt x="159" y="27"/>
                  </a:lnTo>
                  <a:lnTo>
                    <a:pt x="190" y="27"/>
                  </a:lnTo>
                  <a:lnTo>
                    <a:pt x="216" y="33"/>
                  </a:lnTo>
                  <a:lnTo>
                    <a:pt x="251" y="50"/>
                  </a:lnTo>
                  <a:lnTo>
                    <a:pt x="267" y="86"/>
                  </a:lnTo>
                  <a:lnTo>
                    <a:pt x="286" y="102"/>
                  </a:lnTo>
                  <a:lnTo>
                    <a:pt x="315" y="99"/>
                  </a:lnTo>
                  <a:lnTo>
                    <a:pt x="350" y="99"/>
                  </a:lnTo>
                  <a:lnTo>
                    <a:pt x="388" y="117"/>
                  </a:lnTo>
                  <a:lnTo>
                    <a:pt x="414" y="129"/>
                  </a:lnTo>
                  <a:lnTo>
                    <a:pt x="430" y="129"/>
                  </a:lnTo>
                  <a:lnTo>
                    <a:pt x="433" y="102"/>
                  </a:lnTo>
                  <a:lnTo>
                    <a:pt x="446" y="86"/>
                  </a:lnTo>
                  <a:lnTo>
                    <a:pt x="497" y="99"/>
                  </a:lnTo>
                  <a:lnTo>
                    <a:pt x="542" y="99"/>
                  </a:lnTo>
                  <a:lnTo>
                    <a:pt x="580" y="99"/>
                  </a:lnTo>
                  <a:lnTo>
                    <a:pt x="608" y="114"/>
                  </a:lnTo>
                  <a:lnTo>
                    <a:pt x="624" y="123"/>
                  </a:lnTo>
                  <a:lnTo>
                    <a:pt x="656" y="117"/>
                  </a:lnTo>
                  <a:lnTo>
                    <a:pt x="675" y="108"/>
                  </a:lnTo>
                  <a:lnTo>
                    <a:pt x="688" y="99"/>
                  </a:lnTo>
                  <a:lnTo>
                    <a:pt x="723" y="99"/>
                  </a:lnTo>
                  <a:lnTo>
                    <a:pt x="745" y="86"/>
                  </a:lnTo>
                  <a:lnTo>
                    <a:pt x="774" y="77"/>
                  </a:lnTo>
                  <a:lnTo>
                    <a:pt x="790" y="77"/>
                  </a:lnTo>
                  <a:lnTo>
                    <a:pt x="787" y="114"/>
                  </a:lnTo>
                  <a:lnTo>
                    <a:pt x="777" y="129"/>
                  </a:lnTo>
                  <a:lnTo>
                    <a:pt x="761" y="146"/>
                  </a:lnTo>
                  <a:lnTo>
                    <a:pt x="745" y="146"/>
                  </a:lnTo>
                  <a:lnTo>
                    <a:pt x="739" y="146"/>
                  </a:lnTo>
                  <a:lnTo>
                    <a:pt x="720" y="152"/>
                  </a:lnTo>
                  <a:lnTo>
                    <a:pt x="701" y="173"/>
                  </a:lnTo>
                  <a:lnTo>
                    <a:pt x="685" y="167"/>
                  </a:lnTo>
                  <a:lnTo>
                    <a:pt x="669" y="158"/>
                  </a:lnTo>
                  <a:lnTo>
                    <a:pt x="650" y="167"/>
                  </a:lnTo>
                  <a:lnTo>
                    <a:pt x="634" y="173"/>
                  </a:lnTo>
                  <a:lnTo>
                    <a:pt x="621" y="173"/>
                  </a:lnTo>
                  <a:lnTo>
                    <a:pt x="608" y="182"/>
                  </a:lnTo>
                  <a:lnTo>
                    <a:pt x="573" y="182"/>
                  </a:lnTo>
                  <a:lnTo>
                    <a:pt x="561" y="167"/>
                  </a:lnTo>
                  <a:lnTo>
                    <a:pt x="545" y="146"/>
                  </a:lnTo>
                  <a:lnTo>
                    <a:pt x="522" y="167"/>
                  </a:lnTo>
                  <a:lnTo>
                    <a:pt x="510" y="182"/>
                  </a:lnTo>
                  <a:lnTo>
                    <a:pt x="494" y="182"/>
                  </a:lnTo>
                  <a:lnTo>
                    <a:pt x="465" y="146"/>
                  </a:lnTo>
                  <a:lnTo>
                    <a:pt x="456" y="152"/>
                  </a:lnTo>
                  <a:lnTo>
                    <a:pt x="440" y="152"/>
                  </a:lnTo>
                  <a:lnTo>
                    <a:pt x="427" y="173"/>
                  </a:lnTo>
                  <a:lnTo>
                    <a:pt x="402" y="167"/>
                  </a:lnTo>
                  <a:lnTo>
                    <a:pt x="375" y="167"/>
                  </a:lnTo>
                  <a:lnTo>
                    <a:pt x="362" y="158"/>
                  </a:lnTo>
                  <a:lnTo>
                    <a:pt x="343" y="146"/>
                  </a:lnTo>
                  <a:lnTo>
                    <a:pt x="318" y="152"/>
                  </a:lnTo>
                  <a:lnTo>
                    <a:pt x="292" y="173"/>
                  </a:lnTo>
                  <a:lnTo>
                    <a:pt x="276" y="167"/>
                  </a:lnTo>
                  <a:lnTo>
                    <a:pt x="251" y="158"/>
                  </a:lnTo>
                  <a:lnTo>
                    <a:pt x="222" y="139"/>
                  </a:lnTo>
                  <a:lnTo>
                    <a:pt x="197" y="139"/>
                  </a:lnTo>
                  <a:lnTo>
                    <a:pt x="146" y="123"/>
                  </a:lnTo>
                  <a:lnTo>
                    <a:pt x="111" y="114"/>
                  </a:lnTo>
                  <a:lnTo>
                    <a:pt x="89" y="108"/>
                  </a:lnTo>
                  <a:lnTo>
                    <a:pt x="57" y="102"/>
                  </a:lnTo>
                  <a:lnTo>
                    <a:pt x="35" y="80"/>
                  </a:lnTo>
                  <a:lnTo>
                    <a:pt x="12" y="77"/>
                  </a:lnTo>
                  <a:lnTo>
                    <a:pt x="6" y="71"/>
                  </a:lnTo>
                  <a:lnTo>
                    <a:pt x="0" y="59"/>
                  </a:lnTo>
                  <a:lnTo>
                    <a:pt x="0" y="0"/>
                  </a:lnTo>
                  <a:close/>
                </a:path>
              </a:pathLst>
            </a:custGeom>
            <a:solidFill>
              <a:srgbClr val="00ae00"/>
            </a:solidFill>
            <a:ln w="25560">
              <a:solidFill>
                <a:srgbClr val="919191"/>
              </a:solidFill>
              <a:round/>
            </a:ln>
          </p:spPr>
          <p:txBody>
            <a:bodyPr lIns="102600" rIns="102600" tIns="7920" bIns="7920" anchor="t">
              <a:noAutofit/>
            </a:bodyPr>
            <a:p>
              <a:endParaRPr b="0" lang="en-US" sz="1800" spc="-1" strike="noStrike">
                <a:solidFill>
                  <a:srgbClr val="000000"/>
                </a:solidFill>
                <a:latin typeface="Arial"/>
              </a:endParaRPr>
            </a:p>
          </p:txBody>
        </p:sp>
        <p:sp>
          <p:nvSpPr>
            <p:cNvPr id="240" name=""/>
            <p:cNvSpPr/>
            <p:nvPr/>
          </p:nvSpPr>
          <p:spPr>
            <a:xfrm>
              <a:off x="5400720" y="3565440"/>
              <a:ext cx="128880" cy="119520"/>
            </a:xfrm>
            <a:custGeom>
              <a:avLst/>
              <a:gdLst/>
              <a:ahLst/>
              <a:rect l="0" t="0" r="r" b="b"/>
              <a:pathLst>
                <a:path w="358" h="332">
                  <a:moveTo>
                    <a:pt x="89" y="0"/>
                  </a:moveTo>
                  <a:lnTo>
                    <a:pt x="175" y="2"/>
                  </a:lnTo>
                  <a:lnTo>
                    <a:pt x="256" y="2"/>
                  </a:lnTo>
                  <a:lnTo>
                    <a:pt x="300" y="0"/>
                  </a:lnTo>
                  <a:lnTo>
                    <a:pt x="358" y="29"/>
                  </a:lnTo>
                  <a:lnTo>
                    <a:pt x="319" y="38"/>
                  </a:lnTo>
                  <a:lnTo>
                    <a:pt x="300" y="56"/>
                  </a:lnTo>
                  <a:lnTo>
                    <a:pt x="288" y="64"/>
                  </a:lnTo>
                  <a:lnTo>
                    <a:pt x="278" y="76"/>
                  </a:lnTo>
                  <a:lnTo>
                    <a:pt x="278" y="86"/>
                  </a:lnTo>
                  <a:lnTo>
                    <a:pt x="278" y="101"/>
                  </a:lnTo>
                  <a:lnTo>
                    <a:pt x="252" y="113"/>
                  </a:lnTo>
                  <a:lnTo>
                    <a:pt x="230" y="113"/>
                  </a:lnTo>
                  <a:lnTo>
                    <a:pt x="224" y="116"/>
                  </a:lnTo>
                  <a:lnTo>
                    <a:pt x="201" y="116"/>
                  </a:lnTo>
                  <a:lnTo>
                    <a:pt x="192" y="101"/>
                  </a:lnTo>
                  <a:lnTo>
                    <a:pt x="175" y="79"/>
                  </a:lnTo>
                  <a:lnTo>
                    <a:pt x="159" y="64"/>
                  </a:lnTo>
                  <a:lnTo>
                    <a:pt x="124" y="64"/>
                  </a:lnTo>
                  <a:lnTo>
                    <a:pt x="114" y="64"/>
                  </a:lnTo>
                  <a:lnTo>
                    <a:pt x="108" y="92"/>
                  </a:lnTo>
                  <a:lnTo>
                    <a:pt x="111" y="116"/>
                  </a:lnTo>
                  <a:lnTo>
                    <a:pt x="111" y="133"/>
                  </a:lnTo>
                  <a:lnTo>
                    <a:pt x="114" y="148"/>
                  </a:lnTo>
                  <a:lnTo>
                    <a:pt x="133" y="142"/>
                  </a:lnTo>
                  <a:lnTo>
                    <a:pt x="159" y="127"/>
                  </a:lnTo>
                  <a:lnTo>
                    <a:pt x="175" y="127"/>
                  </a:lnTo>
                  <a:lnTo>
                    <a:pt x="189" y="136"/>
                  </a:lnTo>
                  <a:lnTo>
                    <a:pt x="189" y="148"/>
                  </a:lnTo>
                  <a:lnTo>
                    <a:pt x="178" y="169"/>
                  </a:lnTo>
                  <a:lnTo>
                    <a:pt x="175" y="178"/>
                  </a:lnTo>
                  <a:lnTo>
                    <a:pt x="175" y="189"/>
                  </a:lnTo>
                  <a:lnTo>
                    <a:pt x="172" y="204"/>
                  </a:lnTo>
                  <a:lnTo>
                    <a:pt x="178" y="219"/>
                  </a:lnTo>
                  <a:lnTo>
                    <a:pt x="198" y="240"/>
                  </a:lnTo>
                  <a:lnTo>
                    <a:pt x="201" y="234"/>
                  </a:lnTo>
                  <a:lnTo>
                    <a:pt x="201" y="255"/>
                  </a:lnTo>
                  <a:lnTo>
                    <a:pt x="192" y="270"/>
                  </a:lnTo>
                  <a:lnTo>
                    <a:pt x="185" y="285"/>
                  </a:lnTo>
                  <a:lnTo>
                    <a:pt x="178" y="312"/>
                  </a:lnTo>
                  <a:lnTo>
                    <a:pt x="162" y="323"/>
                  </a:lnTo>
                  <a:lnTo>
                    <a:pt x="149" y="323"/>
                  </a:lnTo>
                  <a:lnTo>
                    <a:pt x="137" y="323"/>
                  </a:lnTo>
                  <a:lnTo>
                    <a:pt x="137" y="303"/>
                  </a:lnTo>
                  <a:lnTo>
                    <a:pt x="133" y="267"/>
                  </a:lnTo>
                  <a:lnTo>
                    <a:pt x="121" y="255"/>
                  </a:lnTo>
                  <a:lnTo>
                    <a:pt x="114" y="240"/>
                  </a:lnTo>
                  <a:lnTo>
                    <a:pt x="121" y="210"/>
                  </a:lnTo>
                  <a:lnTo>
                    <a:pt x="108" y="198"/>
                  </a:lnTo>
                  <a:lnTo>
                    <a:pt x="76" y="210"/>
                  </a:lnTo>
                  <a:lnTo>
                    <a:pt x="63" y="198"/>
                  </a:lnTo>
                  <a:lnTo>
                    <a:pt x="51" y="213"/>
                  </a:lnTo>
                  <a:lnTo>
                    <a:pt x="63" y="225"/>
                  </a:lnTo>
                  <a:lnTo>
                    <a:pt x="86" y="234"/>
                  </a:lnTo>
                  <a:lnTo>
                    <a:pt x="89" y="246"/>
                  </a:lnTo>
                  <a:lnTo>
                    <a:pt x="102" y="267"/>
                  </a:lnTo>
                  <a:lnTo>
                    <a:pt x="102" y="282"/>
                  </a:lnTo>
                  <a:lnTo>
                    <a:pt x="89" y="306"/>
                  </a:lnTo>
                  <a:lnTo>
                    <a:pt x="73" y="326"/>
                  </a:lnTo>
                  <a:lnTo>
                    <a:pt x="63" y="332"/>
                  </a:lnTo>
                  <a:lnTo>
                    <a:pt x="63" y="317"/>
                  </a:lnTo>
                  <a:lnTo>
                    <a:pt x="63" y="303"/>
                  </a:lnTo>
                  <a:lnTo>
                    <a:pt x="70" y="282"/>
                  </a:lnTo>
                  <a:lnTo>
                    <a:pt x="47" y="267"/>
                  </a:lnTo>
                  <a:lnTo>
                    <a:pt x="25" y="250"/>
                  </a:lnTo>
                  <a:lnTo>
                    <a:pt x="22" y="234"/>
                  </a:lnTo>
                  <a:lnTo>
                    <a:pt x="0" y="225"/>
                  </a:lnTo>
                  <a:lnTo>
                    <a:pt x="6" y="198"/>
                  </a:lnTo>
                  <a:lnTo>
                    <a:pt x="22" y="184"/>
                  </a:lnTo>
                  <a:lnTo>
                    <a:pt x="35" y="157"/>
                  </a:lnTo>
                  <a:lnTo>
                    <a:pt x="47" y="133"/>
                  </a:lnTo>
                  <a:lnTo>
                    <a:pt x="51" y="107"/>
                  </a:lnTo>
                  <a:lnTo>
                    <a:pt x="47" y="79"/>
                  </a:lnTo>
                  <a:lnTo>
                    <a:pt x="57" y="70"/>
                  </a:lnTo>
                  <a:lnTo>
                    <a:pt x="63" y="59"/>
                  </a:lnTo>
                  <a:lnTo>
                    <a:pt x="51" y="38"/>
                  </a:lnTo>
                  <a:lnTo>
                    <a:pt x="89"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a:off x="5267160" y="3508200"/>
              <a:ext cx="141480" cy="170280"/>
            </a:xfrm>
            <a:custGeom>
              <a:avLst/>
              <a:gdLst/>
              <a:ahLst/>
              <a:rect l="0" t="0" r="r" b="b"/>
              <a:pathLst>
                <a:path w="393" h="473">
                  <a:moveTo>
                    <a:pt x="0" y="156"/>
                  </a:moveTo>
                  <a:lnTo>
                    <a:pt x="79" y="82"/>
                  </a:lnTo>
                  <a:lnTo>
                    <a:pt x="120" y="51"/>
                  </a:lnTo>
                  <a:lnTo>
                    <a:pt x="142" y="24"/>
                  </a:lnTo>
                  <a:lnTo>
                    <a:pt x="206" y="0"/>
                  </a:lnTo>
                  <a:lnTo>
                    <a:pt x="241" y="57"/>
                  </a:lnTo>
                  <a:lnTo>
                    <a:pt x="273" y="30"/>
                  </a:lnTo>
                  <a:lnTo>
                    <a:pt x="285" y="15"/>
                  </a:lnTo>
                  <a:lnTo>
                    <a:pt x="317" y="0"/>
                  </a:lnTo>
                  <a:lnTo>
                    <a:pt x="333" y="0"/>
                  </a:lnTo>
                  <a:lnTo>
                    <a:pt x="336" y="18"/>
                  </a:lnTo>
                  <a:lnTo>
                    <a:pt x="336" y="36"/>
                  </a:lnTo>
                  <a:lnTo>
                    <a:pt x="320" y="60"/>
                  </a:lnTo>
                  <a:lnTo>
                    <a:pt x="320" y="76"/>
                  </a:lnTo>
                  <a:lnTo>
                    <a:pt x="368" y="147"/>
                  </a:lnTo>
                  <a:lnTo>
                    <a:pt x="374" y="189"/>
                  </a:lnTo>
                  <a:lnTo>
                    <a:pt x="387" y="189"/>
                  </a:lnTo>
                  <a:lnTo>
                    <a:pt x="393" y="211"/>
                  </a:lnTo>
                  <a:lnTo>
                    <a:pt x="374" y="232"/>
                  </a:lnTo>
                  <a:lnTo>
                    <a:pt x="361" y="220"/>
                  </a:lnTo>
                  <a:lnTo>
                    <a:pt x="333" y="235"/>
                  </a:lnTo>
                  <a:lnTo>
                    <a:pt x="336" y="278"/>
                  </a:lnTo>
                  <a:lnTo>
                    <a:pt x="304" y="305"/>
                  </a:lnTo>
                  <a:lnTo>
                    <a:pt x="304" y="373"/>
                  </a:lnTo>
                  <a:lnTo>
                    <a:pt x="304" y="422"/>
                  </a:lnTo>
                  <a:lnTo>
                    <a:pt x="285" y="443"/>
                  </a:lnTo>
                  <a:lnTo>
                    <a:pt x="273" y="473"/>
                  </a:lnTo>
                  <a:lnTo>
                    <a:pt x="257" y="467"/>
                  </a:lnTo>
                  <a:lnTo>
                    <a:pt x="232" y="452"/>
                  </a:lnTo>
                  <a:lnTo>
                    <a:pt x="209" y="437"/>
                  </a:lnTo>
                  <a:lnTo>
                    <a:pt x="193" y="409"/>
                  </a:lnTo>
                  <a:lnTo>
                    <a:pt x="132" y="416"/>
                  </a:lnTo>
                  <a:lnTo>
                    <a:pt x="82" y="400"/>
                  </a:lnTo>
                  <a:lnTo>
                    <a:pt x="50" y="358"/>
                  </a:lnTo>
                  <a:lnTo>
                    <a:pt x="28" y="326"/>
                  </a:lnTo>
                  <a:lnTo>
                    <a:pt x="12" y="299"/>
                  </a:lnTo>
                  <a:lnTo>
                    <a:pt x="12" y="247"/>
                  </a:lnTo>
                  <a:lnTo>
                    <a:pt x="0" y="156"/>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5565600" y="3603600"/>
              <a:ext cx="271800" cy="159120"/>
            </a:xfrm>
            <a:custGeom>
              <a:avLst/>
              <a:gdLst/>
              <a:ahLst/>
              <a:rect l="0" t="0" r="r" b="b"/>
              <a:pathLst>
                <a:path w="755" h="442">
                  <a:moveTo>
                    <a:pt x="0" y="0"/>
                  </a:moveTo>
                  <a:lnTo>
                    <a:pt x="66" y="3"/>
                  </a:lnTo>
                  <a:lnTo>
                    <a:pt x="120" y="9"/>
                  </a:lnTo>
                  <a:lnTo>
                    <a:pt x="146" y="72"/>
                  </a:lnTo>
                  <a:lnTo>
                    <a:pt x="152" y="94"/>
                  </a:lnTo>
                  <a:lnTo>
                    <a:pt x="159" y="103"/>
                  </a:lnTo>
                  <a:lnTo>
                    <a:pt x="178" y="88"/>
                  </a:lnTo>
                  <a:lnTo>
                    <a:pt x="206" y="88"/>
                  </a:lnTo>
                  <a:lnTo>
                    <a:pt x="222" y="103"/>
                  </a:lnTo>
                  <a:lnTo>
                    <a:pt x="232" y="100"/>
                  </a:lnTo>
                  <a:lnTo>
                    <a:pt x="257" y="72"/>
                  </a:lnTo>
                  <a:lnTo>
                    <a:pt x="260" y="72"/>
                  </a:lnTo>
                  <a:lnTo>
                    <a:pt x="283" y="57"/>
                  </a:lnTo>
                  <a:lnTo>
                    <a:pt x="305" y="57"/>
                  </a:lnTo>
                  <a:lnTo>
                    <a:pt x="372" y="88"/>
                  </a:lnTo>
                  <a:lnTo>
                    <a:pt x="401" y="88"/>
                  </a:lnTo>
                  <a:lnTo>
                    <a:pt x="433" y="116"/>
                  </a:lnTo>
                  <a:lnTo>
                    <a:pt x="462" y="125"/>
                  </a:lnTo>
                  <a:lnTo>
                    <a:pt x="487" y="146"/>
                  </a:lnTo>
                  <a:lnTo>
                    <a:pt x="510" y="153"/>
                  </a:lnTo>
                  <a:lnTo>
                    <a:pt x="564" y="174"/>
                  </a:lnTo>
                  <a:lnTo>
                    <a:pt x="589" y="210"/>
                  </a:lnTo>
                  <a:lnTo>
                    <a:pt x="602" y="232"/>
                  </a:lnTo>
                  <a:lnTo>
                    <a:pt x="599" y="241"/>
                  </a:lnTo>
                  <a:lnTo>
                    <a:pt x="618" y="262"/>
                  </a:lnTo>
                  <a:lnTo>
                    <a:pt x="637" y="268"/>
                  </a:lnTo>
                  <a:lnTo>
                    <a:pt x="643" y="274"/>
                  </a:lnTo>
                  <a:lnTo>
                    <a:pt x="665" y="277"/>
                  </a:lnTo>
                  <a:lnTo>
                    <a:pt x="700" y="311"/>
                  </a:lnTo>
                  <a:lnTo>
                    <a:pt x="700" y="333"/>
                  </a:lnTo>
                  <a:lnTo>
                    <a:pt x="720" y="351"/>
                  </a:lnTo>
                  <a:lnTo>
                    <a:pt x="726" y="363"/>
                  </a:lnTo>
                  <a:lnTo>
                    <a:pt x="755" y="406"/>
                  </a:lnTo>
                  <a:lnTo>
                    <a:pt x="729" y="442"/>
                  </a:lnTo>
                  <a:lnTo>
                    <a:pt x="720" y="442"/>
                  </a:lnTo>
                  <a:lnTo>
                    <a:pt x="694" y="442"/>
                  </a:lnTo>
                  <a:lnTo>
                    <a:pt x="688" y="427"/>
                  </a:lnTo>
                  <a:lnTo>
                    <a:pt x="675" y="427"/>
                  </a:lnTo>
                  <a:lnTo>
                    <a:pt x="662" y="430"/>
                  </a:lnTo>
                  <a:lnTo>
                    <a:pt x="599" y="348"/>
                  </a:lnTo>
                  <a:lnTo>
                    <a:pt x="560" y="351"/>
                  </a:lnTo>
                  <a:lnTo>
                    <a:pt x="522" y="348"/>
                  </a:lnTo>
                  <a:lnTo>
                    <a:pt x="510" y="357"/>
                  </a:lnTo>
                  <a:lnTo>
                    <a:pt x="497" y="373"/>
                  </a:lnTo>
                  <a:lnTo>
                    <a:pt x="490" y="363"/>
                  </a:lnTo>
                  <a:lnTo>
                    <a:pt x="475" y="391"/>
                  </a:lnTo>
                  <a:lnTo>
                    <a:pt x="449" y="427"/>
                  </a:lnTo>
                  <a:lnTo>
                    <a:pt x="427" y="409"/>
                  </a:lnTo>
                  <a:lnTo>
                    <a:pt x="401" y="400"/>
                  </a:lnTo>
                  <a:lnTo>
                    <a:pt x="385" y="400"/>
                  </a:lnTo>
                  <a:lnTo>
                    <a:pt x="359" y="391"/>
                  </a:lnTo>
                  <a:lnTo>
                    <a:pt x="346" y="400"/>
                  </a:lnTo>
                  <a:lnTo>
                    <a:pt x="330" y="348"/>
                  </a:lnTo>
                  <a:lnTo>
                    <a:pt x="299" y="299"/>
                  </a:lnTo>
                  <a:lnTo>
                    <a:pt x="270" y="241"/>
                  </a:lnTo>
                  <a:lnTo>
                    <a:pt x="244" y="210"/>
                  </a:lnTo>
                  <a:lnTo>
                    <a:pt x="222" y="177"/>
                  </a:lnTo>
                  <a:lnTo>
                    <a:pt x="178" y="177"/>
                  </a:lnTo>
                  <a:lnTo>
                    <a:pt x="133" y="195"/>
                  </a:lnTo>
                  <a:lnTo>
                    <a:pt x="114" y="174"/>
                  </a:lnTo>
                  <a:lnTo>
                    <a:pt x="69" y="159"/>
                  </a:lnTo>
                  <a:lnTo>
                    <a:pt x="50" y="140"/>
                  </a:lnTo>
                  <a:lnTo>
                    <a:pt x="50" y="79"/>
                  </a:lnTo>
                  <a:lnTo>
                    <a:pt x="54" y="45"/>
                  </a:lnTo>
                  <a:lnTo>
                    <a:pt x="0"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a:off x="5064120" y="3494160"/>
              <a:ext cx="165600" cy="206640"/>
            </a:xfrm>
            <a:custGeom>
              <a:avLst/>
              <a:gdLst/>
              <a:ahLst/>
              <a:rect l="0" t="0" r="r" b="b"/>
              <a:pathLst>
                <a:path w="460" h="574">
                  <a:moveTo>
                    <a:pt x="0" y="14"/>
                  </a:moveTo>
                  <a:lnTo>
                    <a:pt x="44" y="0"/>
                  </a:lnTo>
                  <a:lnTo>
                    <a:pt x="101" y="26"/>
                  </a:lnTo>
                  <a:lnTo>
                    <a:pt x="108" y="50"/>
                  </a:lnTo>
                  <a:lnTo>
                    <a:pt x="108" y="62"/>
                  </a:lnTo>
                  <a:lnTo>
                    <a:pt x="122" y="65"/>
                  </a:lnTo>
                  <a:lnTo>
                    <a:pt x="122" y="77"/>
                  </a:lnTo>
                  <a:lnTo>
                    <a:pt x="141" y="83"/>
                  </a:lnTo>
                  <a:lnTo>
                    <a:pt x="141" y="104"/>
                  </a:lnTo>
                  <a:lnTo>
                    <a:pt x="195" y="164"/>
                  </a:lnTo>
                  <a:lnTo>
                    <a:pt x="204" y="164"/>
                  </a:lnTo>
                  <a:lnTo>
                    <a:pt x="211" y="179"/>
                  </a:lnTo>
                  <a:lnTo>
                    <a:pt x="220" y="197"/>
                  </a:lnTo>
                  <a:lnTo>
                    <a:pt x="230" y="197"/>
                  </a:lnTo>
                  <a:lnTo>
                    <a:pt x="268" y="217"/>
                  </a:lnTo>
                  <a:lnTo>
                    <a:pt x="338" y="226"/>
                  </a:lnTo>
                  <a:lnTo>
                    <a:pt x="344" y="299"/>
                  </a:lnTo>
                  <a:lnTo>
                    <a:pt x="361" y="311"/>
                  </a:lnTo>
                  <a:lnTo>
                    <a:pt x="358" y="335"/>
                  </a:lnTo>
                  <a:lnTo>
                    <a:pt x="400" y="371"/>
                  </a:lnTo>
                  <a:lnTo>
                    <a:pt x="438" y="389"/>
                  </a:lnTo>
                  <a:lnTo>
                    <a:pt x="438" y="505"/>
                  </a:lnTo>
                  <a:lnTo>
                    <a:pt x="460" y="553"/>
                  </a:lnTo>
                  <a:lnTo>
                    <a:pt x="447" y="568"/>
                  </a:lnTo>
                  <a:lnTo>
                    <a:pt x="422" y="574"/>
                  </a:lnTo>
                  <a:lnTo>
                    <a:pt x="416" y="532"/>
                  </a:lnTo>
                  <a:lnTo>
                    <a:pt x="374" y="574"/>
                  </a:lnTo>
                  <a:lnTo>
                    <a:pt x="344" y="511"/>
                  </a:lnTo>
                  <a:lnTo>
                    <a:pt x="325" y="469"/>
                  </a:lnTo>
                  <a:lnTo>
                    <a:pt x="274" y="413"/>
                  </a:lnTo>
                  <a:lnTo>
                    <a:pt x="262" y="413"/>
                  </a:lnTo>
                  <a:lnTo>
                    <a:pt x="217" y="383"/>
                  </a:lnTo>
                  <a:lnTo>
                    <a:pt x="208" y="353"/>
                  </a:lnTo>
                  <a:lnTo>
                    <a:pt x="208" y="332"/>
                  </a:lnTo>
                  <a:lnTo>
                    <a:pt x="169" y="247"/>
                  </a:lnTo>
                  <a:lnTo>
                    <a:pt x="153" y="197"/>
                  </a:lnTo>
                  <a:lnTo>
                    <a:pt x="105" y="149"/>
                  </a:lnTo>
                  <a:lnTo>
                    <a:pt x="41" y="77"/>
                  </a:lnTo>
                  <a:lnTo>
                    <a:pt x="0" y="14"/>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p:nvPr/>
          </p:nvSpPr>
          <p:spPr>
            <a:xfrm>
              <a:off x="5357880" y="3268800"/>
              <a:ext cx="155880" cy="230400"/>
            </a:xfrm>
            <a:custGeom>
              <a:avLst/>
              <a:gdLst/>
              <a:ahLst/>
              <a:rect l="0" t="0" r="r" b="b"/>
              <a:pathLst>
                <a:path w="433" h="640">
                  <a:moveTo>
                    <a:pt x="28" y="0"/>
                  </a:moveTo>
                  <a:lnTo>
                    <a:pt x="65" y="0"/>
                  </a:lnTo>
                  <a:lnTo>
                    <a:pt x="106" y="66"/>
                  </a:lnTo>
                  <a:lnTo>
                    <a:pt x="100" y="129"/>
                  </a:lnTo>
                  <a:lnTo>
                    <a:pt x="125" y="150"/>
                  </a:lnTo>
                  <a:lnTo>
                    <a:pt x="137" y="193"/>
                  </a:lnTo>
                  <a:lnTo>
                    <a:pt x="165" y="214"/>
                  </a:lnTo>
                  <a:lnTo>
                    <a:pt x="200" y="217"/>
                  </a:lnTo>
                  <a:lnTo>
                    <a:pt x="251" y="250"/>
                  </a:lnTo>
                  <a:lnTo>
                    <a:pt x="282" y="289"/>
                  </a:lnTo>
                  <a:lnTo>
                    <a:pt x="292" y="289"/>
                  </a:lnTo>
                  <a:lnTo>
                    <a:pt x="332" y="323"/>
                  </a:lnTo>
                  <a:lnTo>
                    <a:pt x="332" y="402"/>
                  </a:lnTo>
                  <a:lnTo>
                    <a:pt x="345" y="438"/>
                  </a:lnTo>
                  <a:lnTo>
                    <a:pt x="357" y="459"/>
                  </a:lnTo>
                  <a:lnTo>
                    <a:pt x="376" y="480"/>
                  </a:lnTo>
                  <a:lnTo>
                    <a:pt x="392" y="504"/>
                  </a:lnTo>
                  <a:lnTo>
                    <a:pt x="401" y="537"/>
                  </a:lnTo>
                  <a:lnTo>
                    <a:pt x="433" y="561"/>
                  </a:lnTo>
                  <a:lnTo>
                    <a:pt x="430" y="595"/>
                  </a:lnTo>
                  <a:lnTo>
                    <a:pt x="395" y="598"/>
                  </a:lnTo>
                  <a:lnTo>
                    <a:pt x="383" y="574"/>
                  </a:lnTo>
                  <a:lnTo>
                    <a:pt x="357" y="574"/>
                  </a:lnTo>
                  <a:lnTo>
                    <a:pt x="357" y="640"/>
                  </a:lnTo>
                  <a:lnTo>
                    <a:pt x="339" y="640"/>
                  </a:lnTo>
                  <a:lnTo>
                    <a:pt x="314" y="610"/>
                  </a:lnTo>
                  <a:lnTo>
                    <a:pt x="295" y="595"/>
                  </a:lnTo>
                  <a:lnTo>
                    <a:pt x="295" y="558"/>
                  </a:lnTo>
                  <a:lnTo>
                    <a:pt x="257" y="558"/>
                  </a:lnTo>
                  <a:lnTo>
                    <a:pt x="245" y="595"/>
                  </a:lnTo>
                  <a:lnTo>
                    <a:pt x="232" y="558"/>
                  </a:lnTo>
                  <a:lnTo>
                    <a:pt x="229" y="519"/>
                  </a:lnTo>
                  <a:lnTo>
                    <a:pt x="276" y="504"/>
                  </a:lnTo>
                  <a:lnTo>
                    <a:pt x="301" y="516"/>
                  </a:lnTo>
                  <a:lnTo>
                    <a:pt x="304" y="453"/>
                  </a:lnTo>
                  <a:lnTo>
                    <a:pt x="279" y="432"/>
                  </a:lnTo>
                  <a:lnTo>
                    <a:pt x="264" y="381"/>
                  </a:lnTo>
                  <a:lnTo>
                    <a:pt x="251" y="316"/>
                  </a:lnTo>
                  <a:lnTo>
                    <a:pt x="203" y="295"/>
                  </a:lnTo>
                  <a:lnTo>
                    <a:pt x="181" y="265"/>
                  </a:lnTo>
                  <a:lnTo>
                    <a:pt x="144" y="250"/>
                  </a:lnTo>
                  <a:lnTo>
                    <a:pt x="165" y="310"/>
                  </a:lnTo>
                  <a:lnTo>
                    <a:pt x="125" y="338"/>
                  </a:lnTo>
                  <a:lnTo>
                    <a:pt x="100" y="271"/>
                  </a:lnTo>
                  <a:lnTo>
                    <a:pt x="78" y="253"/>
                  </a:lnTo>
                  <a:lnTo>
                    <a:pt x="78" y="217"/>
                  </a:lnTo>
                  <a:lnTo>
                    <a:pt x="50" y="174"/>
                  </a:lnTo>
                  <a:lnTo>
                    <a:pt x="15" y="150"/>
                  </a:lnTo>
                  <a:lnTo>
                    <a:pt x="0" y="123"/>
                  </a:lnTo>
                  <a:lnTo>
                    <a:pt x="6" y="102"/>
                  </a:lnTo>
                  <a:lnTo>
                    <a:pt x="31" y="114"/>
                  </a:lnTo>
                  <a:lnTo>
                    <a:pt x="40" y="87"/>
                  </a:lnTo>
                  <a:lnTo>
                    <a:pt x="31" y="51"/>
                  </a:lnTo>
                  <a:lnTo>
                    <a:pt x="28"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5" name=""/>
            <p:cNvSpPr/>
            <p:nvPr/>
          </p:nvSpPr>
          <p:spPr>
            <a:xfrm>
              <a:off x="5321160" y="2876400"/>
              <a:ext cx="114840" cy="197280"/>
            </a:xfrm>
            <a:custGeom>
              <a:avLst/>
              <a:gdLst/>
              <a:ahLst/>
              <a:rect l="0" t="0" r="r" b="b"/>
              <a:pathLst>
                <a:path w="319" h="548">
                  <a:moveTo>
                    <a:pt x="65" y="0"/>
                  </a:moveTo>
                  <a:lnTo>
                    <a:pt x="128" y="36"/>
                  </a:lnTo>
                  <a:lnTo>
                    <a:pt x="165" y="72"/>
                  </a:lnTo>
                  <a:lnTo>
                    <a:pt x="190" y="121"/>
                  </a:lnTo>
                  <a:lnTo>
                    <a:pt x="212" y="121"/>
                  </a:lnTo>
                  <a:lnTo>
                    <a:pt x="206" y="152"/>
                  </a:lnTo>
                  <a:lnTo>
                    <a:pt x="231" y="174"/>
                  </a:lnTo>
                  <a:lnTo>
                    <a:pt x="251" y="207"/>
                  </a:lnTo>
                  <a:lnTo>
                    <a:pt x="291" y="268"/>
                  </a:lnTo>
                  <a:lnTo>
                    <a:pt x="319" y="344"/>
                  </a:lnTo>
                  <a:lnTo>
                    <a:pt x="266" y="338"/>
                  </a:lnTo>
                  <a:lnTo>
                    <a:pt x="225" y="326"/>
                  </a:lnTo>
                  <a:lnTo>
                    <a:pt x="254" y="380"/>
                  </a:lnTo>
                  <a:lnTo>
                    <a:pt x="254" y="412"/>
                  </a:lnTo>
                  <a:lnTo>
                    <a:pt x="254" y="442"/>
                  </a:lnTo>
                  <a:lnTo>
                    <a:pt x="237" y="427"/>
                  </a:lnTo>
                  <a:lnTo>
                    <a:pt x="215" y="401"/>
                  </a:lnTo>
                  <a:lnTo>
                    <a:pt x="178" y="368"/>
                  </a:lnTo>
                  <a:lnTo>
                    <a:pt x="156" y="353"/>
                  </a:lnTo>
                  <a:lnTo>
                    <a:pt x="125" y="368"/>
                  </a:lnTo>
                  <a:lnTo>
                    <a:pt x="103" y="380"/>
                  </a:lnTo>
                  <a:lnTo>
                    <a:pt x="116" y="405"/>
                  </a:lnTo>
                  <a:lnTo>
                    <a:pt x="150" y="427"/>
                  </a:lnTo>
                  <a:lnTo>
                    <a:pt x="181" y="448"/>
                  </a:lnTo>
                  <a:lnTo>
                    <a:pt x="193" y="485"/>
                  </a:lnTo>
                  <a:lnTo>
                    <a:pt x="190" y="533"/>
                  </a:lnTo>
                  <a:lnTo>
                    <a:pt x="190" y="548"/>
                  </a:lnTo>
                  <a:lnTo>
                    <a:pt x="178" y="548"/>
                  </a:lnTo>
                  <a:lnTo>
                    <a:pt x="156" y="533"/>
                  </a:lnTo>
                  <a:lnTo>
                    <a:pt x="150" y="527"/>
                  </a:lnTo>
                  <a:lnTo>
                    <a:pt x="137" y="518"/>
                  </a:lnTo>
                  <a:lnTo>
                    <a:pt x="125" y="542"/>
                  </a:lnTo>
                  <a:lnTo>
                    <a:pt x="103" y="548"/>
                  </a:lnTo>
                  <a:lnTo>
                    <a:pt x="88" y="527"/>
                  </a:lnTo>
                  <a:lnTo>
                    <a:pt x="88" y="481"/>
                  </a:lnTo>
                  <a:lnTo>
                    <a:pt x="81" y="454"/>
                  </a:lnTo>
                  <a:lnTo>
                    <a:pt x="62" y="439"/>
                  </a:lnTo>
                  <a:lnTo>
                    <a:pt x="40" y="463"/>
                  </a:lnTo>
                  <a:lnTo>
                    <a:pt x="6" y="463"/>
                  </a:lnTo>
                  <a:lnTo>
                    <a:pt x="0" y="442"/>
                  </a:lnTo>
                  <a:lnTo>
                    <a:pt x="6" y="389"/>
                  </a:lnTo>
                  <a:lnTo>
                    <a:pt x="31" y="359"/>
                  </a:lnTo>
                  <a:lnTo>
                    <a:pt x="28" y="274"/>
                  </a:lnTo>
                  <a:lnTo>
                    <a:pt x="28" y="253"/>
                  </a:lnTo>
                  <a:lnTo>
                    <a:pt x="52" y="247"/>
                  </a:lnTo>
                  <a:lnTo>
                    <a:pt x="74" y="268"/>
                  </a:lnTo>
                  <a:lnTo>
                    <a:pt x="113" y="280"/>
                  </a:lnTo>
                  <a:lnTo>
                    <a:pt x="113" y="244"/>
                  </a:lnTo>
                  <a:lnTo>
                    <a:pt x="94" y="222"/>
                  </a:lnTo>
                  <a:lnTo>
                    <a:pt x="88" y="207"/>
                  </a:lnTo>
                  <a:lnTo>
                    <a:pt x="100" y="207"/>
                  </a:lnTo>
                  <a:lnTo>
                    <a:pt x="106" y="207"/>
                  </a:lnTo>
                  <a:lnTo>
                    <a:pt x="116" y="207"/>
                  </a:lnTo>
                  <a:lnTo>
                    <a:pt x="125" y="207"/>
                  </a:lnTo>
                  <a:lnTo>
                    <a:pt x="137" y="189"/>
                  </a:lnTo>
                  <a:lnTo>
                    <a:pt x="131" y="174"/>
                  </a:lnTo>
                  <a:lnTo>
                    <a:pt x="119" y="136"/>
                  </a:lnTo>
                  <a:lnTo>
                    <a:pt x="94" y="100"/>
                  </a:lnTo>
                  <a:lnTo>
                    <a:pt x="62" y="78"/>
                  </a:lnTo>
                  <a:lnTo>
                    <a:pt x="49" y="54"/>
                  </a:lnTo>
                  <a:lnTo>
                    <a:pt x="65"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5183280" y="2643120"/>
              <a:ext cx="130680" cy="160560"/>
            </a:xfrm>
            <a:custGeom>
              <a:avLst/>
              <a:gdLst/>
              <a:ahLst/>
              <a:rect l="0" t="0" r="r" b="b"/>
              <a:pathLst>
                <a:path w="363" h="446">
                  <a:moveTo>
                    <a:pt x="0" y="0"/>
                  </a:moveTo>
                  <a:lnTo>
                    <a:pt x="35" y="0"/>
                  </a:lnTo>
                  <a:lnTo>
                    <a:pt x="48" y="33"/>
                  </a:lnTo>
                  <a:lnTo>
                    <a:pt x="97" y="78"/>
                  </a:lnTo>
                  <a:lnTo>
                    <a:pt x="117" y="133"/>
                  </a:lnTo>
                  <a:lnTo>
                    <a:pt x="152" y="136"/>
                  </a:lnTo>
                  <a:lnTo>
                    <a:pt x="178" y="148"/>
                  </a:lnTo>
                  <a:lnTo>
                    <a:pt x="201" y="169"/>
                  </a:lnTo>
                  <a:lnTo>
                    <a:pt x="226" y="169"/>
                  </a:lnTo>
                  <a:lnTo>
                    <a:pt x="256" y="199"/>
                  </a:lnTo>
                  <a:lnTo>
                    <a:pt x="282" y="228"/>
                  </a:lnTo>
                  <a:lnTo>
                    <a:pt x="311" y="243"/>
                  </a:lnTo>
                  <a:lnTo>
                    <a:pt x="308" y="258"/>
                  </a:lnTo>
                  <a:lnTo>
                    <a:pt x="292" y="267"/>
                  </a:lnTo>
                  <a:lnTo>
                    <a:pt x="273" y="267"/>
                  </a:lnTo>
                  <a:lnTo>
                    <a:pt x="265" y="285"/>
                  </a:lnTo>
                  <a:lnTo>
                    <a:pt x="299" y="316"/>
                  </a:lnTo>
                  <a:lnTo>
                    <a:pt x="324" y="346"/>
                  </a:lnTo>
                  <a:lnTo>
                    <a:pt x="363" y="379"/>
                  </a:lnTo>
                  <a:lnTo>
                    <a:pt x="337" y="416"/>
                  </a:lnTo>
                  <a:lnTo>
                    <a:pt x="318" y="425"/>
                  </a:lnTo>
                  <a:lnTo>
                    <a:pt x="321" y="446"/>
                  </a:lnTo>
                  <a:lnTo>
                    <a:pt x="282" y="446"/>
                  </a:lnTo>
                  <a:lnTo>
                    <a:pt x="268" y="431"/>
                  </a:lnTo>
                  <a:lnTo>
                    <a:pt x="239" y="388"/>
                  </a:lnTo>
                  <a:lnTo>
                    <a:pt x="217" y="352"/>
                  </a:lnTo>
                  <a:lnTo>
                    <a:pt x="181" y="288"/>
                  </a:lnTo>
                  <a:lnTo>
                    <a:pt x="143" y="243"/>
                  </a:lnTo>
                  <a:lnTo>
                    <a:pt x="101" y="172"/>
                  </a:lnTo>
                  <a:lnTo>
                    <a:pt x="74" y="151"/>
                  </a:lnTo>
                  <a:lnTo>
                    <a:pt x="51" y="136"/>
                  </a:lnTo>
                  <a:lnTo>
                    <a:pt x="45" y="99"/>
                  </a:lnTo>
                  <a:lnTo>
                    <a:pt x="6" y="69"/>
                  </a:lnTo>
                  <a:lnTo>
                    <a:pt x="6" y="48"/>
                  </a:lnTo>
                  <a:lnTo>
                    <a:pt x="0"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a:off x="3513240" y="2970360"/>
              <a:ext cx="929160" cy="1209960"/>
            </a:xfrm>
            <a:custGeom>
              <a:avLst/>
              <a:gdLst/>
              <a:ahLst/>
              <a:rect l="0" t="0" r="r" b="b"/>
              <a:pathLst>
                <a:path w="2581" h="3361">
                  <a:moveTo>
                    <a:pt x="1931" y="400"/>
                  </a:moveTo>
                  <a:lnTo>
                    <a:pt x="1973" y="541"/>
                  </a:lnTo>
                  <a:lnTo>
                    <a:pt x="2055" y="752"/>
                  </a:lnTo>
                  <a:lnTo>
                    <a:pt x="2214" y="1098"/>
                  </a:lnTo>
                  <a:lnTo>
                    <a:pt x="2274" y="1144"/>
                  </a:lnTo>
                  <a:lnTo>
                    <a:pt x="2312" y="1243"/>
                  </a:lnTo>
                  <a:lnTo>
                    <a:pt x="2439" y="1237"/>
                  </a:lnTo>
                  <a:lnTo>
                    <a:pt x="2524" y="1207"/>
                  </a:lnTo>
                  <a:lnTo>
                    <a:pt x="2581" y="1207"/>
                  </a:lnTo>
                  <a:lnTo>
                    <a:pt x="2578" y="1342"/>
                  </a:lnTo>
                  <a:lnTo>
                    <a:pt x="2556" y="1415"/>
                  </a:lnTo>
                  <a:lnTo>
                    <a:pt x="2324" y="1717"/>
                  </a:lnTo>
                  <a:lnTo>
                    <a:pt x="2112" y="2030"/>
                  </a:lnTo>
                  <a:lnTo>
                    <a:pt x="2118" y="2150"/>
                  </a:lnTo>
                  <a:lnTo>
                    <a:pt x="2176" y="2238"/>
                  </a:lnTo>
                  <a:lnTo>
                    <a:pt x="2147" y="2304"/>
                  </a:lnTo>
                  <a:lnTo>
                    <a:pt x="2163" y="2397"/>
                  </a:lnTo>
                  <a:lnTo>
                    <a:pt x="2147" y="2466"/>
                  </a:lnTo>
                  <a:lnTo>
                    <a:pt x="2096" y="2524"/>
                  </a:lnTo>
                  <a:lnTo>
                    <a:pt x="2055" y="2524"/>
                  </a:lnTo>
                  <a:lnTo>
                    <a:pt x="1982" y="2623"/>
                  </a:lnTo>
                  <a:lnTo>
                    <a:pt x="1918" y="2737"/>
                  </a:lnTo>
                  <a:lnTo>
                    <a:pt x="1931" y="2861"/>
                  </a:lnTo>
                  <a:lnTo>
                    <a:pt x="1867" y="2918"/>
                  </a:lnTo>
                  <a:lnTo>
                    <a:pt x="1807" y="3048"/>
                  </a:lnTo>
                  <a:lnTo>
                    <a:pt x="1737" y="3168"/>
                  </a:lnTo>
                  <a:lnTo>
                    <a:pt x="1699" y="3216"/>
                  </a:lnTo>
                  <a:lnTo>
                    <a:pt x="1664" y="3225"/>
                  </a:lnTo>
                  <a:lnTo>
                    <a:pt x="1604" y="3304"/>
                  </a:lnTo>
                  <a:lnTo>
                    <a:pt x="1509" y="3352"/>
                  </a:lnTo>
                  <a:lnTo>
                    <a:pt x="1385" y="3361"/>
                  </a:lnTo>
                  <a:lnTo>
                    <a:pt x="1319" y="3310"/>
                  </a:lnTo>
                  <a:lnTo>
                    <a:pt x="1309" y="3258"/>
                  </a:lnTo>
                  <a:lnTo>
                    <a:pt x="1297" y="3189"/>
                  </a:lnTo>
                  <a:lnTo>
                    <a:pt x="1249" y="3153"/>
                  </a:lnTo>
                  <a:lnTo>
                    <a:pt x="1211" y="3023"/>
                  </a:lnTo>
                  <a:lnTo>
                    <a:pt x="1198" y="2960"/>
                  </a:lnTo>
                  <a:lnTo>
                    <a:pt x="1195" y="2882"/>
                  </a:lnTo>
                  <a:lnTo>
                    <a:pt x="1173" y="2825"/>
                  </a:lnTo>
                  <a:lnTo>
                    <a:pt x="1170" y="2789"/>
                  </a:lnTo>
                  <a:lnTo>
                    <a:pt x="1132" y="2731"/>
                  </a:lnTo>
                  <a:lnTo>
                    <a:pt x="1091" y="2686"/>
                  </a:lnTo>
                  <a:lnTo>
                    <a:pt x="1059" y="2608"/>
                  </a:lnTo>
                  <a:lnTo>
                    <a:pt x="1040" y="2551"/>
                  </a:lnTo>
                  <a:lnTo>
                    <a:pt x="1046" y="2454"/>
                  </a:lnTo>
                  <a:lnTo>
                    <a:pt x="1110" y="2316"/>
                  </a:lnTo>
                  <a:lnTo>
                    <a:pt x="1122" y="2165"/>
                  </a:lnTo>
                  <a:lnTo>
                    <a:pt x="1078" y="1994"/>
                  </a:lnTo>
                  <a:lnTo>
                    <a:pt x="1008" y="1924"/>
                  </a:lnTo>
                  <a:lnTo>
                    <a:pt x="964" y="1831"/>
                  </a:lnTo>
                  <a:lnTo>
                    <a:pt x="980" y="1687"/>
                  </a:lnTo>
                  <a:lnTo>
                    <a:pt x="945" y="1574"/>
                  </a:lnTo>
                  <a:lnTo>
                    <a:pt x="866" y="1565"/>
                  </a:lnTo>
                  <a:lnTo>
                    <a:pt x="780" y="1481"/>
                  </a:lnTo>
                  <a:lnTo>
                    <a:pt x="676" y="1436"/>
                  </a:lnTo>
                  <a:lnTo>
                    <a:pt x="564" y="1508"/>
                  </a:lnTo>
                  <a:lnTo>
                    <a:pt x="278" y="1487"/>
                  </a:lnTo>
                  <a:lnTo>
                    <a:pt x="120" y="1306"/>
                  </a:lnTo>
                  <a:lnTo>
                    <a:pt x="0" y="1056"/>
                  </a:lnTo>
                  <a:lnTo>
                    <a:pt x="19" y="972"/>
                  </a:lnTo>
                  <a:lnTo>
                    <a:pt x="76" y="909"/>
                  </a:lnTo>
                  <a:lnTo>
                    <a:pt x="101" y="737"/>
                  </a:lnTo>
                  <a:lnTo>
                    <a:pt x="139" y="614"/>
                  </a:lnTo>
                  <a:lnTo>
                    <a:pt x="247" y="484"/>
                  </a:lnTo>
                  <a:lnTo>
                    <a:pt x="361" y="427"/>
                  </a:lnTo>
                  <a:lnTo>
                    <a:pt x="469" y="292"/>
                  </a:lnTo>
                  <a:lnTo>
                    <a:pt x="494" y="234"/>
                  </a:lnTo>
                  <a:lnTo>
                    <a:pt x="633" y="87"/>
                  </a:lnTo>
                  <a:lnTo>
                    <a:pt x="723" y="144"/>
                  </a:lnTo>
                  <a:lnTo>
                    <a:pt x="786" y="141"/>
                  </a:lnTo>
                  <a:lnTo>
                    <a:pt x="863" y="63"/>
                  </a:lnTo>
                  <a:lnTo>
                    <a:pt x="951" y="51"/>
                  </a:lnTo>
                  <a:lnTo>
                    <a:pt x="1008" y="72"/>
                  </a:lnTo>
                  <a:lnTo>
                    <a:pt x="1065" y="9"/>
                  </a:lnTo>
                  <a:lnTo>
                    <a:pt x="1135" y="0"/>
                  </a:lnTo>
                  <a:lnTo>
                    <a:pt x="1154" y="114"/>
                  </a:lnTo>
                  <a:lnTo>
                    <a:pt x="1198" y="198"/>
                  </a:lnTo>
                  <a:lnTo>
                    <a:pt x="1332" y="280"/>
                  </a:lnTo>
                  <a:lnTo>
                    <a:pt x="1439" y="295"/>
                  </a:lnTo>
                  <a:lnTo>
                    <a:pt x="1452" y="201"/>
                  </a:lnTo>
                  <a:lnTo>
                    <a:pt x="1538" y="201"/>
                  </a:lnTo>
                  <a:lnTo>
                    <a:pt x="1639" y="258"/>
                  </a:lnTo>
                  <a:lnTo>
                    <a:pt x="1750" y="292"/>
                  </a:lnTo>
                  <a:lnTo>
                    <a:pt x="1845" y="255"/>
                  </a:lnTo>
                  <a:lnTo>
                    <a:pt x="1931" y="40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48" name=""/>
            <p:cNvGrpSpPr/>
            <p:nvPr/>
          </p:nvGrpSpPr>
          <p:grpSpPr>
            <a:xfrm>
              <a:off x="3571920" y="2314440"/>
              <a:ext cx="414720" cy="417960"/>
              <a:chOff x="3571920" y="2314440"/>
              <a:chExt cx="414720" cy="417960"/>
            </a:xfrm>
          </p:grpSpPr>
          <p:grpSp>
            <p:nvGrpSpPr>
              <p:cNvPr id="249" name=""/>
              <p:cNvGrpSpPr/>
              <p:nvPr/>
            </p:nvGrpSpPr>
            <p:grpSpPr>
              <a:xfrm>
                <a:off x="3738600" y="2576520"/>
                <a:ext cx="127080" cy="155880"/>
                <a:chOff x="3738600" y="2576520"/>
                <a:chExt cx="127080" cy="155880"/>
              </a:xfrm>
            </p:grpSpPr>
            <p:sp>
              <p:nvSpPr>
                <p:cNvPr id="250" name=""/>
                <p:cNvSpPr/>
                <p:nvPr/>
              </p:nvSpPr>
              <p:spPr>
                <a:xfrm>
                  <a:off x="3738600" y="2635200"/>
                  <a:ext cx="60840" cy="86040"/>
                </a:xfrm>
                <a:custGeom>
                  <a:avLst/>
                  <a:gdLst/>
                  <a:ahLst/>
                  <a:rect l="0" t="0" r="r" b="b"/>
                  <a:pathLst>
                    <a:path w="169" h="239">
                      <a:moveTo>
                        <a:pt x="38" y="72"/>
                      </a:moveTo>
                      <a:lnTo>
                        <a:pt x="52" y="45"/>
                      </a:lnTo>
                      <a:lnTo>
                        <a:pt x="84" y="45"/>
                      </a:lnTo>
                      <a:lnTo>
                        <a:pt x="126" y="0"/>
                      </a:lnTo>
                      <a:lnTo>
                        <a:pt x="140" y="30"/>
                      </a:lnTo>
                      <a:lnTo>
                        <a:pt x="163" y="30"/>
                      </a:lnTo>
                      <a:lnTo>
                        <a:pt x="169" y="45"/>
                      </a:lnTo>
                      <a:lnTo>
                        <a:pt x="156" y="72"/>
                      </a:lnTo>
                      <a:lnTo>
                        <a:pt x="140" y="81"/>
                      </a:lnTo>
                      <a:lnTo>
                        <a:pt x="140" y="102"/>
                      </a:lnTo>
                      <a:lnTo>
                        <a:pt x="137" y="114"/>
                      </a:lnTo>
                      <a:lnTo>
                        <a:pt x="130" y="130"/>
                      </a:lnTo>
                      <a:lnTo>
                        <a:pt x="140" y="151"/>
                      </a:lnTo>
                      <a:lnTo>
                        <a:pt x="126" y="172"/>
                      </a:lnTo>
                      <a:lnTo>
                        <a:pt x="113" y="181"/>
                      </a:lnTo>
                      <a:lnTo>
                        <a:pt x="100" y="181"/>
                      </a:lnTo>
                      <a:lnTo>
                        <a:pt x="97" y="187"/>
                      </a:lnTo>
                      <a:lnTo>
                        <a:pt x="91" y="202"/>
                      </a:lnTo>
                      <a:lnTo>
                        <a:pt x="71" y="208"/>
                      </a:lnTo>
                      <a:lnTo>
                        <a:pt x="65" y="202"/>
                      </a:lnTo>
                      <a:lnTo>
                        <a:pt x="49" y="218"/>
                      </a:lnTo>
                      <a:lnTo>
                        <a:pt x="46" y="224"/>
                      </a:lnTo>
                      <a:lnTo>
                        <a:pt x="22" y="239"/>
                      </a:lnTo>
                      <a:lnTo>
                        <a:pt x="12" y="239"/>
                      </a:lnTo>
                      <a:lnTo>
                        <a:pt x="9" y="230"/>
                      </a:lnTo>
                      <a:lnTo>
                        <a:pt x="6" y="202"/>
                      </a:lnTo>
                      <a:lnTo>
                        <a:pt x="0" y="196"/>
                      </a:lnTo>
                      <a:lnTo>
                        <a:pt x="0" y="175"/>
                      </a:lnTo>
                      <a:lnTo>
                        <a:pt x="12" y="166"/>
                      </a:lnTo>
                      <a:lnTo>
                        <a:pt x="25" y="157"/>
                      </a:lnTo>
                      <a:lnTo>
                        <a:pt x="35" y="136"/>
                      </a:lnTo>
                      <a:lnTo>
                        <a:pt x="49" y="136"/>
                      </a:lnTo>
                      <a:lnTo>
                        <a:pt x="59" y="139"/>
                      </a:lnTo>
                      <a:lnTo>
                        <a:pt x="71" y="136"/>
                      </a:lnTo>
                      <a:lnTo>
                        <a:pt x="59" y="130"/>
                      </a:lnTo>
                      <a:lnTo>
                        <a:pt x="38" y="72"/>
                      </a:lnTo>
                      <a:close/>
                    </a:path>
                  </a:pathLst>
                </a:custGeom>
                <a:solidFill>
                  <a:srgbClr val="00ae00"/>
                </a:solidFill>
                <a:ln w="25560">
                  <a:solidFill>
                    <a:srgbClr val="919191"/>
                  </a:solidFill>
                  <a:round/>
                </a:ln>
              </p:spPr>
              <p:txBody>
                <a:bodyPr lIns="102600" rIns="102600" tIns="28440" bIns="28440" anchor="t">
                  <a:noAutofit/>
                </a:bodyPr>
                <a:p>
                  <a:endParaRPr b="0" lang="en-US" sz="1800" spc="-1" strike="noStrike">
                    <a:solidFill>
                      <a:srgbClr val="000000"/>
                    </a:solidFill>
                    <a:latin typeface="Arial"/>
                  </a:endParaRPr>
                </a:p>
              </p:txBody>
            </p:sp>
            <p:sp>
              <p:nvSpPr>
                <p:cNvPr id="251" name=""/>
                <p:cNvSpPr/>
                <p:nvPr/>
              </p:nvSpPr>
              <p:spPr>
                <a:xfrm>
                  <a:off x="3794040" y="2576520"/>
                  <a:ext cx="71640" cy="155880"/>
                </a:xfrm>
                <a:custGeom>
                  <a:avLst/>
                  <a:gdLst/>
                  <a:ahLst/>
                  <a:rect l="0" t="0" r="r" b="b"/>
                  <a:pathLst>
                    <a:path w="199" h="433">
                      <a:moveTo>
                        <a:pt x="62" y="63"/>
                      </a:moveTo>
                      <a:lnTo>
                        <a:pt x="75" y="48"/>
                      </a:lnTo>
                      <a:lnTo>
                        <a:pt x="114" y="51"/>
                      </a:lnTo>
                      <a:lnTo>
                        <a:pt x="123" y="42"/>
                      </a:lnTo>
                      <a:lnTo>
                        <a:pt x="133" y="27"/>
                      </a:lnTo>
                      <a:lnTo>
                        <a:pt x="139" y="27"/>
                      </a:lnTo>
                      <a:lnTo>
                        <a:pt x="149" y="21"/>
                      </a:lnTo>
                      <a:lnTo>
                        <a:pt x="161" y="12"/>
                      </a:lnTo>
                      <a:lnTo>
                        <a:pt x="177" y="0"/>
                      </a:lnTo>
                      <a:lnTo>
                        <a:pt x="199" y="6"/>
                      </a:lnTo>
                      <a:lnTo>
                        <a:pt x="196" y="27"/>
                      </a:lnTo>
                      <a:lnTo>
                        <a:pt x="186" y="42"/>
                      </a:lnTo>
                      <a:lnTo>
                        <a:pt x="177" y="48"/>
                      </a:lnTo>
                      <a:lnTo>
                        <a:pt x="171" y="51"/>
                      </a:lnTo>
                      <a:lnTo>
                        <a:pt x="145" y="63"/>
                      </a:lnTo>
                      <a:lnTo>
                        <a:pt x="145" y="84"/>
                      </a:lnTo>
                      <a:lnTo>
                        <a:pt x="149" y="93"/>
                      </a:lnTo>
                      <a:lnTo>
                        <a:pt x="174" y="84"/>
                      </a:lnTo>
                      <a:lnTo>
                        <a:pt x="196" y="72"/>
                      </a:lnTo>
                      <a:lnTo>
                        <a:pt x="199" y="84"/>
                      </a:lnTo>
                      <a:lnTo>
                        <a:pt x="199" y="114"/>
                      </a:lnTo>
                      <a:lnTo>
                        <a:pt x="183" y="120"/>
                      </a:lnTo>
                      <a:lnTo>
                        <a:pt x="164" y="120"/>
                      </a:lnTo>
                      <a:lnTo>
                        <a:pt x="152" y="135"/>
                      </a:lnTo>
                      <a:lnTo>
                        <a:pt x="149" y="144"/>
                      </a:lnTo>
                      <a:lnTo>
                        <a:pt x="149" y="162"/>
                      </a:lnTo>
                      <a:lnTo>
                        <a:pt x="161" y="183"/>
                      </a:lnTo>
                      <a:lnTo>
                        <a:pt x="174" y="198"/>
                      </a:lnTo>
                      <a:lnTo>
                        <a:pt x="183" y="213"/>
                      </a:lnTo>
                      <a:lnTo>
                        <a:pt x="186" y="235"/>
                      </a:lnTo>
                      <a:lnTo>
                        <a:pt x="189" y="256"/>
                      </a:lnTo>
                      <a:lnTo>
                        <a:pt x="199" y="280"/>
                      </a:lnTo>
                      <a:lnTo>
                        <a:pt x="199" y="319"/>
                      </a:lnTo>
                      <a:lnTo>
                        <a:pt x="189" y="337"/>
                      </a:lnTo>
                      <a:lnTo>
                        <a:pt x="174" y="355"/>
                      </a:lnTo>
                      <a:lnTo>
                        <a:pt x="171" y="364"/>
                      </a:lnTo>
                      <a:lnTo>
                        <a:pt x="177" y="385"/>
                      </a:lnTo>
                      <a:lnTo>
                        <a:pt x="186" y="406"/>
                      </a:lnTo>
                      <a:lnTo>
                        <a:pt x="161" y="406"/>
                      </a:lnTo>
                      <a:lnTo>
                        <a:pt x="139" y="406"/>
                      </a:lnTo>
                      <a:lnTo>
                        <a:pt x="133" y="400"/>
                      </a:lnTo>
                      <a:lnTo>
                        <a:pt x="114" y="400"/>
                      </a:lnTo>
                      <a:lnTo>
                        <a:pt x="94" y="406"/>
                      </a:lnTo>
                      <a:lnTo>
                        <a:pt x="75" y="415"/>
                      </a:lnTo>
                      <a:lnTo>
                        <a:pt x="62" y="415"/>
                      </a:lnTo>
                      <a:lnTo>
                        <a:pt x="56" y="421"/>
                      </a:lnTo>
                      <a:lnTo>
                        <a:pt x="34" y="433"/>
                      </a:lnTo>
                      <a:lnTo>
                        <a:pt x="31" y="427"/>
                      </a:lnTo>
                      <a:lnTo>
                        <a:pt x="22" y="415"/>
                      </a:lnTo>
                      <a:lnTo>
                        <a:pt x="9" y="412"/>
                      </a:lnTo>
                      <a:lnTo>
                        <a:pt x="0" y="406"/>
                      </a:lnTo>
                      <a:lnTo>
                        <a:pt x="0" y="385"/>
                      </a:lnTo>
                      <a:lnTo>
                        <a:pt x="9" y="358"/>
                      </a:lnTo>
                      <a:lnTo>
                        <a:pt x="22" y="358"/>
                      </a:lnTo>
                      <a:lnTo>
                        <a:pt x="34" y="355"/>
                      </a:lnTo>
                      <a:lnTo>
                        <a:pt x="50" y="355"/>
                      </a:lnTo>
                      <a:lnTo>
                        <a:pt x="50" y="349"/>
                      </a:lnTo>
                      <a:lnTo>
                        <a:pt x="34" y="337"/>
                      </a:lnTo>
                      <a:lnTo>
                        <a:pt x="34" y="322"/>
                      </a:lnTo>
                      <a:lnTo>
                        <a:pt x="34" y="313"/>
                      </a:lnTo>
                      <a:lnTo>
                        <a:pt x="50" y="301"/>
                      </a:lnTo>
                      <a:lnTo>
                        <a:pt x="59" y="298"/>
                      </a:lnTo>
                      <a:lnTo>
                        <a:pt x="69" y="292"/>
                      </a:lnTo>
                      <a:lnTo>
                        <a:pt x="81" y="292"/>
                      </a:lnTo>
                      <a:lnTo>
                        <a:pt x="88" y="286"/>
                      </a:lnTo>
                      <a:lnTo>
                        <a:pt x="94" y="244"/>
                      </a:lnTo>
                      <a:lnTo>
                        <a:pt x="108" y="213"/>
                      </a:lnTo>
                      <a:lnTo>
                        <a:pt x="108" y="198"/>
                      </a:lnTo>
                      <a:lnTo>
                        <a:pt x="75" y="192"/>
                      </a:lnTo>
                      <a:lnTo>
                        <a:pt x="85" y="165"/>
                      </a:lnTo>
                      <a:lnTo>
                        <a:pt x="62" y="150"/>
                      </a:lnTo>
                      <a:lnTo>
                        <a:pt x="44" y="156"/>
                      </a:lnTo>
                      <a:lnTo>
                        <a:pt x="69" y="120"/>
                      </a:lnTo>
                      <a:lnTo>
                        <a:pt x="62" y="63"/>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2" name=""/>
              <p:cNvSpPr/>
              <p:nvPr/>
            </p:nvSpPr>
            <p:spPr>
              <a:xfrm>
                <a:off x="3571920" y="2314440"/>
                <a:ext cx="414720" cy="263880"/>
              </a:xfrm>
              <a:custGeom>
                <a:avLst/>
                <a:gdLst/>
                <a:ahLst/>
                <a:rect l="0" t="0" r="r" b="b"/>
                <a:pathLst>
                  <a:path w="1152" h="733">
                    <a:moveTo>
                      <a:pt x="0" y="733"/>
                    </a:moveTo>
                    <a:lnTo>
                      <a:pt x="73" y="717"/>
                    </a:lnTo>
                    <a:lnTo>
                      <a:pt x="99" y="684"/>
                    </a:lnTo>
                    <a:lnTo>
                      <a:pt x="115" y="663"/>
                    </a:lnTo>
                    <a:lnTo>
                      <a:pt x="124" y="648"/>
                    </a:lnTo>
                    <a:lnTo>
                      <a:pt x="140" y="648"/>
                    </a:lnTo>
                    <a:lnTo>
                      <a:pt x="159" y="633"/>
                    </a:lnTo>
                    <a:lnTo>
                      <a:pt x="179" y="633"/>
                    </a:lnTo>
                    <a:lnTo>
                      <a:pt x="191" y="633"/>
                    </a:lnTo>
                    <a:lnTo>
                      <a:pt x="211" y="633"/>
                    </a:lnTo>
                    <a:lnTo>
                      <a:pt x="217" y="633"/>
                    </a:lnTo>
                    <a:lnTo>
                      <a:pt x="236" y="612"/>
                    </a:lnTo>
                    <a:lnTo>
                      <a:pt x="242" y="596"/>
                    </a:lnTo>
                    <a:lnTo>
                      <a:pt x="265" y="581"/>
                    </a:lnTo>
                    <a:lnTo>
                      <a:pt x="281" y="575"/>
                    </a:lnTo>
                    <a:lnTo>
                      <a:pt x="295" y="566"/>
                    </a:lnTo>
                    <a:lnTo>
                      <a:pt x="314" y="560"/>
                    </a:lnTo>
                    <a:lnTo>
                      <a:pt x="327" y="548"/>
                    </a:lnTo>
                    <a:lnTo>
                      <a:pt x="343" y="539"/>
                    </a:lnTo>
                    <a:lnTo>
                      <a:pt x="359" y="527"/>
                    </a:lnTo>
                    <a:lnTo>
                      <a:pt x="381" y="512"/>
                    </a:lnTo>
                    <a:lnTo>
                      <a:pt x="403" y="518"/>
                    </a:lnTo>
                    <a:lnTo>
                      <a:pt x="435" y="527"/>
                    </a:lnTo>
                    <a:lnTo>
                      <a:pt x="470" y="527"/>
                    </a:lnTo>
                    <a:lnTo>
                      <a:pt x="509" y="512"/>
                    </a:lnTo>
                    <a:lnTo>
                      <a:pt x="525" y="509"/>
                    </a:lnTo>
                    <a:lnTo>
                      <a:pt x="538" y="475"/>
                    </a:lnTo>
                    <a:lnTo>
                      <a:pt x="557" y="454"/>
                    </a:lnTo>
                    <a:lnTo>
                      <a:pt x="586" y="430"/>
                    </a:lnTo>
                    <a:lnTo>
                      <a:pt x="595" y="412"/>
                    </a:lnTo>
                    <a:lnTo>
                      <a:pt x="595" y="394"/>
                    </a:lnTo>
                    <a:lnTo>
                      <a:pt x="621" y="376"/>
                    </a:lnTo>
                    <a:lnTo>
                      <a:pt x="634" y="359"/>
                    </a:lnTo>
                    <a:lnTo>
                      <a:pt x="640" y="344"/>
                    </a:lnTo>
                    <a:lnTo>
                      <a:pt x="650" y="338"/>
                    </a:lnTo>
                    <a:lnTo>
                      <a:pt x="691" y="308"/>
                    </a:lnTo>
                    <a:lnTo>
                      <a:pt x="691" y="338"/>
                    </a:lnTo>
                    <a:lnTo>
                      <a:pt x="685" y="353"/>
                    </a:lnTo>
                    <a:lnTo>
                      <a:pt x="691" y="373"/>
                    </a:lnTo>
                    <a:lnTo>
                      <a:pt x="723" y="376"/>
                    </a:lnTo>
                    <a:lnTo>
                      <a:pt x="739" y="376"/>
                    </a:lnTo>
                    <a:lnTo>
                      <a:pt x="755" y="359"/>
                    </a:lnTo>
                    <a:lnTo>
                      <a:pt x="768" y="338"/>
                    </a:lnTo>
                    <a:lnTo>
                      <a:pt x="768" y="323"/>
                    </a:lnTo>
                    <a:lnTo>
                      <a:pt x="781" y="308"/>
                    </a:lnTo>
                    <a:lnTo>
                      <a:pt x="781" y="293"/>
                    </a:lnTo>
                    <a:lnTo>
                      <a:pt x="793" y="272"/>
                    </a:lnTo>
                    <a:lnTo>
                      <a:pt x="803" y="260"/>
                    </a:lnTo>
                    <a:lnTo>
                      <a:pt x="825" y="260"/>
                    </a:lnTo>
                    <a:lnTo>
                      <a:pt x="868" y="260"/>
                    </a:lnTo>
                    <a:lnTo>
                      <a:pt x="903" y="238"/>
                    </a:lnTo>
                    <a:lnTo>
                      <a:pt x="932" y="208"/>
                    </a:lnTo>
                    <a:lnTo>
                      <a:pt x="967" y="199"/>
                    </a:lnTo>
                    <a:lnTo>
                      <a:pt x="996" y="172"/>
                    </a:lnTo>
                    <a:lnTo>
                      <a:pt x="1018" y="130"/>
                    </a:lnTo>
                    <a:lnTo>
                      <a:pt x="1063" y="84"/>
                    </a:lnTo>
                    <a:lnTo>
                      <a:pt x="1095" y="63"/>
                    </a:lnTo>
                    <a:lnTo>
                      <a:pt x="1124" y="42"/>
                    </a:lnTo>
                    <a:lnTo>
                      <a:pt x="1152" y="15"/>
                    </a:lnTo>
                    <a:lnTo>
                      <a:pt x="1101" y="0"/>
                    </a:lnTo>
                    <a:lnTo>
                      <a:pt x="1050" y="0"/>
                    </a:lnTo>
                    <a:lnTo>
                      <a:pt x="999" y="27"/>
                    </a:lnTo>
                    <a:lnTo>
                      <a:pt x="973" y="42"/>
                    </a:lnTo>
                    <a:lnTo>
                      <a:pt x="932" y="51"/>
                    </a:lnTo>
                    <a:lnTo>
                      <a:pt x="884" y="57"/>
                    </a:lnTo>
                    <a:lnTo>
                      <a:pt x="857" y="66"/>
                    </a:lnTo>
                    <a:lnTo>
                      <a:pt x="803" y="93"/>
                    </a:lnTo>
                    <a:lnTo>
                      <a:pt x="768" y="108"/>
                    </a:lnTo>
                    <a:lnTo>
                      <a:pt x="736" y="124"/>
                    </a:lnTo>
                    <a:lnTo>
                      <a:pt x="691" y="136"/>
                    </a:lnTo>
                    <a:lnTo>
                      <a:pt x="650" y="151"/>
                    </a:lnTo>
                    <a:lnTo>
                      <a:pt x="611" y="172"/>
                    </a:lnTo>
                    <a:lnTo>
                      <a:pt x="582" y="199"/>
                    </a:lnTo>
                    <a:lnTo>
                      <a:pt x="557" y="223"/>
                    </a:lnTo>
                    <a:lnTo>
                      <a:pt x="531" y="245"/>
                    </a:lnTo>
                    <a:lnTo>
                      <a:pt x="509" y="260"/>
                    </a:lnTo>
                    <a:lnTo>
                      <a:pt x="461" y="293"/>
                    </a:lnTo>
                    <a:lnTo>
                      <a:pt x="416" y="323"/>
                    </a:lnTo>
                    <a:lnTo>
                      <a:pt x="359" y="359"/>
                    </a:lnTo>
                    <a:lnTo>
                      <a:pt x="320" y="409"/>
                    </a:lnTo>
                    <a:lnTo>
                      <a:pt x="278" y="445"/>
                    </a:lnTo>
                    <a:lnTo>
                      <a:pt x="239" y="466"/>
                    </a:lnTo>
                    <a:lnTo>
                      <a:pt x="201" y="512"/>
                    </a:lnTo>
                    <a:lnTo>
                      <a:pt x="175" y="545"/>
                    </a:lnTo>
                    <a:lnTo>
                      <a:pt x="140" y="575"/>
                    </a:lnTo>
                    <a:lnTo>
                      <a:pt x="108" y="596"/>
                    </a:lnTo>
                    <a:lnTo>
                      <a:pt x="73" y="618"/>
                    </a:lnTo>
                    <a:lnTo>
                      <a:pt x="0" y="733"/>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3" name=""/>
            <p:cNvSpPr/>
            <p:nvPr/>
          </p:nvSpPr>
          <p:spPr>
            <a:xfrm>
              <a:off x="4303800" y="3797280"/>
              <a:ext cx="122760" cy="255960"/>
            </a:xfrm>
            <a:custGeom>
              <a:avLst/>
              <a:gdLst/>
              <a:ahLst/>
              <a:rect l="0" t="0" r="r" b="b"/>
              <a:pathLst>
                <a:path w="341" h="711">
                  <a:moveTo>
                    <a:pt x="63" y="224"/>
                  </a:moveTo>
                  <a:lnTo>
                    <a:pt x="57" y="366"/>
                  </a:lnTo>
                  <a:lnTo>
                    <a:pt x="25" y="454"/>
                  </a:lnTo>
                  <a:lnTo>
                    <a:pt x="0" y="539"/>
                  </a:lnTo>
                  <a:lnTo>
                    <a:pt x="0" y="600"/>
                  </a:lnTo>
                  <a:lnTo>
                    <a:pt x="9" y="654"/>
                  </a:lnTo>
                  <a:lnTo>
                    <a:pt x="38" y="699"/>
                  </a:lnTo>
                  <a:lnTo>
                    <a:pt x="63" y="705"/>
                  </a:lnTo>
                  <a:lnTo>
                    <a:pt x="86" y="705"/>
                  </a:lnTo>
                  <a:lnTo>
                    <a:pt x="112" y="711"/>
                  </a:lnTo>
                  <a:lnTo>
                    <a:pt x="124" y="675"/>
                  </a:lnTo>
                  <a:lnTo>
                    <a:pt x="137" y="579"/>
                  </a:lnTo>
                  <a:lnTo>
                    <a:pt x="175" y="517"/>
                  </a:lnTo>
                  <a:lnTo>
                    <a:pt x="185" y="423"/>
                  </a:lnTo>
                  <a:lnTo>
                    <a:pt x="200" y="387"/>
                  </a:lnTo>
                  <a:lnTo>
                    <a:pt x="216" y="360"/>
                  </a:lnTo>
                  <a:lnTo>
                    <a:pt x="229" y="291"/>
                  </a:lnTo>
                  <a:lnTo>
                    <a:pt x="254" y="251"/>
                  </a:lnTo>
                  <a:lnTo>
                    <a:pt x="274" y="218"/>
                  </a:lnTo>
                  <a:lnTo>
                    <a:pt x="290" y="194"/>
                  </a:lnTo>
                  <a:lnTo>
                    <a:pt x="290" y="175"/>
                  </a:lnTo>
                  <a:lnTo>
                    <a:pt x="328" y="138"/>
                  </a:lnTo>
                  <a:lnTo>
                    <a:pt x="332" y="78"/>
                  </a:lnTo>
                  <a:lnTo>
                    <a:pt x="341" y="39"/>
                  </a:lnTo>
                  <a:lnTo>
                    <a:pt x="306" y="24"/>
                  </a:lnTo>
                  <a:lnTo>
                    <a:pt x="287" y="0"/>
                  </a:lnTo>
                  <a:lnTo>
                    <a:pt x="254" y="24"/>
                  </a:lnTo>
                  <a:lnTo>
                    <a:pt x="229" y="87"/>
                  </a:lnTo>
                  <a:lnTo>
                    <a:pt x="200" y="135"/>
                  </a:lnTo>
                  <a:lnTo>
                    <a:pt x="175" y="172"/>
                  </a:lnTo>
                  <a:lnTo>
                    <a:pt x="162" y="172"/>
                  </a:lnTo>
                  <a:lnTo>
                    <a:pt x="137" y="194"/>
                  </a:lnTo>
                  <a:lnTo>
                    <a:pt x="124" y="212"/>
                  </a:lnTo>
                  <a:lnTo>
                    <a:pt x="63" y="224"/>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a:off x="3714840" y="2340000"/>
              <a:ext cx="1667160" cy="1206720"/>
            </a:xfrm>
            <a:custGeom>
              <a:avLst/>
              <a:gdLst/>
              <a:ahLst/>
              <a:rect l="0" t="0" r="r" b="b"/>
              <a:pathLst>
                <a:path w="4631" h="3352">
                  <a:moveTo>
                    <a:pt x="0" y="1505"/>
                  </a:moveTo>
                  <a:lnTo>
                    <a:pt x="44" y="1457"/>
                  </a:lnTo>
                  <a:lnTo>
                    <a:pt x="69" y="1421"/>
                  </a:lnTo>
                  <a:lnTo>
                    <a:pt x="123" y="1421"/>
                  </a:lnTo>
                  <a:lnTo>
                    <a:pt x="183" y="1433"/>
                  </a:lnTo>
                  <a:lnTo>
                    <a:pt x="225" y="1412"/>
                  </a:lnTo>
                  <a:lnTo>
                    <a:pt x="272" y="1406"/>
                  </a:lnTo>
                  <a:lnTo>
                    <a:pt x="275" y="1342"/>
                  </a:lnTo>
                  <a:lnTo>
                    <a:pt x="301" y="1300"/>
                  </a:lnTo>
                  <a:lnTo>
                    <a:pt x="237" y="1255"/>
                  </a:lnTo>
                  <a:lnTo>
                    <a:pt x="228" y="1219"/>
                  </a:lnTo>
                  <a:lnTo>
                    <a:pt x="234" y="1165"/>
                  </a:lnTo>
                  <a:lnTo>
                    <a:pt x="279" y="1165"/>
                  </a:lnTo>
                  <a:lnTo>
                    <a:pt x="310" y="1162"/>
                  </a:lnTo>
                  <a:lnTo>
                    <a:pt x="313" y="1165"/>
                  </a:lnTo>
                  <a:lnTo>
                    <a:pt x="348" y="1135"/>
                  </a:lnTo>
                  <a:lnTo>
                    <a:pt x="380" y="1120"/>
                  </a:lnTo>
                  <a:lnTo>
                    <a:pt x="393" y="1120"/>
                  </a:lnTo>
                  <a:lnTo>
                    <a:pt x="415" y="1090"/>
                  </a:lnTo>
                  <a:lnTo>
                    <a:pt x="440" y="1077"/>
                  </a:lnTo>
                  <a:lnTo>
                    <a:pt x="466" y="1020"/>
                  </a:lnTo>
                  <a:lnTo>
                    <a:pt x="482" y="1035"/>
                  </a:lnTo>
                  <a:lnTo>
                    <a:pt x="516" y="999"/>
                  </a:lnTo>
                  <a:lnTo>
                    <a:pt x="520" y="999"/>
                  </a:lnTo>
                  <a:lnTo>
                    <a:pt x="564" y="957"/>
                  </a:lnTo>
                  <a:lnTo>
                    <a:pt x="589" y="954"/>
                  </a:lnTo>
                  <a:lnTo>
                    <a:pt x="621" y="954"/>
                  </a:lnTo>
                  <a:lnTo>
                    <a:pt x="643" y="954"/>
                  </a:lnTo>
                  <a:lnTo>
                    <a:pt x="627" y="900"/>
                  </a:lnTo>
                  <a:lnTo>
                    <a:pt x="618" y="858"/>
                  </a:lnTo>
                  <a:lnTo>
                    <a:pt x="608" y="770"/>
                  </a:lnTo>
                  <a:lnTo>
                    <a:pt x="659" y="764"/>
                  </a:lnTo>
                  <a:lnTo>
                    <a:pt x="685" y="749"/>
                  </a:lnTo>
                  <a:lnTo>
                    <a:pt x="672" y="785"/>
                  </a:lnTo>
                  <a:lnTo>
                    <a:pt x="694" y="813"/>
                  </a:lnTo>
                  <a:lnTo>
                    <a:pt x="716" y="843"/>
                  </a:lnTo>
                  <a:lnTo>
                    <a:pt x="729" y="864"/>
                  </a:lnTo>
                  <a:lnTo>
                    <a:pt x="786" y="858"/>
                  </a:lnTo>
                  <a:lnTo>
                    <a:pt x="837" y="782"/>
                  </a:lnTo>
                  <a:lnTo>
                    <a:pt x="875" y="743"/>
                  </a:lnTo>
                  <a:lnTo>
                    <a:pt x="897" y="719"/>
                  </a:lnTo>
                  <a:lnTo>
                    <a:pt x="922" y="686"/>
                  </a:lnTo>
                  <a:lnTo>
                    <a:pt x="948" y="647"/>
                  </a:lnTo>
                  <a:lnTo>
                    <a:pt x="970" y="662"/>
                  </a:lnTo>
                  <a:lnTo>
                    <a:pt x="970" y="635"/>
                  </a:lnTo>
                  <a:lnTo>
                    <a:pt x="983" y="620"/>
                  </a:lnTo>
                  <a:lnTo>
                    <a:pt x="1021" y="629"/>
                  </a:lnTo>
                  <a:lnTo>
                    <a:pt x="1084" y="698"/>
                  </a:lnTo>
                  <a:lnTo>
                    <a:pt x="1071" y="511"/>
                  </a:lnTo>
                  <a:lnTo>
                    <a:pt x="1014" y="593"/>
                  </a:lnTo>
                  <a:lnTo>
                    <a:pt x="973" y="590"/>
                  </a:lnTo>
                  <a:lnTo>
                    <a:pt x="960" y="535"/>
                  </a:lnTo>
                  <a:lnTo>
                    <a:pt x="960" y="511"/>
                  </a:lnTo>
                  <a:lnTo>
                    <a:pt x="948" y="496"/>
                  </a:lnTo>
                  <a:lnTo>
                    <a:pt x="983" y="454"/>
                  </a:lnTo>
                  <a:lnTo>
                    <a:pt x="1002" y="421"/>
                  </a:lnTo>
                  <a:lnTo>
                    <a:pt x="1024" y="412"/>
                  </a:lnTo>
                  <a:lnTo>
                    <a:pt x="1040" y="406"/>
                  </a:lnTo>
                  <a:lnTo>
                    <a:pt x="1052" y="382"/>
                  </a:lnTo>
                  <a:lnTo>
                    <a:pt x="1071" y="376"/>
                  </a:lnTo>
                  <a:lnTo>
                    <a:pt x="1090" y="376"/>
                  </a:lnTo>
                  <a:lnTo>
                    <a:pt x="1052" y="328"/>
                  </a:lnTo>
                  <a:lnTo>
                    <a:pt x="1014" y="340"/>
                  </a:lnTo>
                  <a:lnTo>
                    <a:pt x="989" y="340"/>
                  </a:lnTo>
                  <a:lnTo>
                    <a:pt x="970" y="325"/>
                  </a:lnTo>
                  <a:lnTo>
                    <a:pt x="970" y="355"/>
                  </a:lnTo>
                  <a:lnTo>
                    <a:pt x="948" y="385"/>
                  </a:lnTo>
                  <a:lnTo>
                    <a:pt x="919" y="439"/>
                  </a:lnTo>
                  <a:lnTo>
                    <a:pt x="887" y="457"/>
                  </a:lnTo>
                  <a:lnTo>
                    <a:pt x="868" y="457"/>
                  </a:lnTo>
                  <a:lnTo>
                    <a:pt x="859" y="496"/>
                  </a:lnTo>
                  <a:lnTo>
                    <a:pt x="859" y="511"/>
                  </a:lnTo>
                  <a:lnTo>
                    <a:pt x="843" y="526"/>
                  </a:lnTo>
                  <a:lnTo>
                    <a:pt x="862" y="590"/>
                  </a:lnTo>
                  <a:lnTo>
                    <a:pt x="875" y="620"/>
                  </a:lnTo>
                  <a:lnTo>
                    <a:pt x="849" y="668"/>
                  </a:lnTo>
                  <a:lnTo>
                    <a:pt x="821" y="698"/>
                  </a:lnTo>
                  <a:lnTo>
                    <a:pt x="811" y="743"/>
                  </a:lnTo>
                  <a:lnTo>
                    <a:pt x="796" y="782"/>
                  </a:lnTo>
                  <a:lnTo>
                    <a:pt x="780" y="782"/>
                  </a:lnTo>
                  <a:lnTo>
                    <a:pt x="754" y="785"/>
                  </a:lnTo>
                  <a:lnTo>
                    <a:pt x="729" y="800"/>
                  </a:lnTo>
                  <a:lnTo>
                    <a:pt x="719" y="797"/>
                  </a:lnTo>
                  <a:lnTo>
                    <a:pt x="719" y="770"/>
                  </a:lnTo>
                  <a:lnTo>
                    <a:pt x="716" y="728"/>
                  </a:lnTo>
                  <a:lnTo>
                    <a:pt x="694" y="728"/>
                  </a:lnTo>
                  <a:lnTo>
                    <a:pt x="681" y="704"/>
                  </a:lnTo>
                  <a:lnTo>
                    <a:pt x="685" y="668"/>
                  </a:lnTo>
                  <a:lnTo>
                    <a:pt x="691" y="647"/>
                  </a:lnTo>
                  <a:lnTo>
                    <a:pt x="685" y="635"/>
                  </a:lnTo>
                  <a:lnTo>
                    <a:pt x="669" y="647"/>
                  </a:lnTo>
                  <a:lnTo>
                    <a:pt x="659" y="647"/>
                  </a:lnTo>
                  <a:lnTo>
                    <a:pt x="646" y="641"/>
                  </a:lnTo>
                  <a:lnTo>
                    <a:pt x="640" y="635"/>
                  </a:lnTo>
                  <a:lnTo>
                    <a:pt x="618" y="656"/>
                  </a:lnTo>
                  <a:lnTo>
                    <a:pt x="596" y="683"/>
                  </a:lnTo>
                  <a:lnTo>
                    <a:pt x="577" y="707"/>
                  </a:lnTo>
                  <a:lnTo>
                    <a:pt x="529" y="704"/>
                  </a:lnTo>
                  <a:lnTo>
                    <a:pt x="501" y="698"/>
                  </a:lnTo>
                  <a:lnTo>
                    <a:pt x="478" y="671"/>
                  </a:lnTo>
                  <a:lnTo>
                    <a:pt x="478" y="656"/>
                  </a:lnTo>
                  <a:lnTo>
                    <a:pt x="491" y="635"/>
                  </a:lnTo>
                  <a:lnTo>
                    <a:pt x="507" y="620"/>
                  </a:lnTo>
                  <a:lnTo>
                    <a:pt x="520" y="599"/>
                  </a:lnTo>
                  <a:lnTo>
                    <a:pt x="491" y="611"/>
                  </a:lnTo>
                  <a:lnTo>
                    <a:pt x="478" y="584"/>
                  </a:lnTo>
                  <a:lnTo>
                    <a:pt x="478" y="569"/>
                  </a:lnTo>
                  <a:lnTo>
                    <a:pt x="520" y="563"/>
                  </a:lnTo>
                  <a:lnTo>
                    <a:pt x="558" y="557"/>
                  </a:lnTo>
                  <a:lnTo>
                    <a:pt x="532" y="542"/>
                  </a:lnTo>
                  <a:lnTo>
                    <a:pt x="494" y="548"/>
                  </a:lnTo>
                  <a:lnTo>
                    <a:pt x="494" y="514"/>
                  </a:lnTo>
                  <a:lnTo>
                    <a:pt x="513" y="496"/>
                  </a:lnTo>
                  <a:lnTo>
                    <a:pt x="551" y="475"/>
                  </a:lnTo>
                  <a:lnTo>
                    <a:pt x="564" y="454"/>
                  </a:lnTo>
                  <a:lnTo>
                    <a:pt x="577" y="442"/>
                  </a:lnTo>
                  <a:lnTo>
                    <a:pt x="605" y="439"/>
                  </a:lnTo>
                  <a:lnTo>
                    <a:pt x="631" y="442"/>
                  </a:lnTo>
                  <a:lnTo>
                    <a:pt x="643" y="454"/>
                  </a:lnTo>
                  <a:lnTo>
                    <a:pt x="665" y="439"/>
                  </a:lnTo>
                  <a:lnTo>
                    <a:pt x="643" y="433"/>
                  </a:lnTo>
                  <a:lnTo>
                    <a:pt x="643" y="391"/>
                  </a:lnTo>
                  <a:lnTo>
                    <a:pt x="697" y="343"/>
                  </a:lnTo>
                  <a:lnTo>
                    <a:pt x="729" y="313"/>
                  </a:lnTo>
                  <a:lnTo>
                    <a:pt x="745" y="307"/>
                  </a:lnTo>
                  <a:lnTo>
                    <a:pt x="742" y="292"/>
                  </a:lnTo>
                  <a:lnTo>
                    <a:pt x="767" y="255"/>
                  </a:lnTo>
                  <a:lnTo>
                    <a:pt x="796" y="210"/>
                  </a:lnTo>
                  <a:lnTo>
                    <a:pt x="830" y="189"/>
                  </a:lnTo>
                  <a:lnTo>
                    <a:pt x="805" y="168"/>
                  </a:lnTo>
                  <a:lnTo>
                    <a:pt x="872" y="120"/>
                  </a:lnTo>
                  <a:lnTo>
                    <a:pt x="900" y="126"/>
                  </a:lnTo>
                  <a:lnTo>
                    <a:pt x="897" y="99"/>
                  </a:lnTo>
                  <a:lnTo>
                    <a:pt x="957" y="96"/>
                  </a:lnTo>
                  <a:lnTo>
                    <a:pt x="1065" y="12"/>
                  </a:lnTo>
                  <a:lnTo>
                    <a:pt x="1084" y="0"/>
                  </a:lnTo>
                  <a:lnTo>
                    <a:pt x="1062" y="63"/>
                  </a:lnTo>
                  <a:lnTo>
                    <a:pt x="1087" y="33"/>
                  </a:lnTo>
                  <a:lnTo>
                    <a:pt x="1116" y="21"/>
                  </a:lnTo>
                  <a:lnTo>
                    <a:pt x="1113" y="48"/>
                  </a:lnTo>
                  <a:lnTo>
                    <a:pt x="1198" y="18"/>
                  </a:lnTo>
                  <a:lnTo>
                    <a:pt x="1240" y="42"/>
                  </a:lnTo>
                  <a:lnTo>
                    <a:pt x="1179" y="69"/>
                  </a:lnTo>
                  <a:lnTo>
                    <a:pt x="1201" y="99"/>
                  </a:lnTo>
                  <a:lnTo>
                    <a:pt x="1287" y="96"/>
                  </a:lnTo>
                  <a:lnTo>
                    <a:pt x="1408" y="141"/>
                  </a:lnTo>
                  <a:lnTo>
                    <a:pt x="1401" y="192"/>
                  </a:lnTo>
                  <a:lnTo>
                    <a:pt x="1351" y="240"/>
                  </a:lnTo>
                  <a:lnTo>
                    <a:pt x="1274" y="267"/>
                  </a:lnTo>
                  <a:lnTo>
                    <a:pt x="1262" y="325"/>
                  </a:lnTo>
                  <a:lnTo>
                    <a:pt x="1265" y="376"/>
                  </a:lnTo>
                  <a:lnTo>
                    <a:pt x="1287" y="385"/>
                  </a:lnTo>
                  <a:lnTo>
                    <a:pt x="1290" y="412"/>
                  </a:lnTo>
                  <a:lnTo>
                    <a:pt x="1300" y="421"/>
                  </a:lnTo>
                  <a:lnTo>
                    <a:pt x="1316" y="433"/>
                  </a:lnTo>
                  <a:lnTo>
                    <a:pt x="1319" y="463"/>
                  </a:lnTo>
                  <a:lnTo>
                    <a:pt x="1344" y="499"/>
                  </a:lnTo>
                  <a:lnTo>
                    <a:pt x="1344" y="514"/>
                  </a:lnTo>
                  <a:lnTo>
                    <a:pt x="1370" y="514"/>
                  </a:lnTo>
                  <a:lnTo>
                    <a:pt x="1379" y="526"/>
                  </a:lnTo>
                  <a:lnTo>
                    <a:pt x="1401" y="535"/>
                  </a:lnTo>
                  <a:lnTo>
                    <a:pt x="1414" y="520"/>
                  </a:lnTo>
                  <a:lnTo>
                    <a:pt x="1427" y="496"/>
                  </a:lnTo>
                  <a:lnTo>
                    <a:pt x="1433" y="478"/>
                  </a:lnTo>
                  <a:lnTo>
                    <a:pt x="1455" y="490"/>
                  </a:lnTo>
                  <a:lnTo>
                    <a:pt x="1481" y="454"/>
                  </a:lnTo>
                  <a:lnTo>
                    <a:pt x="1481" y="427"/>
                  </a:lnTo>
                  <a:lnTo>
                    <a:pt x="1490" y="406"/>
                  </a:lnTo>
                  <a:lnTo>
                    <a:pt x="1493" y="391"/>
                  </a:lnTo>
                  <a:lnTo>
                    <a:pt x="1544" y="376"/>
                  </a:lnTo>
                  <a:lnTo>
                    <a:pt x="1585" y="361"/>
                  </a:lnTo>
                  <a:lnTo>
                    <a:pt x="1642" y="340"/>
                  </a:lnTo>
                  <a:lnTo>
                    <a:pt x="1706" y="355"/>
                  </a:lnTo>
                  <a:lnTo>
                    <a:pt x="1769" y="355"/>
                  </a:lnTo>
                  <a:lnTo>
                    <a:pt x="1874" y="355"/>
                  </a:lnTo>
                  <a:lnTo>
                    <a:pt x="1890" y="225"/>
                  </a:lnTo>
                  <a:lnTo>
                    <a:pt x="1950" y="228"/>
                  </a:lnTo>
                  <a:lnTo>
                    <a:pt x="1991" y="328"/>
                  </a:lnTo>
                  <a:lnTo>
                    <a:pt x="2001" y="246"/>
                  </a:lnTo>
                  <a:lnTo>
                    <a:pt x="2194" y="18"/>
                  </a:lnTo>
                  <a:lnTo>
                    <a:pt x="2270" y="18"/>
                  </a:lnTo>
                  <a:lnTo>
                    <a:pt x="2341" y="63"/>
                  </a:lnTo>
                  <a:lnTo>
                    <a:pt x="2430" y="57"/>
                  </a:lnTo>
                  <a:lnTo>
                    <a:pt x="2547" y="141"/>
                  </a:lnTo>
                  <a:lnTo>
                    <a:pt x="2683" y="189"/>
                  </a:lnTo>
                  <a:lnTo>
                    <a:pt x="2779" y="177"/>
                  </a:lnTo>
                  <a:lnTo>
                    <a:pt x="2905" y="228"/>
                  </a:lnTo>
                  <a:lnTo>
                    <a:pt x="3013" y="228"/>
                  </a:lnTo>
                  <a:lnTo>
                    <a:pt x="3064" y="192"/>
                  </a:lnTo>
                  <a:lnTo>
                    <a:pt x="3181" y="192"/>
                  </a:lnTo>
                  <a:lnTo>
                    <a:pt x="3245" y="234"/>
                  </a:lnTo>
                  <a:lnTo>
                    <a:pt x="3407" y="234"/>
                  </a:lnTo>
                  <a:lnTo>
                    <a:pt x="3540" y="307"/>
                  </a:lnTo>
                  <a:lnTo>
                    <a:pt x="3787" y="298"/>
                  </a:lnTo>
                  <a:lnTo>
                    <a:pt x="4180" y="328"/>
                  </a:lnTo>
                  <a:lnTo>
                    <a:pt x="4371" y="427"/>
                  </a:lnTo>
                  <a:lnTo>
                    <a:pt x="4529" y="490"/>
                  </a:lnTo>
                  <a:lnTo>
                    <a:pt x="4631" y="542"/>
                  </a:lnTo>
                  <a:lnTo>
                    <a:pt x="4602" y="557"/>
                  </a:lnTo>
                  <a:lnTo>
                    <a:pt x="4529" y="514"/>
                  </a:lnTo>
                  <a:lnTo>
                    <a:pt x="4364" y="499"/>
                  </a:lnTo>
                  <a:lnTo>
                    <a:pt x="4412" y="542"/>
                  </a:lnTo>
                  <a:lnTo>
                    <a:pt x="4485" y="563"/>
                  </a:lnTo>
                  <a:lnTo>
                    <a:pt x="4463" y="629"/>
                  </a:lnTo>
                  <a:lnTo>
                    <a:pt x="4387" y="671"/>
                  </a:lnTo>
                  <a:lnTo>
                    <a:pt x="4361" y="740"/>
                  </a:lnTo>
                  <a:lnTo>
                    <a:pt x="4463" y="800"/>
                  </a:lnTo>
                  <a:lnTo>
                    <a:pt x="4536" y="885"/>
                  </a:lnTo>
                  <a:lnTo>
                    <a:pt x="4574" y="1005"/>
                  </a:lnTo>
                  <a:lnTo>
                    <a:pt x="4526" y="1014"/>
                  </a:lnTo>
                  <a:lnTo>
                    <a:pt x="4425" y="978"/>
                  </a:lnTo>
                  <a:lnTo>
                    <a:pt x="4320" y="891"/>
                  </a:lnTo>
                  <a:lnTo>
                    <a:pt x="4276" y="843"/>
                  </a:lnTo>
                  <a:lnTo>
                    <a:pt x="4250" y="782"/>
                  </a:lnTo>
                  <a:lnTo>
                    <a:pt x="4225" y="686"/>
                  </a:lnTo>
                  <a:lnTo>
                    <a:pt x="4184" y="656"/>
                  </a:lnTo>
                  <a:lnTo>
                    <a:pt x="4145" y="650"/>
                  </a:lnTo>
                  <a:lnTo>
                    <a:pt x="4111" y="662"/>
                  </a:lnTo>
                  <a:lnTo>
                    <a:pt x="4149" y="734"/>
                  </a:lnTo>
                  <a:lnTo>
                    <a:pt x="4047" y="743"/>
                  </a:lnTo>
                  <a:lnTo>
                    <a:pt x="4003" y="707"/>
                  </a:lnTo>
                  <a:lnTo>
                    <a:pt x="3914" y="728"/>
                  </a:lnTo>
                  <a:lnTo>
                    <a:pt x="3844" y="785"/>
                  </a:lnTo>
                  <a:lnTo>
                    <a:pt x="3844" y="819"/>
                  </a:lnTo>
                  <a:lnTo>
                    <a:pt x="3870" y="870"/>
                  </a:lnTo>
                  <a:lnTo>
                    <a:pt x="3977" y="885"/>
                  </a:lnTo>
                  <a:lnTo>
                    <a:pt x="4060" y="948"/>
                  </a:lnTo>
                  <a:lnTo>
                    <a:pt x="4206" y="1120"/>
                  </a:lnTo>
                  <a:lnTo>
                    <a:pt x="4263" y="1234"/>
                  </a:lnTo>
                  <a:lnTo>
                    <a:pt x="4272" y="1355"/>
                  </a:lnTo>
                  <a:lnTo>
                    <a:pt x="4260" y="1451"/>
                  </a:lnTo>
                  <a:lnTo>
                    <a:pt x="4225" y="1451"/>
                  </a:lnTo>
                  <a:lnTo>
                    <a:pt x="4187" y="1415"/>
                  </a:lnTo>
                  <a:lnTo>
                    <a:pt x="4133" y="1463"/>
                  </a:lnTo>
                  <a:lnTo>
                    <a:pt x="4079" y="1505"/>
                  </a:lnTo>
                  <a:lnTo>
                    <a:pt x="4069" y="1577"/>
                  </a:lnTo>
                  <a:lnTo>
                    <a:pt x="4130" y="1662"/>
                  </a:lnTo>
                  <a:lnTo>
                    <a:pt x="4092" y="1729"/>
                  </a:lnTo>
                  <a:lnTo>
                    <a:pt x="4079" y="1843"/>
                  </a:lnTo>
                  <a:lnTo>
                    <a:pt x="4149" y="1916"/>
                  </a:lnTo>
                  <a:lnTo>
                    <a:pt x="4231" y="1937"/>
                  </a:lnTo>
                  <a:lnTo>
                    <a:pt x="4314" y="2015"/>
                  </a:lnTo>
                  <a:lnTo>
                    <a:pt x="4387" y="2120"/>
                  </a:lnTo>
                  <a:lnTo>
                    <a:pt x="4390" y="2274"/>
                  </a:lnTo>
                  <a:lnTo>
                    <a:pt x="4364" y="2349"/>
                  </a:lnTo>
                  <a:lnTo>
                    <a:pt x="4288" y="2409"/>
                  </a:lnTo>
                  <a:lnTo>
                    <a:pt x="4196" y="2443"/>
                  </a:lnTo>
                  <a:lnTo>
                    <a:pt x="4136" y="2488"/>
                  </a:lnTo>
                  <a:lnTo>
                    <a:pt x="4104" y="2464"/>
                  </a:lnTo>
                  <a:lnTo>
                    <a:pt x="4073" y="2488"/>
                  </a:lnTo>
                  <a:lnTo>
                    <a:pt x="4066" y="2602"/>
                  </a:lnTo>
                  <a:lnTo>
                    <a:pt x="4085" y="2671"/>
                  </a:lnTo>
                  <a:lnTo>
                    <a:pt x="4180" y="2750"/>
                  </a:lnTo>
                  <a:lnTo>
                    <a:pt x="4218" y="2828"/>
                  </a:lnTo>
                  <a:lnTo>
                    <a:pt x="4247" y="2873"/>
                  </a:lnTo>
                  <a:lnTo>
                    <a:pt x="4237" y="2957"/>
                  </a:lnTo>
                  <a:lnTo>
                    <a:pt x="4180" y="3024"/>
                  </a:lnTo>
                  <a:lnTo>
                    <a:pt x="4117" y="3024"/>
                  </a:lnTo>
                  <a:lnTo>
                    <a:pt x="4015" y="2924"/>
                  </a:lnTo>
                  <a:lnTo>
                    <a:pt x="3943" y="2888"/>
                  </a:lnTo>
                  <a:lnTo>
                    <a:pt x="3914" y="2867"/>
                  </a:lnTo>
                  <a:lnTo>
                    <a:pt x="3882" y="2921"/>
                  </a:lnTo>
                  <a:lnTo>
                    <a:pt x="3892" y="2994"/>
                  </a:lnTo>
                  <a:lnTo>
                    <a:pt x="3917" y="3051"/>
                  </a:lnTo>
                  <a:lnTo>
                    <a:pt x="3933" y="3138"/>
                  </a:lnTo>
                  <a:lnTo>
                    <a:pt x="3996" y="3171"/>
                  </a:lnTo>
                  <a:lnTo>
                    <a:pt x="3977" y="3216"/>
                  </a:lnTo>
                  <a:lnTo>
                    <a:pt x="3981" y="3286"/>
                  </a:lnTo>
                  <a:lnTo>
                    <a:pt x="4003" y="3352"/>
                  </a:lnTo>
                  <a:lnTo>
                    <a:pt x="3958" y="3346"/>
                  </a:lnTo>
                  <a:lnTo>
                    <a:pt x="3914" y="3268"/>
                  </a:lnTo>
                  <a:lnTo>
                    <a:pt x="3917" y="3186"/>
                  </a:lnTo>
                  <a:lnTo>
                    <a:pt x="3901" y="3159"/>
                  </a:lnTo>
                  <a:lnTo>
                    <a:pt x="3882" y="3066"/>
                  </a:lnTo>
                  <a:lnTo>
                    <a:pt x="3863" y="3039"/>
                  </a:lnTo>
                  <a:lnTo>
                    <a:pt x="3854" y="2909"/>
                  </a:lnTo>
                  <a:lnTo>
                    <a:pt x="3825" y="2828"/>
                  </a:lnTo>
                  <a:lnTo>
                    <a:pt x="3774" y="2753"/>
                  </a:lnTo>
                  <a:lnTo>
                    <a:pt x="3679" y="2714"/>
                  </a:lnTo>
                  <a:lnTo>
                    <a:pt x="3613" y="2644"/>
                  </a:lnTo>
                  <a:lnTo>
                    <a:pt x="3587" y="2593"/>
                  </a:lnTo>
                  <a:lnTo>
                    <a:pt x="3540" y="2536"/>
                  </a:lnTo>
                  <a:lnTo>
                    <a:pt x="3470" y="2406"/>
                  </a:lnTo>
                  <a:lnTo>
                    <a:pt x="3407" y="2415"/>
                  </a:lnTo>
                  <a:lnTo>
                    <a:pt x="3321" y="2479"/>
                  </a:lnTo>
                  <a:lnTo>
                    <a:pt x="3283" y="2530"/>
                  </a:lnTo>
                  <a:lnTo>
                    <a:pt x="3207" y="2629"/>
                  </a:lnTo>
                  <a:lnTo>
                    <a:pt x="3153" y="2735"/>
                  </a:lnTo>
                  <a:lnTo>
                    <a:pt x="3131" y="2771"/>
                  </a:lnTo>
                  <a:lnTo>
                    <a:pt x="3153" y="2894"/>
                  </a:lnTo>
                  <a:lnTo>
                    <a:pt x="3147" y="3015"/>
                  </a:lnTo>
                  <a:lnTo>
                    <a:pt x="3080" y="3096"/>
                  </a:lnTo>
                  <a:lnTo>
                    <a:pt x="3042" y="3102"/>
                  </a:lnTo>
                  <a:lnTo>
                    <a:pt x="2963" y="2930"/>
                  </a:lnTo>
                  <a:lnTo>
                    <a:pt x="2899" y="2807"/>
                  </a:lnTo>
                  <a:lnTo>
                    <a:pt x="2772" y="2578"/>
                  </a:lnTo>
                  <a:lnTo>
                    <a:pt x="2766" y="2488"/>
                  </a:lnTo>
                  <a:lnTo>
                    <a:pt x="2737" y="2446"/>
                  </a:lnTo>
                  <a:lnTo>
                    <a:pt x="2715" y="2503"/>
                  </a:lnTo>
                  <a:lnTo>
                    <a:pt x="2607" y="2373"/>
                  </a:lnTo>
                  <a:lnTo>
                    <a:pt x="2458" y="2274"/>
                  </a:lnTo>
                  <a:lnTo>
                    <a:pt x="2366" y="2295"/>
                  </a:lnTo>
                  <a:lnTo>
                    <a:pt x="2229" y="2286"/>
                  </a:lnTo>
                  <a:lnTo>
                    <a:pt x="2166" y="2214"/>
                  </a:lnTo>
                  <a:lnTo>
                    <a:pt x="2093" y="2223"/>
                  </a:lnTo>
                  <a:lnTo>
                    <a:pt x="1991" y="2193"/>
                  </a:lnTo>
                  <a:lnTo>
                    <a:pt x="1782" y="1949"/>
                  </a:lnTo>
                  <a:lnTo>
                    <a:pt x="1794" y="2045"/>
                  </a:lnTo>
                  <a:lnTo>
                    <a:pt x="1858" y="2187"/>
                  </a:lnTo>
                  <a:lnTo>
                    <a:pt x="1928" y="2286"/>
                  </a:lnTo>
                  <a:lnTo>
                    <a:pt x="2004" y="2337"/>
                  </a:lnTo>
                  <a:lnTo>
                    <a:pt x="2089" y="2295"/>
                  </a:lnTo>
                  <a:lnTo>
                    <a:pt x="2156" y="2295"/>
                  </a:lnTo>
                  <a:lnTo>
                    <a:pt x="2245" y="2385"/>
                  </a:lnTo>
                  <a:lnTo>
                    <a:pt x="2296" y="2452"/>
                  </a:lnTo>
                  <a:lnTo>
                    <a:pt x="2289" y="2494"/>
                  </a:lnTo>
                  <a:lnTo>
                    <a:pt x="2137" y="2686"/>
                  </a:lnTo>
                  <a:lnTo>
                    <a:pt x="2036" y="2759"/>
                  </a:lnTo>
                  <a:lnTo>
                    <a:pt x="1823" y="2858"/>
                  </a:lnTo>
                  <a:lnTo>
                    <a:pt x="1760" y="2888"/>
                  </a:lnTo>
                  <a:lnTo>
                    <a:pt x="1722" y="2858"/>
                  </a:lnTo>
                  <a:lnTo>
                    <a:pt x="1709" y="2816"/>
                  </a:lnTo>
                  <a:lnTo>
                    <a:pt x="1706" y="2759"/>
                  </a:lnTo>
                  <a:lnTo>
                    <a:pt x="1687" y="2701"/>
                  </a:lnTo>
                  <a:lnTo>
                    <a:pt x="1658" y="2656"/>
                  </a:lnTo>
                  <a:lnTo>
                    <a:pt x="1633" y="2614"/>
                  </a:lnTo>
                  <a:lnTo>
                    <a:pt x="1595" y="2557"/>
                  </a:lnTo>
                  <a:lnTo>
                    <a:pt x="1573" y="2521"/>
                  </a:lnTo>
                  <a:lnTo>
                    <a:pt x="1557" y="2473"/>
                  </a:lnTo>
                  <a:lnTo>
                    <a:pt x="1528" y="2430"/>
                  </a:lnTo>
                  <a:lnTo>
                    <a:pt x="1481" y="2328"/>
                  </a:lnTo>
                  <a:lnTo>
                    <a:pt x="1455" y="2286"/>
                  </a:lnTo>
                  <a:lnTo>
                    <a:pt x="1420" y="2229"/>
                  </a:lnTo>
                  <a:lnTo>
                    <a:pt x="1366" y="2150"/>
                  </a:lnTo>
                  <a:lnTo>
                    <a:pt x="1338" y="2102"/>
                  </a:lnTo>
                  <a:lnTo>
                    <a:pt x="1312" y="2072"/>
                  </a:lnTo>
                  <a:lnTo>
                    <a:pt x="1281" y="2006"/>
                  </a:lnTo>
                  <a:lnTo>
                    <a:pt x="1370" y="1943"/>
                  </a:lnTo>
                  <a:lnTo>
                    <a:pt x="1408" y="1807"/>
                  </a:lnTo>
                  <a:lnTo>
                    <a:pt x="1325" y="1771"/>
                  </a:lnTo>
                  <a:lnTo>
                    <a:pt x="1205" y="1792"/>
                  </a:lnTo>
                  <a:lnTo>
                    <a:pt x="1179" y="1777"/>
                  </a:lnTo>
                  <a:lnTo>
                    <a:pt x="1167" y="1777"/>
                  </a:lnTo>
                  <a:lnTo>
                    <a:pt x="1151" y="1777"/>
                  </a:lnTo>
                  <a:lnTo>
                    <a:pt x="1138" y="1777"/>
                  </a:lnTo>
                  <a:lnTo>
                    <a:pt x="1135" y="1750"/>
                  </a:lnTo>
                  <a:lnTo>
                    <a:pt x="1125" y="1729"/>
                  </a:lnTo>
                  <a:lnTo>
                    <a:pt x="1125" y="1687"/>
                  </a:lnTo>
                  <a:lnTo>
                    <a:pt x="1103" y="1665"/>
                  </a:lnTo>
                  <a:lnTo>
                    <a:pt x="1100" y="1641"/>
                  </a:lnTo>
                  <a:lnTo>
                    <a:pt x="1087" y="1635"/>
                  </a:lnTo>
                  <a:lnTo>
                    <a:pt x="1075" y="1613"/>
                  </a:lnTo>
                  <a:lnTo>
                    <a:pt x="1071" y="1592"/>
                  </a:lnTo>
                  <a:lnTo>
                    <a:pt x="1062" y="1571"/>
                  </a:lnTo>
                  <a:lnTo>
                    <a:pt x="1052" y="1556"/>
                  </a:lnTo>
                  <a:lnTo>
                    <a:pt x="1027" y="1556"/>
                  </a:lnTo>
                  <a:lnTo>
                    <a:pt x="1011" y="1556"/>
                  </a:lnTo>
                  <a:lnTo>
                    <a:pt x="1002" y="1556"/>
                  </a:lnTo>
                  <a:lnTo>
                    <a:pt x="998" y="1586"/>
                  </a:lnTo>
                  <a:lnTo>
                    <a:pt x="998" y="1613"/>
                  </a:lnTo>
                  <a:lnTo>
                    <a:pt x="998" y="1644"/>
                  </a:lnTo>
                  <a:lnTo>
                    <a:pt x="998" y="1678"/>
                  </a:lnTo>
                  <a:lnTo>
                    <a:pt x="998" y="1699"/>
                  </a:lnTo>
                  <a:lnTo>
                    <a:pt x="976" y="1708"/>
                  </a:lnTo>
                  <a:lnTo>
                    <a:pt x="960" y="1729"/>
                  </a:lnTo>
                  <a:lnTo>
                    <a:pt x="935" y="1699"/>
                  </a:lnTo>
                  <a:lnTo>
                    <a:pt x="919" y="1656"/>
                  </a:lnTo>
                  <a:lnTo>
                    <a:pt x="922" y="1607"/>
                  </a:lnTo>
                  <a:lnTo>
                    <a:pt x="897" y="1541"/>
                  </a:lnTo>
                  <a:lnTo>
                    <a:pt x="884" y="1499"/>
                  </a:lnTo>
                  <a:lnTo>
                    <a:pt x="856" y="1472"/>
                  </a:lnTo>
                  <a:lnTo>
                    <a:pt x="821" y="1448"/>
                  </a:lnTo>
                  <a:lnTo>
                    <a:pt x="805" y="1412"/>
                  </a:lnTo>
                  <a:lnTo>
                    <a:pt x="792" y="1385"/>
                  </a:lnTo>
                  <a:lnTo>
                    <a:pt x="761" y="1379"/>
                  </a:lnTo>
                  <a:lnTo>
                    <a:pt x="754" y="1364"/>
                  </a:lnTo>
                  <a:lnTo>
                    <a:pt x="732" y="1364"/>
                  </a:lnTo>
                  <a:lnTo>
                    <a:pt x="716" y="1391"/>
                  </a:lnTo>
                  <a:lnTo>
                    <a:pt x="697" y="1412"/>
                  </a:lnTo>
                  <a:lnTo>
                    <a:pt x="735" y="1436"/>
                  </a:lnTo>
                  <a:lnTo>
                    <a:pt x="757" y="1472"/>
                  </a:lnTo>
                  <a:lnTo>
                    <a:pt x="796" y="1520"/>
                  </a:lnTo>
                  <a:lnTo>
                    <a:pt x="811" y="1541"/>
                  </a:lnTo>
                  <a:lnTo>
                    <a:pt x="843" y="1556"/>
                  </a:lnTo>
                  <a:lnTo>
                    <a:pt x="862" y="1592"/>
                  </a:lnTo>
                  <a:lnTo>
                    <a:pt x="837" y="1629"/>
                  </a:lnTo>
                  <a:lnTo>
                    <a:pt x="834" y="1613"/>
                  </a:lnTo>
                  <a:lnTo>
                    <a:pt x="834" y="1592"/>
                  </a:lnTo>
                  <a:lnTo>
                    <a:pt x="821" y="1641"/>
                  </a:lnTo>
                  <a:lnTo>
                    <a:pt x="818" y="1681"/>
                  </a:lnTo>
                  <a:lnTo>
                    <a:pt x="792" y="1693"/>
                  </a:lnTo>
                  <a:lnTo>
                    <a:pt x="799" y="1641"/>
                  </a:lnTo>
                  <a:lnTo>
                    <a:pt x="796" y="1613"/>
                  </a:lnTo>
                  <a:lnTo>
                    <a:pt x="767" y="1598"/>
                  </a:lnTo>
                  <a:lnTo>
                    <a:pt x="754" y="1586"/>
                  </a:lnTo>
                  <a:lnTo>
                    <a:pt x="742" y="1565"/>
                  </a:lnTo>
                  <a:lnTo>
                    <a:pt x="716" y="1550"/>
                  </a:lnTo>
                  <a:lnTo>
                    <a:pt x="697" y="1535"/>
                  </a:lnTo>
                  <a:lnTo>
                    <a:pt x="681" y="1505"/>
                  </a:lnTo>
                  <a:lnTo>
                    <a:pt x="659" y="1490"/>
                  </a:lnTo>
                  <a:lnTo>
                    <a:pt x="646" y="1457"/>
                  </a:lnTo>
                  <a:lnTo>
                    <a:pt x="643" y="1433"/>
                  </a:lnTo>
                  <a:lnTo>
                    <a:pt x="627" y="1421"/>
                  </a:lnTo>
                  <a:lnTo>
                    <a:pt x="608" y="1406"/>
                  </a:lnTo>
                  <a:lnTo>
                    <a:pt x="577" y="1406"/>
                  </a:lnTo>
                  <a:lnTo>
                    <a:pt x="545" y="1412"/>
                  </a:lnTo>
                  <a:lnTo>
                    <a:pt x="513" y="1406"/>
                  </a:lnTo>
                  <a:lnTo>
                    <a:pt x="453" y="1412"/>
                  </a:lnTo>
                  <a:lnTo>
                    <a:pt x="412" y="1415"/>
                  </a:lnTo>
                  <a:lnTo>
                    <a:pt x="399" y="1427"/>
                  </a:lnTo>
                  <a:lnTo>
                    <a:pt x="393" y="1457"/>
                  </a:lnTo>
                  <a:lnTo>
                    <a:pt x="393" y="1493"/>
                  </a:lnTo>
                  <a:lnTo>
                    <a:pt x="367" y="1529"/>
                  </a:lnTo>
                  <a:lnTo>
                    <a:pt x="352" y="1547"/>
                  </a:lnTo>
                  <a:lnTo>
                    <a:pt x="342" y="1556"/>
                  </a:lnTo>
                  <a:lnTo>
                    <a:pt x="329" y="1586"/>
                  </a:lnTo>
                  <a:lnTo>
                    <a:pt x="323" y="1607"/>
                  </a:lnTo>
                  <a:lnTo>
                    <a:pt x="336" y="1622"/>
                  </a:lnTo>
                  <a:lnTo>
                    <a:pt x="336" y="1656"/>
                  </a:lnTo>
                  <a:lnTo>
                    <a:pt x="329" y="1671"/>
                  </a:lnTo>
                  <a:lnTo>
                    <a:pt x="323" y="1693"/>
                  </a:lnTo>
                  <a:lnTo>
                    <a:pt x="301" y="1729"/>
                  </a:lnTo>
                  <a:lnTo>
                    <a:pt x="288" y="1714"/>
                  </a:lnTo>
                  <a:lnTo>
                    <a:pt x="275" y="1723"/>
                  </a:lnTo>
                  <a:lnTo>
                    <a:pt x="260" y="1738"/>
                  </a:lnTo>
                  <a:lnTo>
                    <a:pt x="234" y="1744"/>
                  </a:lnTo>
                  <a:lnTo>
                    <a:pt x="209" y="1771"/>
                  </a:lnTo>
                  <a:lnTo>
                    <a:pt x="183" y="1777"/>
                  </a:lnTo>
                  <a:lnTo>
                    <a:pt x="158" y="1777"/>
                  </a:lnTo>
                  <a:lnTo>
                    <a:pt x="133" y="1777"/>
                  </a:lnTo>
                  <a:lnTo>
                    <a:pt x="76" y="1792"/>
                  </a:lnTo>
                  <a:lnTo>
                    <a:pt x="50" y="1792"/>
                  </a:lnTo>
                  <a:lnTo>
                    <a:pt x="38" y="1756"/>
                  </a:lnTo>
                  <a:lnTo>
                    <a:pt x="25" y="1708"/>
                  </a:lnTo>
                  <a:lnTo>
                    <a:pt x="19" y="1665"/>
                  </a:lnTo>
                  <a:lnTo>
                    <a:pt x="12" y="1622"/>
                  </a:lnTo>
                  <a:lnTo>
                    <a:pt x="12" y="1571"/>
                  </a:lnTo>
                  <a:lnTo>
                    <a:pt x="0" y="1505"/>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1768320" y="2411280"/>
              <a:ext cx="989280" cy="1047960"/>
            </a:xfrm>
            <a:custGeom>
              <a:avLst/>
              <a:gdLst/>
              <a:ahLst/>
              <a:rect l="0" t="0" r="r" b="b"/>
              <a:pathLst>
                <a:path w="2748" h="2911">
                  <a:moveTo>
                    <a:pt x="0" y="750"/>
                  </a:moveTo>
                  <a:lnTo>
                    <a:pt x="130" y="650"/>
                  </a:lnTo>
                  <a:lnTo>
                    <a:pt x="206" y="608"/>
                  </a:lnTo>
                  <a:lnTo>
                    <a:pt x="218" y="545"/>
                  </a:lnTo>
                  <a:lnTo>
                    <a:pt x="158" y="509"/>
                  </a:lnTo>
                  <a:lnTo>
                    <a:pt x="155" y="436"/>
                  </a:lnTo>
                  <a:lnTo>
                    <a:pt x="180" y="415"/>
                  </a:lnTo>
                  <a:lnTo>
                    <a:pt x="177" y="385"/>
                  </a:lnTo>
                  <a:lnTo>
                    <a:pt x="279" y="373"/>
                  </a:lnTo>
                  <a:lnTo>
                    <a:pt x="304" y="316"/>
                  </a:lnTo>
                  <a:lnTo>
                    <a:pt x="307" y="265"/>
                  </a:lnTo>
                  <a:lnTo>
                    <a:pt x="393" y="250"/>
                  </a:lnTo>
                  <a:lnTo>
                    <a:pt x="399" y="198"/>
                  </a:lnTo>
                  <a:lnTo>
                    <a:pt x="320" y="183"/>
                  </a:lnTo>
                  <a:lnTo>
                    <a:pt x="358" y="144"/>
                  </a:lnTo>
                  <a:lnTo>
                    <a:pt x="488" y="144"/>
                  </a:lnTo>
                  <a:lnTo>
                    <a:pt x="526" y="105"/>
                  </a:lnTo>
                  <a:lnTo>
                    <a:pt x="583" y="99"/>
                  </a:lnTo>
                  <a:lnTo>
                    <a:pt x="615" y="63"/>
                  </a:lnTo>
                  <a:lnTo>
                    <a:pt x="659" y="126"/>
                  </a:lnTo>
                  <a:lnTo>
                    <a:pt x="824" y="114"/>
                  </a:lnTo>
                  <a:lnTo>
                    <a:pt x="900" y="177"/>
                  </a:lnTo>
                  <a:lnTo>
                    <a:pt x="1145" y="162"/>
                  </a:lnTo>
                  <a:lnTo>
                    <a:pt x="1183" y="129"/>
                  </a:lnTo>
                  <a:lnTo>
                    <a:pt x="1275" y="183"/>
                  </a:lnTo>
                  <a:lnTo>
                    <a:pt x="1373" y="228"/>
                  </a:lnTo>
                  <a:lnTo>
                    <a:pt x="1422" y="207"/>
                  </a:lnTo>
                  <a:lnTo>
                    <a:pt x="1450" y="183"/>
                  </a:lnTo>
                  <a:lnTo>
                    <a:pt x="1530" y="198"/>
                  </a:lnTo>
                  <a:lnTo>
                    <a:pt x="1476" y="162"/>
                  </a:lnTo>
                  <a:lnTo>
                    <a:pt x="1425" y="165"/>
                  </a:lnTo>
                  <a:lnTo>
                    <a:pt x="1348" y="177"/>
                  </a:lnTo>
                  <a:lnTo>
                    <a:pt x="1310" y="126"/>
                  </a:lnTo>
                  <a:lnTo>
                    <a:pt x="1268" y="99"/>
                  </a:lnTo>
                  <a:lnTo>
                    <a:pt x="1268" y="51"/>
                  </a:lnTo>
                  <a:lnTo>
                    <a:pt x="1281" y="6"/>
                  </a:lnTo>
                  <a:lnTo>
                    <a:pt x="1313" y="0"/>
                  </a:lnTo>
                  <a:lnTo>
                    <a:pt x="1360" y="42"/>
                  </a:lnTo>
                  <a:lnTo>
                    <a:pt x="1373" y="21"/>
                  </a:lnTo>
                  <a:lnTo>
                    <a:pt x="1412" y="0"/>
                  </a:lnTo>
                  <a:lnTo>
                    <a:pt x="1460" y="30"/>
                  </a:lnTo>
                  <a:lnTo>
                    <a:pt x="1485" y="6"/>
                  </a:lnTo>
                  <a:lnTo>
                    <a:pt x="1511" y="48"/>
                  </a:lnTo>
                  <a:lnTo>
                    <a:pt x="1514" y="78"/>
                  </a:lnTo>
                  <a:lnTo>
                    <a:pt x="1580" y="114"/>
                  </a:lnTo>
                  <a:lnTo>
                    <a:pt x="1555" y="144"/>
                  </a:lnTo>
                  <a:lnTo>
                    <a:pt x="1555" y="186"/>
                  </a:lnTo>
                  <a:lnTo>
                    <a:pt x="1669" y="198"/>
                  </a:lnTo>
                  <a:lnTo>
                    <a:pt x="1701" y="144"/>
                  </a:lnTo>
                  <a:lnTo>
                    <a:pt x="1679" y="120"/>
                  </a:lnTo>
                  <a:lnTo>
                    <a:pt x="1628" y="126"/>
                  </a:lnTo>
                  <a:lnTo>
                    <a:pt x="1641" y="63"/>
                  </a:lnTo>
                  <a:lnTo>
                    <a:pt x="1742" y="99"/>
                  </a:lnTo>
                  <a:lnTo>
                    <a:pt x="1764" y="141"/>
                  </a:lnTo>
                  <a:lnTo>
                    <a:pt x="1847" y="141"/>
                  </a:lnTo>
                  <a:lnTo>
                    <a:pt x="1929" y="192"/>
                  </a:lnTo>
                  <a:lnTo>
                    <a:pt x="1971" y="183"/>
                  </a:lnTo>
                  <a:lnTo>
                    <a:pt x="2018" y="228"/>
                  </a:lnTo>
                  <a:lnTo>
                    <a:pt x="1971" y="292"/>
                  </a:lnTo>
                  <a:lnTo>
                    <a:pt x="1932" y="244"/>
                  </a:lnTo>
                  <a:lnTo>
                    <a:pt x="1907" y="259"/>
                  </a:lnTo>
                  <a:lnTo>
                    <a:pt x="1869" y="298"/>
                  </a:lnTo>
                  <a:lnTo>
                    <a:pt x="1815" y="328"/>
                  </a:lnTo>
                  <a:lnTo>
                    <a:pt x="1844" y="373"/>
                  </a:lnTo>
                  <a:lnTo>
                    <a:pt x="1793" y="379"/>
                  </a:lnTo>
                  <a:lnTo>
                    <a:pt x="1752" y="442"/>
                  </a:lnTo>
                  <a:lnTo>
                    <a:pt x="1707" y="521"/>
                  </a:lnTo>
                  <a:lnTo>
                    <a:pt x="1771" y="587"/>
                  </a:lnTo>
                  <a:lnTo>
                    <a:pt x="1821" y="665"/>
                  </a:lnTo>
                  <a:lnTo>
                    <a:pt x="1917" y="677"/>
                  </a:lnTo>
                  <a:lnTo>
                    <a:pt x="1999" y="665"/>
                  </a:lnTo>
                  <a:lnTo>
                    <a:pt x="2037" y="708"/>
                  </a:lnTo>
                  <a:lnTo>
                    <a:pt x="2021" y="729"/>
                  </a:lnTo>
                  <a:lnTo>
                    <a:pt x="1996" y="771"/>
                  </a:lnTo>
                  <a:lnTo>
                    <a:pt x="2034" y="843"/>
                  </a:lnTo>
                  <a:lnTo>
                    <a:pt x="2047" y="894"/>
                  </a:lnTo>
                  <a:lnTo>
                    <a:pt x="2094" y="921"/>
                  </a:lnTo>
                  <a:lnTo>
                    <a:pt x="2158" y="873"/>
                  </a:lnTo>
                  <a:lnTo>
                    <a:pt x="2139" y="807"/>
                  </a:lnTo>
                  <a:lnTo>
                    <a:pt x="2085" y="750"/>
                  </a:lnTo>
                  <a:lnTo>
                    <a:pt x="2148" y="680"/>
                  </a:lnTo>
                  <a:lnTo>
                    <a:pt x="2094" y="566"/>
                  </a:lnTo>
                  <a:lnTo>
                    <a:pt x="2043" y="521"/>
                  </a:lnTo>
                  <a:lnTo>
                    <a:pt x="2085" y="479"/>
                  </a:lnTo>
                  <a:lnTo>
                    <a:pt x="2075" y="415"/>
                  </a:lnTo>
                  <a:lnTo>
                    <a:pt x="2107" y="379"/>
                  </a:lnTo>
                  <a:lnTo>
                    <a:pt x="2158" y="415"/>
                  </a:lnTo>
                  <a:lnTo>
                    <a:pt x="2275" y="551"/>
                  </a:lnTo>
                  <a:lnTo>
                    <a:pt x="2348" y="572"/>
                  </a:lnTo>
                  <a:lnTo>
                    <a:pt x="2367" y="536"/>
                  </a:lnTo>
                  <a:lnTo>
                    <a:pt x="2351" y="463"/>
                  </a:lnTo>
                  <a:lnTo>
                    <a:pt x="2392" y="473"/>
                  </a:lnTo>
                  <a:lnTo>
                    <a:pt x="2465" y="557"/>
                  </a:lnTo>
                  <a:lnTo>
                    <a:pt x="2478" y="602"/>
                  </a:lnTo>
                  <a:lnTo>
                    <a:pt x="2519" y="635"/>
                  </a:lnTo>
                  <a:lnTo>
                    <a:pt x="2605" y="671"/>
                  </a:lnTo>
                  <a:lnTo>
                    <a:pt x="2646" y="738"/>
                  </a:lnTo>
                  <a:lnTo>
                    <a:pt x="2710" y="786"/>
                  </a:lnTo>
                  <a:lnTo>
                    <a:pt x="2745" y="801"/>
                  </a:lnTo>
                  <a:lnTo>
                    <a:pt x="2748" y="843"/>
                  </a:lnTo>
                  <a:lnTo>
                    <a:pt x="2697" y="870"/>
                  </a:lnTo>
                  <a:lnTo>
                    <a:pt x="2668" y="837"/>
                  </a:lnTo>
                  <a:lnTo>
                    <a:pt x="2643" y="843"/>
                  </a:lnTo>
                  <a:lnTo>
                    <a:pt x="2634" y="909"/>
                  </a:lnTo>
                  <a:lnTo>
                    <a:pt x="2592" y="927"/>
                  </a:lnTo>
                  <a:lnTo>
                    <a:pt x="2545" y="891"/>
                  </a:lnTo>
                  <a:lnTo>
                    <a:pt x="2450" y="891"/>
                  </a:lnTo>
                  <a:lnTo>
                    <a:pt x="2437" y="967"/>
                  </a:lnTo>
                  <a:lnTo>
                    <a:pt x="2462" y="1015"/>
                  </a:lnTo>
                  <a:lnTo>
                    <a:pt x="2500" y="988"/>
                  </a:lnTo>
                  <a:lnTo>
                    <a:pt x="2538" y="979"/>
                  </a:lnTo>
                  <a:lnTo>
                    <a:pt x="2576" y="1006"/>
                  </a:lnTo>
                  <a:lnTo>
                    <a:pt x="2526" y="1063"/>
                  </a:lnTo>
                  <a:lnTo>
                    <a:pt x="2576" y="1114"/>
                  </a:lnTo>
                  <a:lnTo>
                    <a:pt x="2643" y="1129"/>
                  </a:lnTo>
                  <a:lnTo>
                    <a:pt x="2634" y="1159"/>
                  </a:lnTo>
                  <a:lnTo>
                    <a:pt x="2608" y="1165"/>
                  </a:lnTo>
                  <a:lnTo>
                    <a:pt x="2545" y="1343"/>
                  </a:lnTo>
                  <a:lnTo>
                    <a:pt x="2551" y="1229"/>
                  </a:lnTo>
                  <a:lnTo>
                    <a:pt x="2580" y="1171"/>
                  </a:lnTo>
                  <a:lnTo>
                    <a:pt x="2545" y="1144"/>
                  </a:lnTo>
                  <a:lnTo>
                    <a:pt x="2507" y="1181"/>
                  </a:lnTo>
                  <a:lnTo>
                    <a:pt x="2529" y="1214"/>
                  </a:lnTo>
                  <a:lnTo>
                    <a:pt x="2500" y="1235"/>
                  </a:lnTo>
                  <a:lnTo>
                    <a:pt x="2469" y="1259"/>
                  </a:lnTo>
                  <a:lnTo>
                    <a:pt x="2475" y="1337"/>
                  </a:lnTo>
                  <a:lnTo>
                    <a:pt x="2431" y="1364"/>
                  </a:lnTo>
                  <a:lnTo>
                    <a:pt x="2373" y="1373"/>
                  </a:lnTo>
                  <a:lnTo>
                    <a:pt x="2392" y="1416"/>
                  </a:lnTo>
                  <a:lnTo>
                    <a:pt x="2373" y="1465"/>
                  </a:lnTo>
                  <a:lnTo>
                    <a:pt x="2392" y="1501"/>
                  </a:lnTo>
                  <a:lnTo>
                    <a:pt x="2361" y="1579"/>
                  </a:lnTo>
                  <a:lnTo>
                    <a:pt x="2348" y="1652"/>
                  </a:lnTo>
                  <a:lnTo>
                    <a:pt x="2297" y="1694"/>
                  </a:lnTo>
                  <a:lnTo>
                    <a:pt x="2234" y="1808"/>
                  </a:lnTo>
                  <a:lnTo>
                    <a:pt x="2224" y="1887"/>
                  </a:lnTo>
                  <a:lnTo>
                    <a:pt x="2247" y="1947"/>
                  </a:lnTo>
                  <a:lnTo>
                    <a:pt x="2275" y="2025"/>
                  </a:lnTo>
                  <a:lnTo>
                    <a:pt x="2291" y="2109"/>
                  </a:lnTo>
                  <a:lnTo>
                    <a:pt x="2262" y="2146"/>
                  </a:lnTo>
                  <a:lnTo>
                    <a:pt x="2224" y="2119"/>
                  </a:lnTo>
                  <a:lnTo>
                    <a:pt x="2234" y="2076"/>
                  </a:lnTo>
                  <a:lnTo>
                    <a:pt x="2212" y="1983"/>
                  </a:lnTo>
                  <a:lnTo>
                    <a:pt x="2186" y="1968"/>
                  </a:lnTo>
                  <a:lnTo>
                    <a:pt x="2170" y="1911"/>
                  </a:lnTo>
                  <a:lnTo>
                    <a:pt x="2135" y="1911"/>
                  </a:lnTo>
                  <a:lnTo>
                    <a:pt x="2097" y="1881"/>
                  </a:lnTo>
                  <a:lnTo>
                    <a:pt x="2056" y="1890"/>
                  </a:lnTo>
                  <a:lnTo>
                    <a:pt x="2018" y="1868"/>
                  </a:lnTo>
                  <a:lnTo>
                    <a:pt x="1971" y="1896"/>
                  </a:lnTo>
                  <a:lnTo>
                    <a:pt x="1885" y="1874"/>
                  </a:lnTo>
                  <a:lnTo>
                    <a:pt x="1942" y="1944"/>
                  </a:lnTo>
                  <a:lnTo>
                    <a:pt x="1869" y="1938"/>
                  </a:lnTo>
                  <a:lnTo>
                    <a:pt x="1821" y="1887"/>
                  </a:lnTo>
                  <a:lnTo>
                    <a:pt x="1739" y="1887"/>
                  </a:lnTo>
                  <a:lnTo>
                    <a:pt x="1752" y="1968"/>
                  </a:lnTo>
                  <a:lnTo>
                    <a:pt x="1688" y="1944"/>
                  </a:lnTo>
                  <a:lnTo>
                    <a:pt x="1653" y="2025"/>
                  </a:lnTo>
                  <a:lnTo>
                    <a:pt x="1679" y="2061"/>
                  </a:lnTo>
                  <a:lnTo>
                    <a:pt x="1653" y="2161"/>
                  </a:lnTo>
                  <a:lnTo>
                    <a:pt x="1682" y="2275"/>
                  </a:lnTo>
                  <a:lnTo>
                    <a:pt x="1717" y="2354"/>
                  </a:lnTo>
                  <a:lnTo>
                    <a:pt x="1755" y="2426"/>
                  </a:lnTo>
                  <a:lnTo>
                    <a:pt x="1869" y="2420"/>
                  </a:lnTo>
                  <a:lnTo>
                    <a:pt x="1920" y="2405"/>
                  </a:lnTo>
                  <a:lnTo>
                    <a:pt x="1929" y="2354"/>
                  </a:lnTo>
                  <a:lnTo>
                    <a:pt x="1904" y="2311"/>
                  </a:lnTo>
                  <a:lnTo>
                    <a:pt x="1907" y="2275"/>
                  </a:lnTo>
                  <a:lnTo>
                    <a:pt x="1980" y="2287"/>
                  </a:lnTo>
                  <a:lnTo>
                    <a:pt x="2050" y="2266"/>
                  </a:lnTo>
                  <a:lnTo>
                    <a:pt x="2050" y="2311"/>
                  </a:lnTo>
                  <a:lnTo>
                    <a:pt x="2031" y="2381"/>
                  </a:lnTo>
                  <a:lnTo>
                    <a:pt x="1996" y="2432"/>
                  </a:lnTo>
                  <a:lnTo>
                    <a:pt x="1986" y="2504"/>
                  </a:lnTo>
                  <a:lnTo>
                    <a:pt x="2034" y="2537"/>
                  </a:lnTo>
                  <a:lnTo>
                    <a:pt x="2097" y="2525"/>
                  </a:lnTo>
                  <a:lnTo>
                    <a:pt x="2135" y="2552"/>
                  </a:lnTo>
                  <a:lnTo>
                    <a:pt x="2170" y="2540"/>
                  </a:lnTo>
                  <a:lnTo>
                    <a:pt x="2183" y="2589"/>
                  </a:lnTo>
                  <a:lnTo>
                    <a:pt x="2151" y="2661"/>
                  </a:lnTo>
                  <a:lnTo>
                    <a:pt x="2177" y="2703"/>
                  </a:lnTo>
                  <a:lnTo>
                    <a:pt x="2183" y="2784"/>
                  </a:lnTo>
                  <a:lnTo>
                    <a:pt x="2224" y="2842"/>
                  </a:lnTo>
                  <a:lnTo>
                    <a:pt x="2278" y="2860"/>
                  </a:lnTo>
                  <a:lnTo>
                    <a:pt x="2316" y="2842"/>
                  </a:lnTo>
                  <a:lnTo>
                    <a:pt x="2335" y="2848"/>
                  </a:lnTo>
                  <a:lnTo>
                    <a:pt x="2405" y="2848"/>
                  </a:lnTo>
                  <a:lnTo>
                    <a:pt x="2469" y="2854"/>
                  </a:lnTo>
                  <a:lnTo>
                    <a:pt x="2488" y="2818"/>
                  </a:lnTo>
                  <a:lnTo>
                    <a:pt x="2431" y="2881"/>
                  </a:lnTo>
                  <a:lnTo>
                    <a:pt x="2392" y="2875"/>
                  </a:lnTo>
                  <a:lnTo>
                    <a:pt x="2354" y="2881"/>
                  </a:lnTo>
                  <a:lnTo>
                    <a:pt x="2278" y="2911"/>
                  </a:lnTo>
                  <a:lnTo>
                    <a:pt x="2215" y="2869"/>
                  </a:lnTo>
                  <a:lnTo>
                    <a:pt x="2158" y="2842"/>
                  </a:lnTo>
                  <a:lnTo>
                    <a:pt x="2132" y="2848"/>
                  </a:lnTo>
                  <a:lnTo>
                    <a:pt x="2135" y="2811"/>
                  </a:lnTo>
                  <a:lnTo>
                    <a:pt x="2132" y="2754"/>
                  </a:lnTo>
                  <a:lnTo>
                    <a:pt x="2082" y="2703"/>
                  </a:lnTo>
                  <a:lnTo>
                    <a:pt x="1974" y="2670"/>
                  </a:lnTo>
                  <a:lnTo>
                    <a:pt x="1958" y="2646"/>
                  </a:lnTo>
                  <a:lnTo>
                    <a:pt x="1929" y="2652"/>
                  </a:lnTo>
                  <a:lnTo>
                    <a:pt x="1898" y="2625"/>
                  </a:lnTo>
                  <a:lnTo>
                    <a:pt x="1856" y="2598"/>
                  </a:lnTo>
                  <a:lnTo>
                    <a:pt x="1806" y="2525"/>
                  </a:lnTo>
                  <a:lnTo>
                    <a:pt x="1745" y="2504"/>
                  </a:lnTo>
                  <a:lnTo>
                    <a:pt x="1714" y="2552"/>
                  </a:lnTo>
                  <a:lnTo>
                    <a:pt x="1676" y="2516"/>
                  </a:lnTo>
                  <a:lnTo>
                    <a:pt x="1628" y="2516"/>
                  </a:lnTo>
                  <a:lnTo>
                    <a:pt x="1536" y="2489"/>
                  </a:lnTo>
                  <a:lnTo>
                    <a:pt x="1364" y="2363"/>
                  </a:lnTo>
                  <a:lnTo>
                    <a:pt x="1351" y="2233"/>
                  </a:lnTo>
                  <a:lnTo>
                    <a:pt x="1335" y="2182"/>
                  </a:lnTo>
                  <a:lnTo>
                    <a:pt x="1307" y="2146"/>
                  </a:lnTo>
                  <a:lnTo>
                    <a:pt x="1268" y="2073"/>
                  </a:lnTo>
                  <a:lnTo>
                    <a:pt x="1091" y="1823"/>
                  </a:lnTo>
                  <a:lnTo>
                    <a:pt x="1091" y="1917"/>
                  </a:lnTo>
                  <a:lnTo>
                    <a:pt x="1199" y="2082"/>
                  </a:lnTo>
                  <a:lnTo>
                    <a:pt x="1246" y="2224"/>
                  </a:lnTo>
                  <a:lnTo>
                    <a:pt x="1180" y="2191"/>
                  </a:lnTo>
                  <a:lnTo>
                    <a:pt x="1167" y="2109"/>
                  </a:lnTo>
                  <a:lnTo>
                    <a:pt x="1078" y="2058"/>
                  </a:lnTo>
                  <a:lnTo>
                    <a:pt x="1129" y="2025"/>
                  </a:lnTo>
                  <a:lnTo>
                    <a:pt x="1008" y="1938"/>
                  </a:lnTo>
                  <a:lnTo>
                    <a:pt x="1056" y="1887"/>
                  </a:lnTo>
                  <a:lnTo>
                    <a:pt x="1015" y="1781"/>
                  </a:lnTo>
                  <a:lnTo>
                    <a:pt x="869" y="1561"/>
                  </a:lnTo>
                  <a:lnTo>
                    <a:pt x="853" y="1437"/>
                  </a:lnTo>
                  <a:lnTo>
                    <a:pt x="862" y="1337"/>
                  </a:lnTo>
                  <a:lnTo>
                    <a:pt x="900" y="1235"/>
                  </a:lnTo>
                  <a:lnTo>
                    <a:pt x="900" y="1129"/>
                  </a:lnTo>
                  <a:lnTo>
                    <a:pt x="869" y="1066"/>
                  </a:lnTo>
                  <a:lnTo>
                    <a:pt x="951" y="1045"/>
                  </a:lnTo>
                  <a:lnTo>
                    <a:pt x="853" y="921"/>
                  </a:lnTo>
                  <a:lnTo>
                    <a:pt x="856" y="864"/>
                  </a:lnTo>
                  <a:lnTo>
                    <a:pt x="815" y="786"/>
                  </a:lnTo>
                  <a:lnTo>
                    <a:pt x="831" y="738"/>
                  </a:lnTo>
                  <a:lnTo>
                    <a:pt x="802" y="714"/>
                  </a:lnTo>
                  <a:lnTo>
                    <a:pt x="799" y="659"/>
                  </a:lnTo>
                  <a:lnTo>
                    <a:pt x="767" y="620"/>
                  </a:lnTo>
                  <a:lnTo>
                    <a:pt x="802" y="584"/>
                  </a:lnTo>
                  <a:lnTo>
                    <a:pt x="755" y="557"/>
                  </a:lnTo>
                  <a:lnTo>
                    <a:pt x="716" y="593"/>
                  </a:lnTo>
                  <a:lnTo>
                    <a:pt x="663" y="521"/>
                  </a:lnTo>
                  <a:lnTo>
                    <a:pt x="602" y="500"/>
                  </a:lnTo>
                  <a:lnTo>
                    <a:pt x="520" y="500"/>
                  </a:lnTo>
                  <a:lnTo>
                    <a:pt x="463" y="566"/>
                  </a:lnTo>
                  <a:lnTo>
                    <a:pt x="437" y="545"/>
                  </a:lnTo>
                  <a:lnTo>
                    <a:pt x="485" y="457"/>
                  </a:lnTo>
                  <a:lnTo>
                    <a:pt x="444" y="473"/>
                  </a:lnTo>
                  <a:lnTo>
                    <a:pt x="358" y="566"/>
                  </a:lnTo>
                  <a:lnTo>
                    <a:pt x="269" y="650"/>
                  </a:lnTo>
                  <a:lnTo>
                    <a:pt x="190" y="671"/>
                  </a:lnTo>
                  <a:lnTo>
                    <a:pt x="53" y="756"/>
                  </a:lnTo>
                  <a:lnTo>
                    <a:pt x="0" y="750"/>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475000" y="2311560"/>
              <a:ext cx="335160" cy="276480"/>
            </a:xfrm>
            <a:custGeom>
              <a:avLst/>
              <a:gdLst/>
              <a:ahLst/>
              <a:rect l="0" t="0" r="r" b="b"/>
              <a:pathLst>
                <a:path w="931" h="768">
                  <a:moveTo>
                    <a:pt x="0" y="157"/>
                  </a:moveTo>
                  <a:lnTo>
                    <a:pt x="18" y="99"/>
                  </a:lnTo>
                  <a:lnTo>
                    <a:pt x="18" y="57"/>
                  </a:lnTo>
                  <a:lnTo>
                    <a:pt x="53" y="0"/>
                  </a:lnTo>
                  <a:lnTo>
                    <a:pt x="221" y="39"/>
                  </a:lnTo>
                  <a:lnTo>
                    <a:pt x="513" y="105"/>
                  </a:lnTo>
                  <a:lnTo>
                    <a:pt x="627" y="163"/>
                  </a:lnTo>
                  <a:lnTo>
                    <a:pt x="779" y="214"/>
                  </a:lnTo>
                  <a:lnTo>
                    <a:pt x="855" y="314"/>
                  </a:lnTo>
                  <a:lnTo>
                    <a:pt x="931" y="365"/>
                  </a:lnTo>
                  <a:lnTo>
                    <a:pt x="902" y="405"/>
                  </a:lnTo>
                  <a:lnTo>
                    <a:pt x="902" y="451"/>
                  </a:lnTo>
                  <a:lnTo>
                    <a:pt x="874" y="463"/>
                  </a:lnTo>
                  <a:lnTo>
                    <a:pt x="849" y="502"/>
                  </a:lnTo>
                  <a:lnTo>
                    <a:pt x="874" y="544"/>
                  </a:lnTo>
                  <a:lnTo>
                    <a:pt x="868" y="577"/>
                  </a:lnTo>
                  <a:lnTo>
                    <a:pt x="839" y="617"/>
                  </a:lnTo>
                  <a:lnTo>
                    <a:pt x="842" y="659"/>
                  </a:lnTo>
                  <a:lnTo>
                    <a:pt x="893" y="701"/>
                  </a:lnTo>
                  <a:lnTo>
                    <a:pt x="899" y="744"/>
                  </a:lnTo>
                  <a:lnTo>
                    <a:pt x="887" y="765"/>
                  </a:lnTo>
                  <a:lnTo>
                    <a:pt x="836" y="768"/>
                  </a:lnTo>
                  <a:lnTo>
                    <a:pt x="798" y="750"/>
                  </a:lnTo>
                  <a:lnTo>
                    <a:pt x="754" y="695"/>
                  </a:lnTo>
                  <a:lnTo>
                    <a:pt x="738" y="695"/>
                  </a:lnTo>
                  <a:lnTo>
                    <a:pt x="716" y="674"/>
                  </a:lnTo>
                  <a:lnTo>
                    <a:pt x="697" y="614"/>
                  </a:lnTo>
                  <a:lnTo>
                    <a:pt x="671" y="593"/>
                  </a:lnTo>
                  <a:lnTo>
                    <a:pt x="614" y="559"/>
                  </a:lnTo>
                  <a:lnTo>
                    <a:pt x="570" y="538"/>
                  </a:lnTo>
                  <a:lnTo>
                    <a:pt x="501" y="481"/>
                  </a:lnTo>
                  <a:lnTo>
                    <a:pt x="472" y="442"/>
                  </a:lnTo>
                  <a:lnTo>
                    <a:pt x="475" y="408"/>
                  </a:lnTo>
                  <a:lnTo>
                    <a:pt x="507" y="383"/>
                  </a:lnTo>
                  <a:lnTo>
                    <a:pt x="482" y="347"/>
                  </a:lnTo>
                  <a:lnTo>
                    <a:pt x="455" y="365"/>
                  </a:lnTo>
                  <a:lnTo>
                    <a:pt x="411" y="314"/>
                  </a:lnTo>
                  <a:lnTo>
                    <a:pt x="405" y="341"/>
                  </a:lnTo>
                  <a:lnTo>
                    <a:pt x="367" y="341"/>
                  </a:lnTo>
                  <a:lnTo>
                    <a:pt x="357" y="320"/>
                  </a:lnTo>
                  <a:lnTo>
                    <a:pt x="357" y="283"/>
                  </a:lnTo>
                  <a:lnTo>
                    <a:pt x="341" y="262"/>
                  </a:lnTo>
                  <a:lnTo>
                    <a:pt x="316" y="268"/>
                  </a:lnTo>
                  <a:lnTo>
                    <a:pt x="281" y="211"/>
                  </a:lnTo>
                  <a:lnTo>
                    <a:pt x="256" y="205"/>
                  </a:lnTo>
                  <a:lnTo>
                    <a:pt x="218" y="178"/>
                  </a:lnTo>
                  <a:lnTo>
                    <a:pt x="139" y="184"/>
                  </a:lnTo>
                  <a:lnTo>
                    <a:pt x="56" y="178"/>
                  </a:lnTo>
                  <a:lnTo>
                    <a:pt x="0" y="157"/>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7" name=""/>
            <p:cNvSpPr/>
            <p:nvPr/>
          </p:nvSpPr>
          <p:spPr>
            <a:xfrm>
              <a:off x="2405160" y="2408400"/>
              <a:ext cx="219600" cy="144720"/>
            </a:xfrm>
            <a:custGeom>
              <a:avLst/>
              <a:gdLst/>
              <a:ahLst/>
              <a:rect l="0" t="0" r="r" b="b"/>
              <a:pathLst>
                <a:path w="610" h="402">
                  <a:moveTo>
                    <a:pt x="22" y="0"/>
                  </a:moveTo>
                  <a:lnTo>
                    <a:pt x="0" y="33"/>
                  </a:lnTo>
                  <a:lnTo>
                    <a:pt x="0" y="69"/>
                  </a:lnTo>
                  <a:lnTo>
                    <a:pt x="44" y="112"/>
                  </a:lnTo>
                  <a:lnTo>
                    <a:pt x="70" y="100"/>
                  </a:lnTo>
                  <a:lnTo>
                    <a:pt x="76" y="115"/>
                  </a:lnTo>
                  <a:lnTo>
                    <a:pt x="108" y="121"/>
                  </a:lnTo>
                  <a:lnTo>
                    <a:pt x="124" y="94"/>
                  </a:lnTo>
                  <a:lnTo>
                    <a:pt x="185" y="100"/>
                  </a:lnTo>
                  <a:lnTo>
                    <a:pt x="192" y="127"/>
                  </a:lnTo>
                  <a:lnTo>
                    <a:pt x="214" y="136"/>
                  </a:lnTo>
                  <a:lnTo>
                    <a:pt x="265" y="133"/>
                  </a:lnTo>
                  <a:lnTo>
                    <a:pt x="281" y="148"/>
                  </a:lnTo>
                  <a:lnTo>
                    <a:pt x="306" y="164"/>
                  </a:lnTo>
                  <a:lnTo>
                    <a:pt x="329" y="194"/>
                  </a:lnTo>
                  <a:lnTo>
                    <a:pt x="329" y="238"/>
                  </a:lnTo>
                  <a:lnTo>
                    <a:pt x="313" y="250"/>
                  </a:lnTo>
                  <a:lnTo>
                    <a:pt x="319" y="265"/>
                  </a:lnTo>
                  <a:lnTo>
                    <a:pt x="294" y="289"/>
                  </a:lnTo>
                  <a:lnTo>
                    <a:pt x="294" y="326"/>
                  </a:lnTo>
                  <a:lnTo>
                    <a:pt x="332" y="332"/>
                  </a:lnTo>
                  <a:lnTo>
                    <a:pt x="354" y="323"/>
                  </a:lnTo>
                  <a:lnTo>
                    <a:pt x="364" y="308"/>
                  </a:lnTo>
                  <a:lnTo>
                    <a:pt x="376" y="323"/>
                  </a:lnTo>
                  <a:lnTo>
                    <a:pt x="396" y="311"/>
                  </a:lnTo>
                  <a:lnTo>
                    <a:pt x="443" y="332"/>
                  </a:lnTo>
                  <a:lnTo>
                    <a:pt x="473" y="368"/>
                  </a:lnTo>
                  <a:lnTo>
                    <a:pt x="483" y="368"/>
                  </a:lnTo>
                  <a:lnTo>
                    <a:pt x="486" y="390"/>
                  </a:lnTo>
                  <a:lnTo>
                    <a:pt x="518" y="402"/>
                  </a:lnTo>
                  <a:lnTo>
                    <a:pt x="550" y="402"/>
                  </a:lnTo>
                  <a:lnTo>
                    <a:pt x="530" y="381"/>
                  </a:lnTo>
                  <a:lnTo>
                    <a:pt x="537" y="359"/>
                  </a:lnTo>
                  <a:lnTo>
                    <a:pt x="562" y="381"/>
                  </a:lnTo>
                  <a:lnTo>
                    <a:pt x="594" y="384"/>
                  </a:lnTo>
                  <a:lnTo>
                    <a:pt x="597" y="353"/>
                  </a:lnTo>
                  <a:lnTo>
                    <a:pt x="569" y="326"/>
                  </a:lnTo>
                  <a:lnTo>
                    <a:pt x="546" y="326"/>
                  </a:lnTo>
                  <a:lnTo>
                    <a:pt x="518" y="301"/>
                  </a:lnTo>
                  <a:lnTo>
                    <a:pt x="546" y="301"/>
                  </a:lnTo>
                  <a:lnTo>
                    <a:pt x="569" y="317"/>
                  </a:lnTo>
                  <a:lnTo>
                    <a:pt x="610" y="317"/>
                  </a:lnTo>
                  <a:lnTo>
                    <a:pt x="600" y="286"/>
                  </a:lnTo>
                  <a:lnTo>
                    <a:pt x="562" y="253"/>
                  </a:lnTo>
                  <a:lnTo>
                    <a:pt x="537" y="250"/>
                  </a:lnTo>
                  <a:lnTo>
                    <a:pt x="499" y="210"/>
                  </a:lnTo>
                  <a:lnTo>
                    <a:pt x="453" y="200"/>
                  </a:lnTo>
                  <a:lnTo>
                    <a:pt x="415" y="185"/>
                  </a:lnTo>
                  <a:lnTo>
                    <a:pt x="383" y="136"/>
                  </a:lnTo>
                  <a:lnTo>
                    <a:pt x="364" y="76"/>
                  </a:lnTo>
                  <a:lnTo>
                    <a:pt x="332" y="76"/>
                  </a:lnTo>
                  <a:lnTo>
                    <a:pt x="325" y="57"/>
                  </a:lnTo>
                  <a:lnTo>
                    <a:pt x="306" y="63"/>
                  </a:lnTo>
                  <a:lnTo>
                    <a:pt x="278" y="36"/>
                  </a:lnTo>
                  <a:lnTo>
                    <a:pt x="227" y="27"/>
                  </a:lnTo>
                  <a:lnTo>
                    <a:pt x="204" y="42"/>
                  </a:lnTo>
                  <a:lnTo>
                    <a:pt x="160" y="27"/>
                  </a:lnTo>
                  <a:lnTo>
                    <a:pt x="127" y="27"/>
                  </a:lnTo>
                  <a:lnTo>
                    <a:pt x="114" y="6"/>
                  </a:lnTo>
                  <a:lnTo>
                    <a:pt x="98" y="0"/>
                  </a:lnTo>
                  <a:lnTo>
                    <a:pt x="76" y="6"/>
                  </a:lnTo>
                  <a:lnTo>
                    <a:pt x="22" y="0"/>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8" name=""/>
            <p:cNvSpPr/>
            <p:nvPr/>
          </p:nvSpPr>
          <p:spPr>
            <a:xfrm>
              <a:off x="2529000" y="3198960"/>
              <a:ext cx="157680" cy="63720"/>
            </a:xfrm>
            <a:custGeom>
              <a:avLst/>
              <a:gdLst/>
              <a:ahLst/>
              <a:rect l="0" t="0" r="r" b="b"/>
              <a:pathLst>
                <a:path w="438" h="177">
                  <a:moveTo>
                    <a:pt x="0" y="89"/>
                  </a:moveTo>
                  <a:lnTo>
                    <a:pt x="38" y="36"/>
                  </a:lnTo>
                  <a:lnTo>
                    <a:pt x="58" y="36"/>
                  </a:lnTo>
                  <a:lnTo>
                    <a:pt x="87" y="9"/>
                  </a:lnTo>
                  <a:lnTo>
                    <a:pt x="123" y="9"/>
                  </a:lnTo>
                  <a:lnTo>
                    <a:pt x="130" y="3"/>
                  </a:lnTo>
                  <a:lnTo>
                    <a:pt x="143" y="0"/>
                  </a:lnTo>
                  <a:lnTo>
                    <a:pt x="188" y="30"/>
                  </a:lnTo>
                  <a:lnTo>
                    <a:pt x="201" y="51"/>
                  </a:lnTo>
                  <a:lnTo>
                    <a:pt x="207" y="42"/>
                  </a:lnTo>
                  <a:lnTo>
                    <a:pt x="243" y="60"/>
                  </a:lnTo>
                  <a:lnTo>
                    <a:pt x="266" y="60"/>
                  </a:lnTo>
                  <a:lnTo>
                    <a:pt x="282" y="79"/>
                  </a:lnTo>
                  <a:lnTo>
                    <a:pt x="311" y="89"/>
                  </a:lnTo>
                  <a:lnTo>
                    <a:pt x="311" y="116"/>
                  </a:lnTo>
                  <a:lnTo>
                    <a:pt x="370" y="116"/>
                  </a:lnTo>
                  <a:lnTo>
                    <a:pt x="383" y="140"/>
                  </a:lnTo>
                  <a:lnTo>
                    <a:pt x="415" y="140"/>
                  </a:lnTo>
                  <a:lnTo>
                    <a:pt x="438" y="174"/>
                  </a:lnTo>
                  <a:lnTo>
                    <a:pt x="425" y="177"/>
                  </a:lnTo>
                  <a:lnTo>
                    <a:pt x="415" y="168"/>
                  </a:lnTo>
                  <a:lnTo>
                    <a:pt x="412" y="162"/>
                  </a:lnTo>
                  <a:lnTo>
                    <a:pt x="383" y="168"/>
                  </a:lnTo>
                  <a:lnTo>
                    <a:pt x="373" y="174"/>
                  </a:lnTo>
                  <a:lnTo>
                    <a:pt x="348" y="177"/>
                  </a:lnTo>
                  <a:lnTo>
                    <a:pt x="308" y="177"/>
                  </a:lnTo>
                  <a:lnTo>
                    <a:pt x="282" y="177"/>
                  </a:lnTo>
                  <a:lnTo>
                    <a:pt x="282" y="162"/>
                  </a:lnTo>
                  <a:lnTo>
                    <a:pt x="243" y="119"/>
                  </a:lnTo>
                  <a:lnTo>
                    <a:pt x="243" y="95"/>
                  </a:lnTo>
                  <a:lnTo>
                    <a:pt x="201" y="95"/>
                  </a:lnTo>
                  <a:lnTo>
                    <a:pt x="182" y="79"/>
                  </a:lnTo>
                  <a:lnTo>
                    <a:pt x="169" y="95"/>
                  </a:lnTo>
                  <a:lnTo>
                    <a:pt x="156" y="72"/>
                  </a:lnTo>
                  <a:lnTo>
                    <a:pt x="143" y="72"/>
                  </a:lnTo>
                  <a:lnTo>
                    <a:pt x="143" y="45"/>
                  </a:lnTo>
                  <a:lnTo>
                    <a:pt x="130" y="36"/>
                  </a:lnTo>
                  <a:lnTo>
                    <a:pt x="90" y="42"/>
                  </a:lnTo>
                  <a:lnTo>
                    <a:pt x="64" y="72"/>
                  </a:lnTo>
                  <a:lnTo>
                    <a:pt x="35" y="79"/>
                  </a:lnTo>
                  <a:lnTo>
                    <a:pt x="0" y="89"/>
                  </a:lnTo>
                  <a:close/>
                </a:path>
              </a:pathLst>
            </a:custGeom>
            <a:solidFill>
              <a:srgbClr val="618ffd"/>
            </a:solidFill>
            <a:ln w="25560">
              <a:solidFill>
                <a:srgbClr val="919191"/>
              </a:solidFill>
              <a:round/>
            </a:ln>
          </p:spPr>
          <p:txBody>
            <a:bodyPr lIns="102600" rIns="102600" tIns="6120" bIns="6120" anchor="t">
              <a:noAutofit/>
            </a:bodyPr>
            <a:p>
              <a:endParaRPr b="0" lang="en-US" sz="1800" spc="-1" strike="noStrike">
                <a:solidFill>
                  <a:srgbClr val="000000"/>
                </a:solidFill>
                <a:latin typeface="Arial"/>
              </a:endParaRPr>
            </a:p>
          </p:txBody>
        </p:sp>
        <p:sp>
          <p:nvSpPr>
            <p:cNvPr id="259" name=""/>
            <p:cNvSpPr/>
            <p:nvPr/>
          </p:nvSpPr>
          <p:spPr>
            <a:xfrm>
              <a:off x="2665440" y="3244680"/>
              <a:ext cx="95760" cy="54360"/>
            </a:xfrm>
            <a:custGeom>
              <a:avLst/>
              <a:gdLst/>
              <a:ahLst/>
              <a:rect l="0" t="0" r="r" b="b"/>
              <a:pathLst>
                <a:path w="266" h="151">
                  <a:moveTo>
                    <a:pt x="0" y="115"/>
                  </a:moveTo>
                  <a:lnTo>
                    <a:pt x="24" y="121"/>
                  </a:lnTo>
                  <a:lnTo>
                    <a:pt x="85" y="115"/>
                  </a:lnTo>
                  <a:lnTo>
                    <a:pt x="109" y="145"/>
                  </a:lnTo>
                  <a:lnTo>
                    <a:pt x="141" y="151"/>
                  </a:lnTo>
                  <a:lnTo>
                    <a:pt x="159" y="115"/>
                  </a:lnTo>
                  <a:lnTo>
                    <a:pt x="150" y="102"/>
                  </a:lnTo>
                  <a:lnTo>
                    <a:pt x="165" y="87"/>
                  </a:lnTo>
                  <a:lnTo>
                    <a:pt x="201" y="115"/>
                  </a:lnTo>
                  <a:lnTo>
                    <a:pt x="226" y="115"/>
                  </a:lnTo>
                  <a:lnTo>
                    <a:pt x="226" y="99"/>
                  </a:lnTo>
                  <a:lnTo>
                    <a:pt x="241" y="99"/>
                  </a:lnTo>
                  <a:lnTo>
                    <a:pt x="266" y="72"/>
                  </a:lnTo>
                  <a:lnTo>
                    <a:pt x="251" y="66"/>
                  </a:lnTo>
                  <a:lnTo>
                    <a:pt x="251" y="42"/>
                  </a:lnTo>
                  <a:lnTo>
                    <a:pt x="251" y="20"/>
                  </a:lnTo>
                  <a:lnTo>
                    <a:pt x="213" y="14"/>
                  </a:lnTo>
                  <a:lnTo>
                    <a:pt x="184" y="20"/>
                  </a:lnTo>
                  <a:lnTo>
                    <a:pt x="159" y="20"/>
                  </a:lnTo>
                  <a:lnTo>
                    <a:pt x="122" y="14"/>
                  </a:lnTo>
                  <a:lnTo>
                    <a:pt x="91" y="0"/>
                  </a:lnTo>
                  <a:lnTo>
                    <a:pt x="85" y="14"/>
                  </a:lnTo>
                  <a:lnTo>
                    <a:pt x="78" y="45"/>
                  </a:lnTo>
                  <a:lnTo>
                    <a:pt x="49" y="45"/>
                  </a:lnTo>
                  <a:lnTo>
                    <a:pt x="40" y="72"/>
                  </a:lnTo>
                  <a:lnTo>
                    <a:pt x="24" y="84"/>
                  </a:lnTo>
                  <a:lnTo>
                    <a:pt x="0" y="115"/>
                  </a:lnTo>
                  <a:close/>
                </a:path>
              </a:pathLst>
            </a:custGeom>
            <a:solidFill>
              <a:srgbClr val="618ffd"/>
            </a:solidFill>
            <a:ln w="25560">
              <a:solidFill>
                <a:srgbClr val="919191"/>
              </a:solidFill>
              <a:round/>
            </a:ln>
          </p:spPr>
          <p:txBody>
            <a:bodyPr lIns="102600" rIns="102600" tIns="-3240" bIns="-3240" anchor="t">
              <a:noAutofit/>
            </a:bodyPr>
            <a:p>
              <a:endParaRPr b="0" lang="en-US" sz="1800" spc="-1" strike="noStrike">
                <a:solidFill>
                  <a:srgbClr val="000000"/>
                </a:solidFill>
                <a:latin typeface="Arial"/>
              </a:endParaRPr>
            </a:p>
          </p:txBody>
        </p:sp>
        <p:sp>
          <p:nvSpPr>
            <p:cNvPr id="260" name=""/>
            <p:cNvSpPr/>
            <p:nvPr/>
          </p:nvSpPr>
          <p:spPr>
            <a:xfrm>
              <a:off x="2602080" y="3403440"/>
              <a:ext cx="625680" cy="1143360"/>
            </a:xfrm>
            <a:custGeom>
              <a:avLst/>
              <a:gdLst/>
              <a:ahLst/>
              <a:rect l="0" t="0" r="r" b="b"/>
              <a:pathLst>
                <a:path w="1738" h="3176">
                  <a:moveTo>
                    <a:pt x="136" y="138"/>
                  </a:moveTo>
                  <a:lnTo>
                    <a:pt x="158" y="102"/>
                  </a:lnTo>
                  <a:lnTo>
                    <a:pt x="199" y="51"/>
                  </a:lnTo>
                  <a:lnTo>
                    <a:pt x="263" y="21"/>
                  </a:lnTo>
                  <a:lnTo>
                    <a:pt x="298" y="0"/>
                  </a:lnTo>
                  <a:lnTo>
                    <a:pt x="329" y="6"/>
                  </a:lnTo>
                  <a:lnTo>
                    <a:pt x="323" y="30"/>
                  </a:lnTo>
                  <a:lnTo>
                    <a:pt x="285" y="57"/>
                  </a:lnTo>
                  <a:lnTo>
                    <a:pt x="275" y="108"/>
                  </a:lnTo>
                  <a:lnTo>
                    <a:pt x="285" y="150"/>
                  </a:lnTo>
                  <a:lnTo>
                    <a:pt x="317" y="150"/>
                  </a:lnTo>
                  <a:lnTo>
                    <a:pt x="329" y="102"/>
                  </a:lnTo>
                  <a:lnTo>
                    <a:pt x="339" y="57"/>
                  </a:lnTo>
                  <a:lnTo>
                    <a:pt x="361" y="72"/>
                  </a:lnTo>
                  <a:lnTo>
                    <a:pt x="386" y="99"/>
                  </a:lnTo>
                  <a:lnTo>
                    <a:pt x="428" y="87"/>
                  </a:lnTo>
                  <a:lnTo>
                    <a:pt x="453" y="108"/>
                  </a:lnTo>
                  <a:lnTo>
                    <a:pt x="462" y="135"/>
                  </a:lnTo>
                  <a:lnTo>
                    <a:pt x="526" y="123"/>
                  </a:lnTo>
                  <a:lnTo>
                    <a:pt x="653" y="108"/>
                  </a:lnTo>
                  <a:lnTo>
                    <a:pt x="697" y="192"/>
                  </a:lnTo>
                  <a:lnTo>
                    <a:pt x="779" y="234"/>
                  </a:lnTo>
                  <a:lnTo>
                    <a:pt x="773" y="271"/>
                  </a:lnTo>
                  <a:lnTo>
                    <a:pt x="808" y="250"/>
                  </a:lnTo>
                  <a:lnTo>
                    <a:pt x="846" y="250"/>
                  </a:lnTo>
                  <a:lnTo>
                    <a:pt x="895" y="286"/>
                  </a:lnTo>
                  <a:lnTo>
                    <a:pt x="948" y="280"/>
                  </a:lnTo>
                  <a:lnTo>
                    <a:pt x="996" y="286"/>
                  </a:lnTo>
                  <a:lnTo>
                    <a:pt x="1072" y="352"/>
                  </a:lnTo>
                  <a:lnTo>
                    <a:pt x="1151" y="436"/>
                  </a:lnTo>
                  <a:lnTo>
                    <a:pt x="1186" y="530"/>
                  </a:lnTo>
                  <a:lnTo>
                    <a:pt x="1164" y="602"/>
                  </a:lnTo>
                  <a:lnTo>
                    <a:pt x="1262" y="629"/>
                  </a:lnTo>
                  <a:lnTo>
                    <a:pt x="1421" y="665"/>
                  </a:lnTo>
                  <a:lnTo>
                    <a:pt x="1586" y="707"/>
                  </a:lnTo>
                  <a:lnTo>
                    <a:pt x="1694" y="789"/>
                  </a:lnTo>
                  <a:lnTo>
                    <a:pt x="1738" y="867"/>
                  </a:lnTo>
                  <a:lnTo>
                    <a:pt x="1738" y="966"/>
                  </a:lnTo>
                  <a:lnTo>
                    <a:pt x="1697" y="1057"/>
                  </a:lnTo>
                  <a:lnTo>
                    <a:pt x="1649" y="1102"/>
                  </a:lnTo>
                  <a:lnTo>
                    <a:pt x="1621" y="1132"/>
                  </a:lnTo>
                  <a:lnTo>
                    <a:pt x="1586" y="1201"/>
                  </a:lnTo>
                  <a:lnTo>
                    <a:pt x="1583" y="1259"/>
                  </a:lnTo>
                  <a:lnTo>
                    <a:pt x="1586" y="1331"/>
                  </a:lnTo>
                  <a:lnTo>
                    <a:pt x="1570" y="1403"/>
                  </a:lnTo>
                  <a:lnTo>
                    <a:pt x="1545" y="1421"/>
                  </a:lnTo>
                  <a:lnTo>
                    <a:pt x="1535" y="1460"/>
                  </a:lnTo>
                  <a:lnTo>
                    <a:pt x="1506" y="1494"/>
                  </a:lnTo>
                  <a:lnTo>
                    <a:pt x="1503" y="1530"/>
                  </a:lnTo>
                  <a:lnTo>
                    <a:pt x="1465" y="1572"/>
                  </a:lnTo>
                  <a:lnTo>
                    <a:pt x="1405" y="1645"/>
                  </a:lnTo>
                  <a:lnTo>
                    <a:pt x="1354" y="1666"/>
                  </a:lnTo>
                  <a:lnTo>
                    <a:pt x="1319" y="1660"/>
                  </a:lnTo>
                  <a:lnTo>
                    <a:pt x="1256" y="1696"/>
                  </a:lnTo>
                  <a:lnTo>
                    <a:pt x="1193" y="1781"/>
                  </a:lnTo>
                  <a:lnTo>
                    <a:pt x="1180" y="1811"/>
                  </a:lnTo>
                  <a:lnTo>
                    <a:pt x="1180" y="1853"/>
                  </a:lnTo>
                  <a:lnTo>
                    <a:pt x="1193" y="1898"/>
                  </a:lnTo>
                  <a:lnTo>
                    <a:pt x="1164" y="1946"/>
                  </a:lnTo>
                  <a:lnTo>
                    <a:pt x="1164" y="1983"/>
                  </a:lnTo>
                  <a:lnTo>
                    <a:pt x="1113" y="2025"/>
                  </a:lnTo>
                  <a:lnTo>
                    <a:pt x="1075" y="2055"/>
                  </a:lnTo>
                  <a:lnTo>
                    <a:pt x="1047" y="2103"/>
                  </a:lnTo>
                  <a:lnTo>
                    <a:pt x="1034" y="2148"/>
                  </a:lnTo>
                  <a:lnTo>
                    <a:pt x="990" y="2206"/>
                  </a:lnTo>
                  <a:lnTo>
                    <a:pt x="974" y="2196"/>
                  </a:lnTo>
                  <a:lnTo>
                    <a:pt x="939" y="2196"/>
                  </a:lnTo>
                  <a:lnTo>
                    <a:pt x="898" y="2218"/>
                  </a:lnTo>
                  <a:lnTo>
                    <a:pt x="926" y="2242"/>
                  </a:lnTo>
                  <a:lnTo>
                    <a:pt x="926" y="2296"/>
                  </a:lnTo>
                  <a:lnTo>
                    <a:pt x="923" y="2338"/>
                  </a:lnTo>
                  <a:lnTo>
                    <a:pt x="901" y="2368"/>
                  </a:lnTo>
                  <a:lnTo>
                    <a:pt x="846" y="2374"/>
                  </a:lnTo>
                  <a:lnTo>
                    <a:pt x="805" y="2389"/>
                  </a:lnTo>
                  <a:lnTo>
                    <a:pt x="783" y="2419"/>
                  </a:lnTo>
                  <a:lnTo>
                    <a:pt x="783" y="2474"/>
                  </a:lnTo>
                  <a:lnTo>
                    <a:pt x="732" y="2483"/>
                  </a:lnTo>
                  <a:lnTo>
                    <a:pt x="691" y="2474"/>
                  </a:lnTo>
                  <a:lnTo>
                    <a:pt x="678" y="2498"/>
                  </a:lnTo>
                  <a:lnTo>
                    <a:pt x="697" y="2519"/>
                  </a:lnTo>
                  <a:lnTo>
                    <a:pt x="684" y="2597"/>
                  </a:lnTo>
                  <a:lnTo>
                    <a:pt x="668" y="2663"/>
                  </a:lnTo>
                  <a:lnTo>
                    <a:pt x="615" y="2663"/>
                  </a:lnTo>
                  <a:lnTo>
                    <a:pt x="596" y="2691"/>
                  </a:lnTo>
                  <a:lnTo>
                    <a:pt x="602" y="2742"/>
                  </a:lnTo>
                  <a:lnTo>
                    <a:pt x="630" y="2742"/>
                  </a:lnTo>
                  <a:lnTo>
                    <a:pt x="653" y="2775"/>
                  </a:lnTo>
                  <a:lnTo>
                    <a:pt x="640" y="2826"/>
                  </a:lnTo>
                  <a:lnTo>
                    <a:pt x="608" y="2832"/>
                  </a:lnTo>
                  <a:lnTo>
                    <a:pt x="564" y="2853"/>
                  </a:lnTo>
                  <a:lnTo>
                    <a:pt x="551" y="2892"/>
                  </a:lnTo>
                  <a:lnTo>
                    <a:pt x="545" y="2956"/>
                  </a:lnTo>
                  <a:lnTo>
                    <a:pt x="516" y="2989"/>
                  </a:lnTo>
                  <a:lnTo>
                    <a:pt x="621" y="3091"/>
                  </a:lnTo>
                  <a:lnTo>
                    <a:pt x="653" y="3142"/>
                  </a:lnTo>
                  <a:lnTo>
                    <a:pt x="634" y="3176"/>
                  </a:lnTo>
                  <a:lnTo>
                    <a:pt x="589" y="3154"/>
                  </a:lnTo>
                  <a:lnTo>
                    <a:pt x="551" y="3112"/>
                  </a:lnTo>
                  <a:lnTo>
                    <a:pt x="494" y="3082"/>
                  </a:lnTo>
                  <a:lnTo>
                    <a:pt x="443" y="3028"/>
                  </a:lnTo>
                  <a:lnTo>
                    <a:pt x="412" y="2968"/>
                  </a:lnTo>
                  <a:lnTo>
                    <a:pt x="405" y="2913"/>
                  </a:lnTo>
                  <a:lnTo>
                    <a:pt x="415" y="2874"/>
                  </a:lnTo>
                  <a:lnTo>
                    <a:pt x="412" y="2534"/>
                  </a:lnTo>
                  <a:lnTo>
                    <a:pt x="399" y="2474"/>
                  </a:lnTo>
                  <a:lnTo>
                    <a:pt x="361" y="2410"/>
                  </a:lnTo>
                  <a:lnTo>
                    <a:pt x="361" y="2353"/>
                  </a:lnTo>
                  <a:lnTo>
                    <a:pt x="386" y="2284"/>
                  </a:lnTo>
                  <a:lnTo>
                    <a:pt x="405" y="2203"/>
                  </a:lnTo>
                  <a:lnTo>
                    <a:pt x="399" y="2118"/>
                  </a:lnTo>
                  <a:lnTo>
                    <a:pt x="393" y="2082"/>
                  </a:lnTo>
                  <a:lnTo>
                    <a:pt x="389" y="2034"/>
                  </a:lnTo>
                  <a:lnTo>
                    <a:pt x="402" y="2013"/>
                  </a:lnTo>
                  <a:lnTo>
                    <a:pt x="412" y="1919"/>
                  </a:lnTo>
                  <a:lnTo>
                    <a:pt x="402" y="1874"/>
                  </a:lnTo>
                  <a:lnTo>
                    <a:pt x="418" y="1760"/>
                  </a:lnTo>
                  <a:lnTo>
                    <a:pt x="402" y="1660"/>
                  </a:lnTo>
                  <a:lnTo>
                    <a:pt x="415" y="1609"/>
                  </a:lnTo>
                  <a:lnTo>
                    <a:pt x="437" y="1509"/>
                  </a:lnTo>
                  <a:lnTo>
                    <a:pt x="415" y="1445"/>
                  </a:lnTo>
                  <a:lnTo>
                    <a:pt x="374" y="1400"/>
                  </a:lnTo>
                  <a:lnTo>
                    <a:pt x="361" y="1346"/>
                  </a:lnTo>
                  <a:lnTo>
                    <a:pt x="313" y="1301"/>
                  </a:lnTo>
                  <a:lnTo>
                    <a:pt x="263" y="1268"/>
                  </a:lnTo>
                  <a:lnTo>
                    <a:pt x="190" y="1253"/>
                  </a:lnTo>
                  <a:lnTo>
                    <a:pt x="158" y="1180"/>
                  </a:lnTo>
                  <a:lnTo>
                    <a:pt x="110" y="1114"/>
                  </a:lnTo>
                  <a:lnTo>
                    <a:pt x="107" y="1057"/>
                  </a:lnTo>
                  <a:lnTo>
                    <a:pt x="101" y="1003"/>
                  </a:lnTo>
                  <a:lnTo>
                    <a:pt x="88" y="966"/>
                  </a:lnTo>
                  <a:lnTo>
                    <a:pt x="63" y="924"/>
                  </a:lnTo>
                  <a:lnTo>
                    <a:pt x="31" y="903"/>
                  </a:lnTo>
                  <a:lnTo>
                    <a:pt x="6" y="864"/>
                  </a:lnTo>
                  <a:lnTo>
                    <a:pt x="34" y="828"/>
                  </a:lnTo>
                  <a:lnTo>
                    <a:pt x="34" y="738"/>
                  </a:lnTo>
                  <a:lnTo>
                    <a:pt x="19" y="692"/>
                  </a:lnTo>
                  <a:lnTo>
                    <a:pt x="0" y="644"/>
                  </a:lnTo>
                  <a:lnTo>
                    <a:pt x="19" y="578"/>
                  </a:lnTo>
                  <a:lnTo>
                    <a:pt x="85" y="409"/>
                  </a:lnTo>
                  <a:lnTo>
                    <a:pt x="88" y="337"/>
                  </a:lnTo>
                  <a:lnTo>
                    <a:pt x="126" y="259"/>
                  </a:lnTo>
                  <a:lnTo>
                    <a:pt x="126" y="216"/>
                  </a:lnTo>
                  <a:lnTo>
                    <a:pt x="136" y="138"/>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61" name=""/>
          <p:cNvSpPr txBox="1"/>
          <p:nvPr/>
        </p:nvSpPr>
        <p:spPr>
          <a:xfrm>
            <a:off x="5203800" y="1990800"/>
            <a:ext cx="1041480" cy="385920"/>
          </a:xfrm>
          <a:prstGeom prst="rect">
            <a:avLst/>
          </a:prstGeom>
          <a:solidFill>
            <a:srgbClr val="ffffff"/>
          </a:solidFill>
          <a:ln w="12600">
            <a:solidFill>
              <a:srgbClr val="000000"/>
            </a:solidFill>
            <a:round/>
            <a:tailEnd len="med" type="triangle" w="med"/>
          </a:ln>
        </p:spPr>
        <p:txBody>
          <a:bodyPr lIns="0" rIns="0" tIns="0" bIns="0" anchor="t">
            <a:noAutofit/>
          </a:bodyPr>
          <a:p>
            <a:pPr>
              <a:lnSpc>
                <a:spcPct val="100000"/>
              </a:lnSpc>
            </a:pPr>
            <a:r>
              <a:rPr b="1" lang="en-US" sz="1800" spc="-1" strike="noStrike">
                <a:solidFill>
                  <a:srgbClr val="000000"/>
                </a:solidFill>
                <a:latin typeface="Arial"/>
                <a:ea typeface="Arial"/>
              </a:rPr>
              <a:t>2.4 GHz</a:t>
            </a:r>
            <a:endParaRPr b="0" lang="en-US" sz="1800" spc="-1" strike="noStrike">
              <a:solidFill>
                <a:srgbClr val="000000"/>
              </a:solidFill>
              <a:latin typeface="Arial"/>
            </a:endParaRPr>
          </a:p>
        </p:txBody>
      </p:sp>
      <p:sp>
        <p:nvSpPr>
          <p:cNvPr id="262" name=""/>
          <p:cNvSpPr txBox="1"/>
          <p:nvPr/>
        </p:nvSpPr>
        <p:spPr>
          <a:xfrm>
            <a:off x="1660680" y="6049800"/>
            <a:ext cx="1387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 Certification in progres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Frequency Hopping</a:t>
            </a:r>
            <a:endParaRPr b="0" lang="en-US" sz="3600" spc="-1" strike="noStrike">
              <a:solidFill>
                <a:srgbClr val="000000"/>
              </a:solidFill>
              <a:latin typeface="Arial"/>
            </a:endParaRPr>
          </a:p>
        </p:txBody>
      </p:sp>
      <p:sp>
        <p:nvSpPr>
          <p:cNvPr id="264"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equency Hopping 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 Breezecom</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September 1993</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Frequency Hopping</a:t>
            </a:r>
            <a:endParaRPr b="0" lang="en-US" sz="3600" spc="-1" strike="noStrike">
              <a:solidFill>
                <a:srgbClr val="000000"/>
              </a:solidFill>
              <a:latin typeface="Arial"/>
            </a:endParaRPr>
          </a:p>
        </p:txBody>
      </p:sp>
      <p:sp>
        <p:nvSpPr>
          <p:cNvPr id="266"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Jan Boer , Lucent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July 1992</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68"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expert available at this meet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arly visible ligh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50 nanometer to 950 nanometer rang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ffuse Infrared” transmiss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receiver and transmitter do not have to be aimed at each other and do not need a clear line-of-sigh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ange up to about ten meter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buil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a:t>
            </a:r>
            <a:endParaRPr b="0" lang="en-US" sz="3600" spc="-1" strike="noStrike">
              <a:solidFill>
                <a:srgbClr val="000000"/>
              </a:solidFill>
              <a:latin typeface="Arial"/>
            </a:endParaRPr>
          </a:p>
        </p:txBody>
      </p:sp>
      <p:sp>
        <p:nvSpPr>
          <p:cNvPr id="5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udy the environment and applicat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70"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ame Forma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FD, start frame delimiter</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R, data rat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CLA, DC level adjustment</a:t>
            </a:r>
            <a:endParaRPr b="0" lang="en-US" sz="2000" spc="-1" strike="noStrike">
              <a:solidFill>
                <a:srgbClr val="000000"/>
              </a:solidFill>
              <a:latin typeface="Arial"/>
            </a:endParaRPr>
          </a:p>
        </p:txBody>
      </p:sp>
      <p:pic>
        <p:nvPicPr>
          <p:cNvPr id="271" name="" descr=""/>
          <p:cNvPicPr/>
          <p:nvPr/>
        </p:nvPicPr>
        <p:blipFill>
          <a:blip r:embed="rId1"/>
          <a:stretch/>
        </p:blipFill>
        <p:spPr>
          <a:xfrm>
            <a:off x="781200" y="3157560"/>
            <a:ext cx="7564320" cy="985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7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sic Access Rate is based on 1 Mbit/s 16-PPM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hanced Access Rate is based on 2 Mbit/s 4-PP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utorial on 802.11 to 802</a:t>
            </a:r>
            <a:endParaRPr b="0" lang="en-US" sz="3600" spc="-1" strike="noStrike">
              <a:solidFill>
                <a:srgbClr val="000000"/>
              </a:solidFill>
              <a:latin typeface="Arial"/>
            </a:endParaRPr>
          </a:p>
        </p:txBody>
      </p:sp>
      <p:sp>
        <p:nvSpPr>
          <p:cNvPr id="275" name=""/>
          <p:cNvSpPr txBox="1"/>
          <p:nvPr/>
        </p:nvSpPr>
        <p:spPr>
          <a:xfrm>
            <a:off x="685800" y="1428840"/>
            <a:ext cx="7772400" cy="51246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76" name=""/>
          <p:cNvSpPr txBox="1"/>
          <p:nvPr/>
        </p:nvSpPr>
        <p:spPr>
          <a:xfrm>
            <a:off x="3022560" y="2865600"/>
            <a:ext cx="2835360" cy="824040"/>
          </a:xfrm>
          <a:prstGeom prst="rect">
            <a:avLst/>
          </a:prstGeom>
          <a:noFill/>
          <a:ln w="0">
            <a:noFill/>
          </a:ln>
        </p:spPr>
        <p:txBody>
          <a:bodyPr lIns="0" rIns="0" tIns="0" bIns="0" anchor="t">
            <a:noAutofit/>
          </a:bodyPr>
          <a:p>
            <a:pPr lvl="1" marL="457200">
              <a:lnSpc>
                <a:spcPct val="100000"/>
              </a:lnSpc>
              <a:spcBef>
                <a:spcPts val="479"/>
              </a:spcBef>
              <a:buClr>
                <a:srgbClr val="000000"/>
              </a:buClr>
              <a:buFont typeface="Monotype Sorts"/>
              <a:buChar char=""/>
            </a:pPr>
            <a:r>
              <a:rPr b="0" lang="en-US" sz="4800" spc="-1" strike="noStrike">
                <a:solidFill>
                  <a:srgbClr val="000000"/>
                </a:solidFill>
                <a:latin typeface="Times New Roman"/>
                <a:ea typeface="Times New Roman"/>
              </a:rPr>
              <a:t>the en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PAR)</a:t>
            </a:r>
            <a:endParaRPr b="0" lang="en-US" sz="3600" spc="-1" strike="noStrike">
              <a:solidFill>
                <a:srgbClr val="000000"/>
              </a:solidFill>
              <a:latin typeface="Arial"/>
            </a:endParaRPr>
          </a:p>
        </p:txBody>
      </p:sp>
      <p:sp>
        <p:nvSpPr>
          <p:cNvPr id="5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ject Authorization Request (PA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itle: Standard for Wireless Medium Access Method (MAC) and Physical Layer (PHY) Specification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develop a Medium Access Control (MAC) and Physical Layer (PHY) specification for wireless connectivity for fixed, portable and moving stations within a local are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provide wireless connectivity to automatic machinery, equipment or, stations that require rapid deployment, which may be portable, or hand-held or which may be mounted on moving vehicles within a local area.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offer a standard for use by regulatory  bodies to standardize access to one or more radio frequency bands for the purpose of </a:t>
            </a:r>
            <a:br>
              <a:rPr sz="2000"/>
            </a:br>
            <a:r>
              <a:rPr b="0" lang="en-US" sz="2000" spc="-1" strike="noStrike">
                <a:solidFill>
                  <a:srgbClr val="000000"/>
                </a:solidFill>
                <a:latin typeface="Times New Roman"/>
                <a:ea typeface="Times New Roman"/>
              </a:rPr>
              <a:t>local area commun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57"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ype of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goal is that the MAC shall support PHYs using electromagnetic waves through the air (i.e.. radio waves as well as infra-red or visible ligh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layer suitable for use with the electromagnetic frequency spectrum as described in the following paragraph will be defined with this standard.  If evidence of need and sufficient interest exists other PHY layers will be considered at a later tim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ed St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tandard shall support stationary stations, movable stations, and mobile stations moving at pedestrian and vehicular (local premises environment) speeds. This is to be implemented with one PHY if fea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59"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viron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ecause the range of wireless transmission / reception may be smaller than the physical coverage area desired, a distribution system designed to provide range extensibility will be addressed as part of this standar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tandard will include support of the following:</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sic Service Area (BSA)</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which each station can communicate with any other station in the BSA. </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xtended Service Area (ESA)</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which each station can communicate with any other station via the defined and managed Distribution Syste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s which interoperate in both BSA and ESA shall be defined if fea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ssible target environments includ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 buildings and other premises such as offices, financial institutions, shops, malls, small and large industry, hospitals and residence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utdoor areas such as parking lots, campuses, building complexes and outdoor plants and storag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te: The definition of performance classes within a PHY may be necessary to support environments with benign or hostile characteristic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ed servi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Wireless MAC shall support both connectionless service as defined in the MAC Service definition at rates between 1 and 20 Mbit/s as well as a service supporting packetized vo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patibility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pecification shall meet the following standards and document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IEEE P802 Functional Requirements including section 5.6.1 (in version 6.5) as defined below:</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5.6.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AC Service Data Unit (MSDU) loss rate shall be less than 4*10E-5 for an MSDU length of 512 octe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 minimally conformant IEEE P802.11 network will meet all of the P802 requirements except that 5.6.1 will be met at least 99.9 % of the time on a daily basis, in 99.9 % of the total geography of the service are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 will define approaches to allow a minimally conformant network to achieve full conformance over the total geography of the servic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ta Service Typ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02.11 will provide two classes of MSDU delivery servic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An Asynchronous MSDU delivery service.</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2) A Time-bounded MSDU delivery servi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 802.11 implementations will support the Asynchronous class servic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s using the Asynchronous and/or Time-bounded service must coexist within the same BS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 / PHY interfa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 single MAC will be used to support multiple PH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General</dc:subject>
  <dc:title>Tutorial on 802.11 to 802 </dc:title>
</cp:coreProperties>
</file>