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EF94B04-0EA1-4A93-A01E-E5A39C524187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6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8-12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schede,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uly 8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-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D4 letter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panese call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ly comments on NPRM 96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Exec     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Comm. 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|IR! opt!opt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!MAC !PHY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Joll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ltham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4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Reg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 10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6th Session of meetings of IEEE P802.11 Wireless Local Area Networks  Tentative Agenda</dc:title>
</cp:coreProperties>
</file>