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5E875C-0DAA-4BE3-A90D-F3CA56C2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21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May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6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in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t handl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: C#10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eded work to supply missing Challenge text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e - only a reference correction needed so correction was editorial not technical - author agrees - comment closed with autho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8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0-40 comments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2, 10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S poll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cline 102, 103 withdrawn, text added to clarify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ccept - only send CTS if nav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back off after xmit, rec=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llapse 2 overlapping sub section text re directed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lete some text from 9.2.8 (explan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d one goal - Process D3 LB comments and prepare D4.0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made it. (99.84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ntradiction fixed re CF ack vs null data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larify sentence re PCF issuing of some fam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ding word to 9.2.5.2 re when use backof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0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exchg sequences doc 96/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opt 96/76 as amended by MF and discussion - revised paper provided by JZ to  for edit into clause 9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1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esetting NAV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, C#: 126, 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rifies PCF operation re getting on medium - requires sensing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B change for DTIM default value. from 5 t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#: 133, 134, 135, 130, 113 Back off and R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.2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recov responsibility of initiating sta of fam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s erro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s retry limits and 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: 139, 1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ime Out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 and CTS subclauses added para to deal  how time out is detected, distinguishes differen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ly wording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54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gs in order (not MSDUs in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= ac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0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Mar/96 plen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r MAC minutes appro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ust wait for Quorum in J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: C#43, 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clarification of PSP - must get, vs can get data from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opened in Mar plenary - swapped 42/43 so that 42 is 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ges clause 11.2.1.4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C#17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andomization of beacons at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hange 11.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 re C#17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ross Clause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/MC 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21: multi-cast reliability from Jan (multiple com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cast reliability Clause 11 C# 14,44,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dopt 96/15 and 96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3, 0,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Plenary Vote: 4, 7,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mments still open - not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72,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: c#67,91,92,100,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ccept 96/79R1 + change to encoding of supported rates, and incorporate into draft, and close related LB comments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mended to be as above “except for the portion of 96/79R1 which pertains to clause 14 and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 on amended motion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and Annex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plicit that CF frames not used outside Cf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D3.1 statement added to 9.3.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1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able to process - refers to previous letter ballot comment with out any specific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ils comment instru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- we looked, no action request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ork wa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&amp;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2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nimally conformant network statement per PAR requ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add def to clause 3 and ref in 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al: to add in clause 3 (defs)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minimally conformant IEEE P802.11 network is one in which there are at least two Stations in a single BSA which are conformant with P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3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nection, connectionless, voice service (VH) no action requested in com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without action and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tion requested (none)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Editorial com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7 thru 111, 114, 115, 120, 125, 126, 128 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s will process for D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7 k vs. K - Fixed in D3.1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unan in Ma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Pat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2:dissatisfaction with Patent due diligence / procedur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refer to Vic to answer re procedure part and for contact to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motion: to close w/o taking action (mover says intent is to not take action wrt to draft text) on basis that comment is not technical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Work 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here on in report the comment tables (rev 7) have not yet been updated at time of report to reflect thurs morn actions - this needs to result in rev 8 of tables for ma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nnex: State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13 -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close with “we have a volunteer to update the annex” - comment author accepts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s update 96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adopt what MF has today for informative annex update and completed updates to be made avail to editors before D4.0 is pu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ICS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s: 3 thru 9, 104, 105, 106, 112 - PICs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, 4 are ed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 accepted, 4 ed - ed’s get, 5 fixed in text, 6 fix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7- done, 8 same as 7, 9 accepted. text re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4 missing refs to clause 5 &amp; 6 - accepted - tex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5 accepted by mar 96 motion 8, 106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2 accept - text not drafted yet. needs sec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recs for PICs comments, PICs text done so far, and remainder of PICs text will be given to editors in time for D4.0 cre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N doc for 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6/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96/89 as ASN MIB code and insert into a normative annex, any discrepancy between ASN code and this week’s work is considered editorial and editors will make the new annex consistent, also a statement will be added to annex that Annex takes precedence over other clauses in case of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0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C#34 TBTT and Next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decline comment on basis that comment is new functionality and does not have complete propose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# 35 when can change MI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decline comment and close comment with “you may change any MIB attribute whenever the std allows it - the operational wisdom of such action should be considered before doing 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ple MSDUs 96/91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dopt text in 96/91R1 except for the 2nd to last paragraph of the submission beginning with the word ‘the station shall insure that there is no group-addressed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7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IFS 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hat we insert into 9.2.3.1 “an 802.11 implementation shall not cause SIFS to vary from the nominal value by more than +/- 10% of aSlotTime for the PHY i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0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 Service classes, one ordered strictly, the othe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2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intain order at service interface instead of actual media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cussion (re)order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adopt 96/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last mo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incorporate the 2nd to last paragraph of 96/91r1 into draft 4.0 with the addition of the words “of strictly ordered service class” after “outstanding MSDU or MMPDU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pre-Jul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ward D4.0 for Sponsor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anticipate that the July mtg will be bor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2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3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4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5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