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FF5F9B-7D58-44E6-9C09-6700830AE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097F1434-76E8-4B57-AE57-6EF96BE0BB56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7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vember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ncouver, BC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Nov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LMSC (Sponsor)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e comments to Letter Ballot 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 8802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Exec     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     Comm. 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 |IR! opt!opt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|  !MAC !PHY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Patent Pol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schede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1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MSC (Sponsor) ballot on draft D5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SO/IEC JTC1/SC6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TU-R Working party 8A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Draf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les for Reg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ointment of 802.11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ation of Comment to LB on CD8802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Nov 13 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Nov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Nov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6th Session of meetings of IEEE P802.11 Wireless Local Area Networks  Tentative Agenda</dc:title>
</cp:coreProperties>
</file>