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7A6239-EFC0-4AEE-8EDE-31A1A5BA8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79840" y="310824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858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for a Wireless Personal Area Network Medium Access Control and Physical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305"/>
              </a:spcAf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c Technologies Corpo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0 Second St S.E., Cedar Rapids, 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19) 369-359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19) 369-329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neypw@norand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15.2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 300 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R 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357800" y="6475320"/>
            <a:ext cx="5032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GHz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wide regul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non-desired emissions from hos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bandwidths allow simple high speed modulation/demodula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 componentry from PCS and WLAN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wide regulatory as spread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, low current drain, spread spectrum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 immunity from narrow band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a simplified strategy of coexistence in a congested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transmit power: &lt;1 m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urrent d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mentary to an effective coexistence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ubmission under FCC 15.249 (no hop sequence constra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device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consumer concerns about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b/s aggregate data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effective coexistence strategy due to reduced transmit d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average current d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response times yield reduced host current d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unctional Requirements in CFP (except only 10 st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Pow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Auto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Temporarily Split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ation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Station is “coordinat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 “jo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or broadcasts i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 unicast att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or accepts or dec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ll expected stations attach, coordinator starts norma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Operation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or periodically broadcast synchronization information (beac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beacons, stations transmit to powered down stations by requesting other stations to leave receiver on, and after a short interval sending to that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s transmit to powered up stations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ion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or broadcast (after beacons) termination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repeated severa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523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applications such as the mobile worker and Physiological Monitoring involve short messages and short distances between devices. Key attributes for these devices includ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urrent d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operator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 Access Control (MA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MA/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persistent with reservations (the reservation is similar to that in 802.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 frames all have an immediate response from recip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equences: Ini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95440" y="1890720"/>
            <a:ext cx="2985840" cy="457200"/>
            <a:chOff x="595440" y="1890720"/>
            <a:chExt cx="2985840" cy="457200"/>
          </a:xfrm>
        </p:grpSpPr>
        <p:sp>
          <p:nvSpPr>
            <p:cNvPr id="180" name=""/>
            <p:cNvSpPr txBox="1"/>
            <p:nvPr/>
          </p:nvSpPr>
          <p:spPr>
            <a:xfrm>
              <a:off x="595440" y="1890720"/>
              <a:ext cx="1901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 Broadca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43200" y="21337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743200" y="2347920"/>
            <a:ext cx="2691000" cy="457200"/>
            <a:chOff x="2743200" y="2347920"/>
            <a:chExt cx="2691000" cy="457200"/>
          </a:xfrm>
        </p:grpSpPr>
        <p:sp>
          <p:nvSpPr>
            <p:cNvPr id="183" name=""/>
            <p:cNvSpPr txBox="1"/>
            <p:nvPr/>
          </p:nvSpPr>
          <p:spPr>
            <a:xfrm>
              <a:off x="3870360" y="2347920"/>
              <a:ext cx="1563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tach Re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3200" y="25909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 txBox="1"/>
          <p:nvPr/>
        </p:nvSpPr>
        <p:spPr>
          <a:xfrm>
            <a:off x="671400" y="2805120"/>
            <a:ext cx="1547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 R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3048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223040" y="2209680"/>
            <a:ext cx="1131840" cy="1524240"/>
            <a:chOff x="7223040" y="2209680"/>
            <a:chExt cx="1131840" cy="1524240"/>
          </a:xfrm>
        </p:grpSpPr>
        <p:sp>
          <p:nvSpPr>
            <p:cNvPr id="188" name=""/>
            <p:cNvSpPr/>
            <p:nvPr/>
          </p:nvSpPr>
          <p:spPr>
            <a:xfrm>
              <a:off x="7772400" y="2209680"/>
              <a:ext cx="0" cy="1524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7223040" y="2500200"/>
              <a:ext cx="11318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v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71400" y="3870360"/>
            <a:ext cx="2986200" cy="457200"/>
            <a:chOff x="671400" y="3870360"/>
            <a:chExt cx="2986200" cy="457200"/>
          </a:xfrm>
        </p:grpSpPr>
        <p:sp>
          <p:nvSpPr>
            <p:cNvPr id="191" name=""/>
            <p:cNvSpPr txBox="1"/>
            <p:nvPr/>
          </p:nvSpPr>
          <p:spPr>
            <a:xfrm>
              <a:off x="671400" y="3870360"/>
              <a:ext cx="1901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 Broadca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19520" y="41148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47720" y="5318280"/>
            <a:ext cx="2986200" cy="457200"/>
            <a:chOff x="747720" y="5318280"/>
            <a:chExt cx="2986200" cy="457200"/>
          </a:xfrm>
        </p:grpSpPr>
        <p:sp>
          <p:nvSpPr>
            <p:cNvPr id="194" name=""/>
            <p:cNvSpPr txBox="1"/>
            <p:nvPr/>
          </p:nvSpPr>
          <p:spPr>
            <a:xfrm>
              <a:off x="747720" y="5318280"/>
              <a:ext cx="20541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 Broadca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954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223040" y="4114800"/>
            <a:ext cx="1131840" cy="1523880"/>
            <a:chOff x="7223040" y="4114800"/>
            <a:chExt cx="1131840" cy="1523880"/>
          </a:xfrm>
        </p:grpSpPr>
        <p:sp>
          <p:nvSpPr>
            <p:cNvPr id="197" name=""/>
            <p:cNvSpPr/>
            <p:nvPr/>
          </p:nvSpPr>
          <p:spPr>
            <a:xfrm>
              <a:off x="7772400" y="4114800"/>
              <a:ext cx="0" cy="1523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7223040" y="4403880"/>
              <a:ext cx="11318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v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47720" y="5851440"/>
            <a:ext cx="2986200" cy="457200"/>
            <a:chOff x="747720" y="5851440"/>
            <a:chExt cx="2986200" cy="457200"/>
          </a:xfrm>
        </p:grpSpPr>
        <p:sp>
          <p:nvSpPr>
            <p:cNvPr id="200" name=""/>
            <p:cNvSpPr txBox="1"/>
            <p:nvPr/>
          </p:nvSpPr>
          <p:spPr>
            <a:xfrm>
              <a:off x="747720" y="5851440"/>
              <a:ext cx="1098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ac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95480" y="609588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eq’s:Normal O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to Powered Down 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71400" y="1814400"/>
            <a:ext cx="2986200" cy="457200"/>
            <a:chOff x="671400" y="1814400"/>
            <a:chExt cx="2986200" cy="457200"/>
          </a:xfrm>
        </p:grpSpPr>
        <p:sp>
          <p:nvSpPr>
            <p:cNvPr id="208" name=""/>
            <p:cNvSpPr txBox="1"/>
            <p:nvPr/>
          </p:nvSpPr>
          <p:spPr>
            <a:xfrm>
              <a:off x="671400" y="1814400"/>
              <a:ext cx="1098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ac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19520" y="20574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6400800" y="22860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699160" y="2347920"/>
            <a:ext cx="1327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P 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994440" y="1981080"/>
            <a:ext cx="928800" cy="1981440"/>
            <a:chOff x="6994440" y="1981080"/>
            <a:chExt cx="928800" cy="1981440"/>
          </a:xfrm>
        </p:grpSpPr>
        <p:sp>
          <p:nvSpPr>
            <p:cNvPr id="213" name=""/>
            <p:cNvSpPr/>
            <p:nvPr/>
          </p:nvSpPr>
          <p:spPr>
            <a:xfrm>
              <a:off x="7467480" y="1981080"/>
              <a:ext cx="0" cy="198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6994440" y="2805120"/>
              <a:ext cx="928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w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71400" y="2119320"/>
            <a:ext cx="2986200" cy="457200"/>
            <a:chOff x="671400" y="2119320"/>
            <a:chExt cx="2986200" cy="457200"/>
          </a:xfrm>
        </p:grpSpPr>
        <p:sp>
          <p:nvSpPr>
            <p:cNvPr id="216" name=""/>
            <p:cNvSpPr txBox="1"/>
            <p:nvPr/>
          </p:nvSpPr>
          <p:spPr>
            <a:xfrm>
              <a:off x="671400" y="2119320"/>
              <a:ext cx="727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F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19520" y="23623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994440" y="3962520"/>
            <a:ext cx="928800" cy="1981080"/>
            <a:chOff x="6994440" y="3962520"/>
            <a:chExt cx="928800" cy="1981080"/>
          </a:xfrm>
        </p:grpSpPr>
        <p:sp>
          <p:nvSpPr>
            <p:cNvPr id="219" name=""/>
            <p:cNvSpPr/>
            <p:nvPr/>
          </p:nvSpPr>
          <p:spPr>
            <a:xfrm>
              <a:off x="7467480" y="3962520"/>
              <a:ext cx="0" cy="1981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6994440" y="4784760"/>
              <a:ext cx="928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w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743200" y="2347920"/>
            <a:ext cx="1803240" cy="457200"/>
            <a:chOff x="2743200" y="2347920"/>
            <a:chExt cx="1803240" cy="457200"/>
          </a:xfrm>
        </p:grpSpPr>
        <p:sp>
          <p:nvSpPr>
            <p:cNvPr id="222" name=""/>
            <p:cNvSpPr txBox="1"/>
            <p:nvPr/>
          </p:nvSpPr>
          <p:spPr>
            <a:xfrm>
              <a:off x="3871800" y="2347920"/>
              <a:ext cx="67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43200" y="25909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71400" y="3110040"/>
            <a:ext cx="2986200" cy="457200"/>
            <a:chOff x="671400" y="3110040"/>
            <a:chExt cx="2986200" cy="457200"/>
          </a:xfrm>
        </p:grpSpPr>
        <p:sp>
          <p:nvSpPr>
            <p:cNvPr id="225" name=""/>
            <p:cNvSpPr txBox="1"/>
            <p:nvPr/>
          </p:nvSpPr>
          <p:spPr>
            <a:xfrm>
              <a:off x="671400" y="3110040"/>
              <a:ext cx="727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F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19520" y="33526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743200" y="3336840"/>
            <a:ext cx="1803240" cy="457200"/>
            <a:chOff x="2743200" y="3336840"/>
            <a:chExt cx="1803240" cy="457200"/>
          </a:xfrm>
        </p:grpSpPr>
        <p:sp>
          <p:nvSpPr>
            <p:cNvPr id="228" name=""/>
            <p:cNvSpPr txBox="1"/>
            <p:nvPr/>
          </p:nvSpPr>
          <p:spPr>
            <a:xfrm>
              <a:off x="3871800" y="3336840"/>
              <a:ext cx="67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43200" y="35812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71400" y="3565440"/>
            <a:ext cx="2986200" cy="457200"/>
            <a:chOff x="671400" y="3565440"/>
            <a:chExt cx="2986200" cy="457200"/>
          </a:xfrm>
        </p:grpSpPr>
        <p:sp>
          <p:nvSpPr>
            <p:cNvPr id="231" name=""/>
            <p:cNvSpPr txBox="1"/>
            <p:nvPr/>
          </p:nvSpPr>
          <p:spPr>
            <a:xfrm>
              <a:off x="671400" y="3565440"/>
              <a:ext cx="758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19520" y="38098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743200" y="3794040"/>
            <a:ext cx="1701720" cy="457200"/>
            <a:chOff x="2743200" y="3794040"/>
            <a:chExt cx="1701720" cy="457200"/>
          </a:xfrm>
        </p:grpSpPr>
        <p:sp>
          <p:nvSpPr>
            <p:cNvPr id="234" name=""/>
            <p:cNvSpPr txBox="1"/>
            <p:nvPr/>
          </p:nvSpPr>
          <p:spPr>
            <a:xfrm>
              <a:off x="3871800" y="3794040"/>
              <a:ext cx="573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43200" y="40384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8290080" y="1981080"/>
            <a:ext cx="387360" cy="3962520"/>
            <a:chOff x="8290080" y="1981080"/>
            <a:chExt cx="387360" cy="3962520"/>
          </a:xfrm>
        </p:grpSpPr>
        <p:sp>
          <p:nvSpPr>
            <p:cNvPr id="237" name=""/>
            <p:cNvSpPr/>
            <p:nvPr/>
          </p:nvSpPr>
          <p:spPr>
            <a:xfrm>
              <a:off x="8305920" y="198108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8290080" y="2117880"/>
              <a:ext cx="387360" cy="374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eq’s:Normal O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to Powered Up 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71400" y="1814400"/>
            <a:ext cx="2986200" cy="457200"/>
            <a:chOff x="671400" y="1814400"/>
            <a:chExt cx="2986200" cy="457200"/>
          </a:xfrm>
        </p:grpSpPr>
        <p:sp>
          <p:nvSpPr>
            <p:cNvPr id="245" name=""/>
            <p:cNvSpPr txBox="1"/>
            <p:nvPr/>
          </p:nvSpPr>
          <p:spPr>
            <a:xfrm>
              <a:off x="671400" y="1814400"/>
              <a:ext cx="1098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ac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9520" y="20574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6400800" y="1981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699160" y="2347920"/>
            <a:ext cx="1327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P 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994440" y="1981080"/>
            <a:ext cx="928800" cy="1981440"/>
            <a:chOff x="6994440" y="1981080"/>
            <a:chExt cx="928800" cy="1981440"/>
          </a:xfrm>
        </p:grpSpPr>
        <p:sp>
          <p:nvSpPr>
            <p:cNvPr id="250" name=""/>
            <p:cNvSpPr/>
            <p:nvPr/>
          </p:nvSpPr>
          <p:spPr>
            <a:xfrm>
              <a:off x="7467480" y="1981080"/>
              <a:ext cx="0" cy="198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6994440" y="2805120"/>
              <a:ext cx="928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w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994440" y="3962520"/>
            <a:ext cx="928800" cy="1981080"/>
            <a:chOff x="6994440" y="3962520"/>
            <a:chExt cx="928800" cy="1981080"/>
          </a:xfrm>
        </p:grpSpPr>
        <p:sp>
          <p:nvSpPr>
            <p:cNvPr id="253" name=""/>
            <p:cNvSpPr/>
            <p:nvPr/>
          </p:nvSpPr>
          <p:spPr>
            <a:xfrm>
              <a:off x="7467480" y="3962520"/>
              <a:ext cx="0" cy="1981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6994440" y="4784760"/>
              <a:ext cx="928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w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71400" y="3489480"/>
            <a:ext cx="2986200" cy="457200"/>
            <a:chOff x="671400" y="3489480"/>
            <a:chExt cx="2986200" cy="457200"/>
          </a:xfrm>
        </p:grpSpPr>
        <p:sp>
          <p:nvSpPr>
            <p:cNvPr id="256" name=""/>
            <p:cNvSpPr txBox="1"/>
            <p:nvPr/>
          </p:nvSpPr>
          <p:spPr>
            <a:xfrm>
              <a:off x="671400" y="3489480"/>
              <a:ext cx="727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F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19520" y="37339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743200" y="3718080"/>
            <a:ext cx="1803240" cy="457200"/>
            <a:chOff x="2743200" y="3718080"/>
            <a:chExt cx="1803240" cy="457200"/>
          </a:xfrm>
        </p:grpSpPr>
        <p:sp>
          <p:nvSpPr>
            <p:cNvPr id="259" name=""/>
            <p:cNvSpPr txBox="1"/>
            <p:nvPr/>
          </p:nvSpPr>
          <p:spPr>
            <a:xfrm>
              <a:off x="3871800" y="3718080"/>
              <a:ext cx="67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43200" y="39625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71400" y="3946680"/>
            <a:ext cx="2986200" cy="457200"/>
            <a:chOff x="671400" y="3946680"/>
            <a:chExt cx="2986200" cy="457200"/>
          </a:xfrm>
        </p:grpSpPr>
        <p:sp>
          <p:nvSpPr>
            <p:cNvPr id="262" name=""/>
            <p:cNvSpPr txBox="1"/>
            <p:nvPr/>
          </p:nvSpPr>
          <p:spPr>
            <a:xfrm>
              <a:off x="671400" y="3946680"/>
              <a:ext cx="758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19520" y="41911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743200" y="4175280"/>
            <a:ext cx="1701720" cy="457200"/>
            <a:chOff x="2743200" y="4175280"/>
            <a:chExt cx="1701720" cy="457200"/>
          </a:xfrm>
        </p:grpSpPr>
        <p:sp>
          <p:nvSpPr>
            <p:cNvPr id="265" name=""/>
            <p:cNvSpPr txBox="1"/>
            <p:nvPr/>
          </p:nvSpPr>
          <p:spPr>
            <a:xfrm>
              <a:off x="3871800" y="4175280"/>
              <a:ext cx="573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43200" y="44197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8290080" y="1981080"/>
            <a:ext cx="387360" cy="3962520"/>
            <a:chOff x="8290080" y="1981080"/>
            <a:chExt cx="387360" cy="3962520"/>
          </a:xfrm>
        </p:grpSpPr>
        <p:sp>
          <p:nvSpPr>
            <p:cNvPr id="268" name=""/>
            <p:cNvSpPr/>
            <p:nvPr/>
          </p:nvSpPr>
          <p:spPr>
            <a:xfrm>
              <a:off x="8305920" y="198108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8290080" y="2117880"/>
              <a:ext cx="387360" cy="374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 from CF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vs 16 nodes per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number is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 at 1.5 cubic i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 factor dictated by hos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580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: self initiating, self contained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: minimal cost, low relative to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Consumption: less than 20 mW for connection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: both WLAN networks and PAN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: greater than 10 meters in cubicle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addressing:  allows the network to be intiated and maintained with minimal operator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network:  allows a device to temporarily split from its PAN, attach to a non-PAN device, detach from that device and resume participation in the original 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70240" y="3295800"/>
            <a:ext cx="539640" cy="24120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380880" y="1828800"/>
            <a:ext cx="7805880" cy="3556080"/>
            <a:chOff x="380880" y="1828800"/>
            <a:chExt cx="7805880" cy="3556080"/>
          </a:xfrm>
        </p:grpSpPr>
        <p:sp>
          <p:nvSpPr>
            <p:cNvPr id="67" name=""/>
            <p:cNvSpPr/>
            <p:nvPr/>
          </p:nvSpPr>
          <p:spPr>
            <a:xfrm>
              <a:off x="380880" y="1828800"/>
              <a:ext cx="678168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65480" y="313704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65480" y="423540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65480" y="3191040"/>
              <a:ext cx="2355840" cy="988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65480" y="3246480"/>
              <a:ext cx="1212840" cy="1538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5278320" y="3246480"/>
              <a:ext cx="1143000" cy="1538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65480" y="4289400"/>
              <a:ext cx="1144800" cy="49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91480" y="3673440"/>
              <a:ext cx="42840" cy="669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4065480" y="3191040"/>
              <a:ext cx="2355840" cy="9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5343480" y="4289400"/>
              <a:ext cx="1077840" cy="49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1508040" y="3108240"/>
              <a:ext cx="131904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s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3276720" y="4038480"/>
              <a:ext cx="6094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6488280" y="4253040"/>
              <a:ext cx="102384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>
              <a:off x="3182760" y="4659480"/>
              <a:ext cx="1008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C Based Work St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6230880" y="4583160"/>
              <a:ext cx="1725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rcode and Receipt Prin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2954160" y="3516480"/>
              <a:ext cx="814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N Rad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5621400" y="5116680"/>
              <a:ext cx="6206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an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7145280" y="3135240"/>
              <a:ext cx="1041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n-based HH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6504120" y="2608200"/>
              <a:ext cx="66528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5"/>
            <a:stretch/>
          </p:blipFill>
          <p:spPr>
            <a:xfrm>
              <a:off x="3340080" y="2754360"/>
              <a:ext cx="393840" cy="6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tretch/>
          </p:blipFill>
          <p:spPr>
            <a:xfrm>
              <a:off x="5078520" y="4835520"/>
              <a:ext cx="412920" cy="54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major drivers behind WPAN is the lowest possible cost.  Cost is typically driven by complexity and high performance requirements.  The design philosophy behind this proposal is a system design with relaxed requirements on hardware cost drivers and which leverages existing technology and componentry where possible for the lowest recurring co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4572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greatly simplifies requirements on RF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/DIFS/PIFS are greatly relaxe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MAC S/W overhead (estimate 25% of 802.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MAC/PHY gate count (estimate 10% 802.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onversion 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launch V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Con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MAC complexity a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ASIC current d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microprocessor 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transceiver performance requirements al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active compon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ve results in less than 6 mA current drain @ 3.3V for connection mainta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essential that these devices operate satisfactorily in congested spectral environments.  The proposal is for CSMA/CA protocol, Frequency Hopping, with a high speed aggregate data rate to aid in Coexistence wit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other co-located PAN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LAN FH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ity of requirements for PANs are met with a maximum range of 10 meters.  Intermec Technolgies’ implementation of this proposal has a demonstrated range of greater than 10 meters as verified in a cubicle environment and in shipping and receiving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Norand Corporation</cp:lastModifiedBy>
  <cp:revision>0</cp:revision>
  <dc:subject/>
  <dc:title>No Slide Title</dc:title>
</cp:coreProperties>
</file>