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WPAN 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Guidelines Tech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mph (hand-off not required to another 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a Rate at the MAC SAP: (19.2 - 100) kbit/s (actual 1 device to 1 de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PAN’s in the same area (20 within 400 square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Systems i.e. P802.11 i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16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2, 1997 Cleveland,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5, 1998 Memphis, T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10, 1998 Irvine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” - April 9, 1998 Cambridge,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lides are a compilation of the Wearables Ad Hoc Committee and IEEE 802.11 WPAN Study Group discussing the Functional Requirements for WP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is a work in process and as such refer to the slides marked “Current” to determine the latest Guide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land, OH 12/2/9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6200" y="2506680"/>
            <a:ext cx="8434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phis, TN 1/15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: 19.2 - 100Kbps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no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overlap of multiple networks in the sam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sixteen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vine, CA 3/9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: 19.2 - 100Kbps (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no ant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overlap of multiple networks i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sixtee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vine, CA 3/10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20mW @ 10/90 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w/o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vine, CA 3/10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 W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mph (no roaming to another 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a Rate at the MAC SAP: (19.2 - 100) kbit/s (actual 1 device to 1 de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PAN’s in the same area (20 within 400 square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Systems i.e. P802.11 i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16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Guidelines Environ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20mW @ 10/90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des antenna &amp;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