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0280" y="1084320"/>
            <a:ext cx="759924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for 5 GH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82760" y="2001960"/>
            <a:ext cx="745632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Signa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with Single Carrier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84280" y="495360"/>
            <a:ext cx="7770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3680" y="955800"/>
            <a:ext cx="86724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can achieve large delay spread tolerance at high bit rat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single bit stream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llel bit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duration is increased, so relative delay spread de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arallel bit stream is modulated on on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 guard time to each OFDM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ymbol interference is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d loss is made small (&lt;1 dB) by choo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and effective way to deal with multipath; avoids need for equalizer and equalizer training, which may take too much training overh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ding to correct for subcarriers in deep f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multipath channel, subcarriers have different ampl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coding, performance is determined by average received power rather than lowest subcarrier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Trans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4120" y="1197000"/>
            <a:ext cx="5487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5760" y="1760400"/>
            <a:ext cx="8405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Signal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62040"/>
            <a:ext cx="83818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T / IFFT : 64 point FFT in 4.8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 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53 M real multiplications 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: comparable to load of existing Digital Video Broadca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, which do 8192 point FFT in 1 ms (100 M multiplications 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: Standard code, soft decision decoding chips alread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 for speeds up to 60 Mbps. A binary code is used; QPSK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QAM formed by 2 or 4 binary values, respectiv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: Can be done similar to synchronization of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-sequence spread-spectrum receiver, see later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12720" y="47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M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378080"/>
            <a:ext cx="76201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ptions are QPSK, 16-QAM (possibly 64-Q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binary coder / decoder is used for all mod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Gray mapping to map 4 binary inputs to 16-Q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ceiver, 16-QAM symbol is split into 4 binary metrics, which ar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 for the soft decision Viterbi decoder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 IEEE Trans. on Comm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43, no.6, June 1995, pp. 2001-2004, ‘Coded QAM Using a B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olutional Code’, by Q. Wang and L. Onotera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8400" y="3352680"/>
            <a:ext cx="3021120" cy="243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90880" y="3506760"/>
            <a:ext cx="909720" cy="223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11200" y="5873760"/>
            <a:ext cx="6896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2 bits onto 4-P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pping 4-PAM into 2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74720" y="431640"/>
            <a:ext cx="7770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Frequency Synchro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17960" y="1281240"/>
            <a:ext cx="3236760" cy="298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1960" y="1293840"/>
            <a:ext cx="3576600" cy="294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62120" y="4365720"/>
            <a:ext cx="81532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function of OFDM sig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Correlation function with {0,1,-1}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e with a known OFDM training symbol before doing FFT, so OF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is used in same way as the Barker code in a 802.11 direct-seque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eak to determine timing, phase shift between peaks gives frequency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orrelator with {0,1,-1} tap values can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41520" y="495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back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339920"/>
            <a:ext cx="830592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ngle carrier systems, equalizer breaks down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gets too large because of error propa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qualiz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fallback rates not possible, which is 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sirable for a practical system; users whic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100 ns delay spread get no connec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FDM, 30 Mbps up to 175 ns delay spre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up to 225 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up to 500 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OFDM does provide a reliable connection for all us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they cannot send at the highest rate because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7360" y="606600"/>
            <a:ext cx="7770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48284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fference between OFDM and single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s is FFT versus equ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T complexity = 64 complex multiplications per 4.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3 million real multiplica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taps Equalizer at 25 MHz means 2*16*25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00 million real multiplica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order of magnitude less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equalizer training is more complex t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 itself, so real complexity difference is even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01880" y="1320840"/>
            <a:ext cx="76755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advantages of OFDM over single carrier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mpl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olerate higher delay spreads, especially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back modes, which are not possibl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rri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channels, better total 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