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1440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l Pulse Position Modul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5 GH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352680" y="2133720"/>
            <a:ext cx="2438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78080" y="4335480"/>
            <a:ext cx="4883040" cy="666720"/>
          </a:xfrm>
          <a:prstGeom prst="rect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Proven Path to Pro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 &amp; 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PP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520" y="1295280"/>
            <a:ext cx="7772400" cy="46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, Low-Complexity 5 GHz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Coherent De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qualiz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izer Training &amp; Error Propagation ar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ndamen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-Book” Equalizers and their Simulations don’t make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FT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DM more suitable for outdo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optimal for indo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with Nonlinear PA &amp; Pul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with low-current Baseband Proces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Throughput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Compl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products at 5.2, 5.3, &amp; 5.775 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d Implementations evidence at 10 Mb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technology available for licen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667560" y="1638360"/>
            <a:ext cx="1828800" cy="1828800"/>
            <a:chOff x="6667560" y="1638360"/>
            <a:chExt cx="1828800" cy="1828800"/>
          </a:xfrm>
        </p:grpSpPr>
        <p:sp>
          <p:nvSpPr>
            <p:cNvPr id="47" name=""/>
            <p:cNvSpPr/>
            <p:nvPr/>
          </p:nvSpPr>
          <p:spPr>
            <a:xfrm>
              <a:off x="6667560" y="1638360"/>
              <a:ext cx="1828800" cy="1828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cc33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7075440" y="1873080"/>
              <a:ext cx="1106640" cy="136080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6891480" y="1968480"/>
              <a:ext cx="1290600" cy="116676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6781680" y="2133720"/>
            <a:ext cx="1690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to DP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21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xplored Potential for R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l Pulse-Position Modulation for Power-Efficient Optical Communcaitons”, D. Shiu &amp; J. Kahn, University of California, Berkeley, Submitted to IEEE Transactions on Communications, August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l Overlapping Pulse-Position Modulation in Optical Direct-Detection Channel”, T. Ohtsuki et al., IEEETransactions on Communications, December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 and Cutoff Rate for Optical Overlapping Pulse-Position Modulation Channels”, H. Shalaby et al., IEEETransactions on Communications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popular for high-speed optical communications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WGN &amp; Multipath Channel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ber optics, sattelite communications, IR WL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Low RF Power Communications Candidate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CC 15.249: “Low-Power Devices”, RadioLAN Produ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PM has higher capacity and cutoff rate than P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PM with overlapping pulses: Ideal for Power-Limited &amp; Bandwidth-Limit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PM is a simple nonlinear block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binary L-tuples with unity hamming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PM Transce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1320" y="2357280"/>
            <a:ext cx="8478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6560" y="25909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47920" y="2057400"/>
            <a:ext cx="703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5880" y="2590920"/>
            <a:ext cx="760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24080" y="2057400"/>
            <a:ext cx="949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Sequ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1520" y="2357280"/>
            <a:ext cx="8478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6080" y="25909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0480" y="2357280"/>
            <a:ext cx="390600" cy="390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3280" y="2440080"/>
            <a:ext cx="226800" cy="22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83280" y="2440080"/>
            <a:ext cx="226800" cy="22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4160" y="25909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334120" y="274320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29200" y="3048120"/>
            <a:ext cx="544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38920" y="2281320"/>
            <a:ext cx="619560" cy="619560"/>
          </a:xfrm>
          <a:custGeom>
            <a:avLst/>
            <a:gdLst/>
            <a:ahLst/>
            <a:rect l="0" t="0" r="r" b="b"/>
            <a:pathLst>
              <a:path w="1721" h="1721">
                <a:moveTo>
                  <a:pt x="1721" y="1721"/>
                </a:moveTo>
                <a:lnTo>
                  <a:pt x="0" y="1721"/>
                </a:lnTo>
                <a:lnTo>
                  <a:pt x="860" y="0"/>
                </a:lnTo>
                <a:lnTo>
                  <a:pt x="1721" y="172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562720" y="1905120"/>
            <a:ext cx="1166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linear 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54880" y="25909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9440" y="2592360"/>
            <a:ext cx="379440" cy="303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859440" y="2287440"/>
            <a:ext cx="379440" cy="303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90600" y="4186080"/>
            <a:ext cx="8478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915840" y="44197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3886200"/>
            <a:ext cx="744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ected 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135160" y="44197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133720" y="3886200"/>
            <a:ext cx="949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Sequ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491000" y="4186080"/>
            <a:ext cx="8478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335560" y="44197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10320" y="4186080"/>
            <a:ext cx="390600" cy="390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2760" y="4268880"/>
            <a:ext cx="227160" cy="22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792760" y="4268880"/>
            <a:ext cx="227160" cy="22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73640" y="44197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943600" y="457200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38680" y="4876920"/>
            <a:ext cx="544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48400" y="4110120"/>
            <a:ext cx="619560" cy="619560"/>
          </a:xfrm>
          <a:custGeom>
            <a:avLst/>
            <a:gdLst/>
            <a:ahLst/>
            <a:rect l="0" t="0" r="r" b="b"/>
            <a:pathLst>
              <a:path w="1721" h="1721">
                <a:moveTo>
                  <a:pt x="0" y="1721"/>
                </a:moveTo>
                <a:lnTo>
                  <a:pt x="1721" y="1721"/>
                </a:lnTo>
                <a:lnTo>
                  <a:pt x="860" y="0"/>
                </a:lnTo>
                <a:lnTo>
                  <a:pt x="0" y="172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629400" y="365760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64360" y="44197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69280" y="4421160"/>
            <a:ext cx="379440" cy="303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469280" y="4116240"/>
            <a:ext cx="379440" cy="303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28880" y="4186080"/>
            <a:ext cx="390600" cy="390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11680" y="4268880"/>
            <a:ext cx="226800" cy="22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11680" y="4268880"/>
            <a:ext cx="226800" cy="22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62520" y="457200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657600" y="4876920"/>
            <a:ext cx="689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Car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116240" y="44197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920" y="4186080"/>
            <a:ext cx="8478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68680" y="426708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4268880"/>
            <a:ext cx="0" cy="30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7280" y="457200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8680" y="441972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354480" y="44197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t Trans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linear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sed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Current Competitiv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of MMIC / Power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/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Power Competitiv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U-NII Reg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Re-Consi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5643720" cy="1359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5643720" cy="135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876920" y="4648320"/>
            <a:ext cx="56437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562720" y="48020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Tole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edded Guard-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nsec Guard-Time is one of the “Pulse Positio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se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ingpost-rising-edge distor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ge-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etector Implementations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71880" y="4948200"/>
            <a:ext cx="8478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001000" y="4572000"/>
            <a:ext cx="507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64160" y="480060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862600" y="4567320"/>
            <a:ext cx="10764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Det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5760" y="48769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02440" y="510552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24920" y="4948200"/>
            <a:ext cx="619560" cy="619560"/>
          </a:xfrm>
          <a:custGeom>
            <a:avLst/>
            <a:gdLst/>
            <a:ahLst/>
            <a:rect l="0" t="0" r="r" b="b"/>
            <a:pathLst>
              <a:path w="1721" h="1721">
                <a:moveTo>
                  <a:pt x="1721" y="1721"/>
                </a:moveTo>
                <a:lnTo>
                  <a:pt x="0" y="1721"/>
                </a:lnTo>
                <a:lnTo>
                  <a:pt x="860" y="0"/>
                </a:lnTo>
                <a:lnTo>
                  <a:pt x="1721" y="172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862600" y="5405400"/>
            <a:ext cx="10764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Det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4160" y="571500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35760" y="57150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50160" y="53341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310520" y="4567320"/>
            <a:ext cx="466560" cy="14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001000" y="449748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924680" y="5715000"/>
            <a:ext cx="388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/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97480" y="52578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038480" y="502920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0880" y="525780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289728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795920" y="3043080"/>
            <a:ext cx="8478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001000" y="2514600"/>
            <a:ext cx="507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87840" y="28954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86280" y="2662200"/>
            <a:ext cx="10764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9440" y="29718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26480" y="320040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48600" y="3043080"/>
            <a:ext cx="619560" cy="619560"/>
          </a:xfrm>
          <a:custGeom>
            <a:avLst/>
            <a:gdLst/>
            <a:ahLst/>
            <a:rect l="0" t="0" r="r" b="b"/>
            <a:pathLst>
              <a:path w="1721" h="1721">
                <a:moveTo>
                  <a:pt x="1721" y="1721"/>
                </a:moveTo>
                <a:lnTo>
                  <a:pt x="0" y="1721"/>
                </a:lnTo>
                <a:lnTo>
                  <a:pt x="860" y="0"/>
                </a:lnTo>
                <a:lnTo>
                  <a:pt x="1721" y="172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786280" y="3500280"/>
            <a:ext cx="10764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G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87840" y="38098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9440" y="380988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73840" y="34290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234200" y="2662200"/>
            <a:ext cx="542880" cy="14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/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924680" y="2592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848720" y="3809880"/>
            <a:ext cx="388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/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1160" y="335268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114800" y="312408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64560" y="335268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t Reci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Receiver DC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Current due to Non-Coherent RF/IF Rece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band Processor DC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Baseband Current Competitiv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Baseband Complexity Competitiv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95480" y="4724280"/>
            <a:ext cx="5643720" cy="1066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5643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put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-Channel, Single Rate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 Rate per AP, Single Rate, Indoor per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 Rate per AP, Multi Rate, Indoor per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 Rate per AP, Single Rate, Free Space per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 Rate per AP, Multi Rate, Free Space per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59878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PM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880" y="1371600"/>
            <a:ext cx="87631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, Low-Complexity 5 GHz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Coh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qualizer  (Equalizer Training &amp; Error Propagation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ndamen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l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FT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Throughput Effici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Fall-back rate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data rates ar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Compl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-Approved 10 Mbps, U-NII products at 5.2, 5.3, &amp; 5.775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d Implementations evidence at 10 Mb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Chip-set and technology available for licen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