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11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495680" y="22860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8288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166-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90480" y="609480"/>
            <a:ext cx="7767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593640" y="6446880"/>
            <a:ext cx="895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90480" y="6477120"/>
            <a:ext cx="784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4222800" y="6523200"/>
            <a:ext cx="6969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</a:t>
            </a:r>
            <a:fld id="{5D884F7E-EEB2-4E74-A533-055E6F661F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22860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Evaluation of Proposed OF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ard van Nee, Hitoshi Takanashi and Masahiro Morik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cent + N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ust against Inter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65828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able B.O. with Single Carr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92280" y="1833480"/>
            <a:ext cx="826128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Sensi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819144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agation Model for Interfer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62120" y="2209680"/>
            <a:ext cx="7734240" cy="30225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6019920" y="2286000"/>
            <a:ext cx="2666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=A+20 log(d)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143000" y="5334120"/>
            <a:ext cx="7086600" cy="11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.S. Rappaport, “Wireless Communications”, Prentice Hall 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. Nobles, et. Al., “Indoor Radiowave Propagation Measurements at Frequencies up to 20 GHz”, IEEE VTC ‘9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Capacity -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65000" y="1833480"/>
            <a:ext cx="826452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Capacity -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819144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Effici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740720" cy="38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38080" y="642960"/>
            <a:ext cx="7238880" cy="5859360"/>
          </a:xfrm>
          <a:prstGeom prst="rect">
            <a:avLst/>
          </a:prstGeom>
          <a:ln w="0">
            <a:noFill/>
          </a:ln>
        </p:spPr>
      </p:pic>
      <p:grpSp>
        <p:nvGrpSpPr>
          <p:cNvPr id="79" name=""/>
          <p:cNvGrpSpPr/>
          <p:nvPr/>
        </p:nvGrpSpPr>
        <p:grpSpPr>
          <a:xfrm>
            <a:off x="1066680" y="1219320"/>
            <a:ext cx="609480" cy="519120"/>
            <a:chOff x="1066680" y="1219320"/>
            <a:chExt cx="609480" cy="519120"/>
          </a:xfrm>
        </p:grpSpPr>
        <p:sp>
          <p:nvSpPr>
            <p:cNvPr id="80" name=""/>
            <p:cNvSpPr txBox="1"/>
            <p:nvPr/>
          </p:nvSpPr>
          <p:spPr>
            <a:xfrm>
              <a:off x="1295280" y="1219320"/>
              <a:ext cx="380880" cy="3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 txBox="1"/>
            <p:nvPr/>
          </p:nvSpPr>
          <p:spPr>
            <a:xfrm>
              <a:off x="1066680" y="1371600"/>
              <a:ext cx="5335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66680" y="330120"/>
            <a:ext cx="7531200" cy="6095880"/>
          </a:xfrm>
          <a:prstGeom prst="rect">
            <a:avLst/>
          </a:prstGeom>
          <a:ln w="0">
            <a:noFill/>
          </a:ln>
        </p:spPr>
      </p:pic>
      <p:grpSp>
        <p:nvGrpSpPr>
          <p:cNvPr id="83" name=""/>
          <p:cNvGrpSpPr/>
          <p:nvPr/>
        </p:nvGrpSpPr>
        <p:grpSpPr>
          <a:xfrm>
            <a:off x="1371600" y="990720"/>
            <a:ext cx="609480" cy="519120"/>
            <a:chOff x="1371600" y="990720"/>
            <a:chExt cx="609480" cy="519120"/>
          </a:xfrm>
        </p:grpSpPr>
        <p:sp>
          <p:nvSpPr>
            <p:cNvPr id="84" name=""/>
            <p:cNvSpPr txBox="1"/>
            <p:nvPr/>
          </p:nvSpPr>
          <p:spPr>
            <a:xfrm>
              <a:off x="1600200" y="990720"/>
              <a:ext cx="380880" cy="3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 txBox="1"/>
            <p:nvPr/>
          </p:nvSpPr>
          <p:spPr>
            <a:xfrm>
              <a:off x="1371600" y="1143000"/>
              <a:ext cx="5335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36560" y="635040"/>
            <a:ext cx="764532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are important issu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/ 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and (indoor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ay sp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dat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100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datory / favorable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100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rehou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datory / favorable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100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ntion Cen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dat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100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ture Ro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150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id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 - 150 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pping M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150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09480" y="620640"/>
            <a:ext cx="7696080" cy="58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960" y="668160"/>
            <a:ext cx="7658280" cy="59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47640" y="668160"/>
            <a:ext cx="7658280" cy="59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73200" y="650880"/>
            <a:ext cx="7632720" cy="59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60240" y="660240"/>
            <a:ext cx="764532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09480" y="620640"/>
            <a:ext cx="7696080" cy="58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47640" y="668160"/>
            <a:ext cx="7658280" cy="59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640" y="668160"/>
            <a:ext cx="7658280" cy="59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73200" y="633240"/>
            <a:ext cx="7556400" cy="58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58720" y="674640"/>
            <a:ext cx="7823160" cy="59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are important issues?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t’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/ 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d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and (indoor/OUTDOOR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ay sp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er band 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t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datory / favorabl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-200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mp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datory / favorabl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-200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obustness against Delay Spread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9480" y="684360"/>
            <a:ext cx="7696080" cy="59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96880" y="668160"/>
            <a:ext cx="7785000" cy="59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58720" y="641520"/>
            <a:ext cx="7899480" cy="59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95360" y="622440"/>
            <a:ext cx="77342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46120" y="663480"/>
            <a:ext cx="775980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84280" y="655560"/>
            <a:ext cx="7797960" cy="59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58720" y="685800"/>
            <a:ext cx="7823160" cy="58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77800" y="682560"/>
            <a:ext cx="7799400" cy="58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71680" y="698400"/>
            <a:ext cx="78105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46080" y="679320"/>
            <a:ext cx="7442280" cy="58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Consumption of STA’s HP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36640" y="1335240"/>
            <a:ext cx="7775640" cy="55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38080" y="679320"/>
            <a:ext cx="7467480" cy="58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27000" y="674640"/>
            <a:ext cx="7149960" cy="58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800280" y="622440"/>
            <a:ext cx="7607160" cy="56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11360" y="723960"/>
            <a:ext cx="807732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tion Cond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linear : OBO=5dB in ALL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 path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 quant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Capacity -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33520" y="1601640"/>
            <a:ext cx="827892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Capacity -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65000" y="1833480"/>
            <a:ext cx="814860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7848720" cy="4495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 of propo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6438960" cy="4997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 to 5 Mbit/s, 5 carriers in 100 MH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277040" cy="4898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Power Consumption (0.35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m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523880" y="1492200"/>
            <a:ext cx="6199200" cy="5175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Sensi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8191440" cy="4255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ust against Delay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. Hayes</dc:creator>
  <dc:description/>
  <dc:language>en-US</dc:language>
  <cp:lastModifiedBy>V. Hayes</cp:lastModifiedBy>
  <cp:revision>0</cp:revision>
  <dc:subject/>
  <dc:title>No Slide Title</dc:title>
</cp:coreProperties>
</file>