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121932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for Including Transmission Effects in Throughput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68580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ffects &amp; Non-unifor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81080"/>
            <a:ext cx="8229600" cy="44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odel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o_Coll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pends upon number of contending units 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“External” effects (ACI/CCI, Noise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o_Collisio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Unit-Specific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robability that unit m is ready to trans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“offered traffic” for unit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o_Collisio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robability that unit m is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3774960" cy="47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Balance for Equilibrium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Queued Traffic for Con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Conten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to Compute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by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19720" y="2208240"/>
            <a:ext cx="4160880" cy="728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95760" y="4791240"/>
            <a:ext cx="1870200" cy="730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460760" y="3876840"/>
            <a:ext cx="3809880" cy="731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0" y="2971800"/>
            <a:ext cx="4048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quilibrium successful frame-transfer balances rate of new traffic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BSA with 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/s per 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/s per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eer-to-Peer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’t Use Contention for Disparate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is “Fair”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895480"/>
            <a:ext cx="228600" cy="22860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1981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28954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954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38098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79920" y="1974960"/>
            <a:ext cx="2222640" cy="2070000"/>
          </a:xfrm>
          <a:prstGeom prst="ellipse">
            <a:avLst/>
          </a:prstGeom>
          <a:noFill/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400800" y="30160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486400" y="30160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705720" y="19810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391520" y="25588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705720" y="37018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24280" y="4191120"/>
            <a:ext cx="4194000" cy="2108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7010280" y="457200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00800" y="490860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43600" y="524520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BSA with 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752480"/>
            <a:ext cx="380988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/s per 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/s per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 with .7 Duty Factor for AP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s Contend with STAs for .3 Du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s 10:4 Ratio of AP/STA Traffic at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4241880" cy="21654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5187960" y="2363760"/>
            <a:ext cx="2660760" cy="227160"/>
            <a:chOff x="5187960" y="2363760"/>
            <a:chExt cx="2660760" cy="227160"/>
          </a:xfrm>
        </p:grpSpPr>
        <p:sp>
          <p:nvSpPr>
            <p:cNvPr id="135" name=""/>
            <p:cNvSpPr/>
            <p:nvPr/>
          </p:nvSpPr>
          <p:spPr>
            <a:xfrm>
              <a:off x="5187960" y="236376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86600" y="236376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48720" y="236376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 txBox="1"/>
          <p:nvPr/>
        </p:nvSpPr>
        <p:spPr>
          <a:xfrm>
            <a:off x="5867280" y="2362320"/>
            <a:ext cx="609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CF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162920" y="2346480"/>
            <a:ext cx="60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 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594360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STA generation suspended during CFI to avoid modeling the resumption trans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BS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I with Single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/s per 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/s per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pagation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 with .7 Duty Factor for AP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s Contend with STAs for .3 Du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895480"/>
            <a:ext cx="228600" cy="22860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1981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28954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40384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9528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58672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28954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67480" y="49528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38098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79920" y="1974960"/>
            <a:ext cx="2222640" cy="2070000"/>
          </a:xfrm>
          <a:prstGeom prst="ellipse">
            <a:avLst/>
          </a:prstGeom>
          <a:noFill/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79920" y="4032360"/>
            <a:ext cx="2222640" cy="2070000"/>
          </a:xfrm>
          <a:prstGeom prst="ellipse">
            <a:avLst/>
          </a:prstGeom>
          <a:noFill/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4952880"/>
            <a:ext cx="228600" cy="22860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924680" y="289548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924680" y="472428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400800" y="30160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86400" y="30160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705720" y="19810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391520" y="25588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705720" y="37018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24480" y="502920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486400" y="51814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705720" y="57592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391520" y="46162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172200" y="40384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BS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I with Single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11040" y="1965240"/>
            <a:ext cx="380376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As Unsynchro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7 that AP sees other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3 that AP sees STAs in other B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7 that STAs see other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3 that STAs see STAs in other B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Conditional Through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187960" y="2363760"/>
            <a:ext cx="2660760" cy="227160"/>
            <a:chOff x="5187960" y="2363760"/>
            <a:chExt cx="2660760" cy="227160"/>
          </a:xfrm>
        </p:grpSpPr>
        <p:sp>
          <p:nvSpPr>
            <p:cNvPr id="170" name=""/>
            <p:cNvSpPr/>
            <p:nvPr/>
          </p:nvSpPr>
          <p:spPr>
            <a:xfrm>
              <a:off x="5187960" y="236376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86600" y="236376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48720" y="236376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562720" y="1982880"/>
            <a:ext cx="2660400" cy="226800"/>
            <a:chOff x="5562720" y="1982880"/>
            <a:chExt cx="2660400" cy="226800"/>
          </a:xfrm>
        </p:grpSpPr>
        <p:sp>
          <p:nvSpPr>
            <p:cNvPr id="174" name=""/>
            <p:cNvSpPr/>
            <p:nvPr/>
          </p:nvSpPr>
          <p:spPr>
            <a:xfrm>
              <a:off x="5562720" y="198288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61360" y="198288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23120" y="198288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 txBox="1"/>
          <p:nvPr/>
        </p:nvSpPr>
        <p:spPr>
          <a:xfrm>
            <a:off x="5867280" y="2362320"/>
            <a:ext cx="609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CF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248520" y="1965240"/>
            <a:ext cx="609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CF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543800" y="1981080"/>
            <a:ext cx="60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 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162920" y="2346480"/>
            <a:ext cx="60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 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422280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BS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I with Single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2590920"/>
            <a:ext cx="37339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BSAs Synchroniz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959360" y="2712960"/>
            <a:ext cx="2660760" cy="227160"/>
            <a:chOff x="4959360" y="2712960"/>
            <a:chExt cx="2660760" cy="227160"/>
          </a:xfrm>
        </p:grpSpPr>
        <p:sp>
          <p:nvSpPr>
            <p:cNvPr id="185" name=""/>
            <p:cNvSpPr/>
            <p:nvPr/>
          </p:nvSpPr>
          <p:spPr>
            <a:xfrm>
              <a:off x="4959360" y="271296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0" y="271296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0120" y="271296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952880" y="2347920"/>
            <a:ext cx="2660760" cy="227160"/>
            <a:chOff x="4952880" y="2347920"/>
            <a:chExt cx="2660760" cy="227160"/>
          </a:xfrm>
        </p:grpSpPr>
        <p:sp>
          <p:nvSpPr>
            <p:cNvPr id="189" name=""/>
            <p:cNvSpPr/>
            <p:nvPr/>
          </p:nvSpPr>
          <p:spPr>
            <a:xfrm>
              <a:off x="4952880" y="234792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1520" y="234792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13640" y="234792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5638680" y="2711520"/>
            <a:ext cx="609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CF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38680" y="2330280"/>
            <a:ext cx="609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CF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934320" y="2346480"/>
            <a:ext cx="60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 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934320" y="2695680"/>
            <a:ext cx="60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 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57720" y="3581280"/>
            <a:ext cx="4213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BS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I with Code Chann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/s per 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/s per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pagation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 A1 &amp; B1 have near/far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 with .7 Duty Factor for AP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s Contend with STAs for .3 Du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2895480"/>
            <a:ext cx="228600" cy="22860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1981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7480" y="28954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40384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49528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58672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28954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49528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38098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79920" y="1974960"/>
            <a:ext cx="2222640" cy="2070000"/>
          </a:xfrm>
          <a:prstGeom prst="ellipse">
            <a:avLst/>
          </a:prstGeom>
          <a:noFill/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79920" y="4032360"/>
            <a:ext cx="2222640" cy="2070000"/>
          </a:xfrm>
          <a:prstGeom prst="ellipse">
            <a:avLst/>
          </a:prstGeom>
          <a:noFill/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4952880"/>
            <a:ext cx="228600" cy="22860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924680" y="289548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924680" y="472428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400800" y="30160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486400" y="30160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05720" y="19810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391520" y="25588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05720" y="37018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324480" y="502920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486400" y="51814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705720" y="57592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391520" y="46162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172200" y="4038480"/>
            <a:ext cx="3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BS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I with Code Chann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808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Reception at A1 Blocked if B1 Transm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 Reception Blocked at A1 if B1 Transm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random with Respect to 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421308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Point Through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2486160"/>
            <a:ext cx="6108840" cy="3279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5181480" y="2819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ed B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181480" y="312408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191120" y="358128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ode, Unsynchronized B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191120" y="41911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ode, Synchronized B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lin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s-Only: M  STAs, peer-to-p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 to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uniform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A Operation with High AP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Channel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STA Through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6108840" cy="33274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781680" y="2362320"/>
            <a:ext cx="2136600" cy="2556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V="1">
            <a:off x="6097680" y="2592360"/>
            <a:ext cx="684000" cy="7603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7680" y="3811680"/>
            <a:ext cx="684000" cy="7603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19720" y="33526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ed B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419720" y="373392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276720" y="2637000"/>
            <a:ext cx="2819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ode, Unsynchronized BS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TAs steal capacity from A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819520" y="41911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ode, Synchronized B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981080"/>
            <a:ext cx="7772400" cy="447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ed Formulation Captures “Phys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s Simple to Solve by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Demons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“Fair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Must Use Contention-Free Interval (if high traff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ization Can Isolate BSAs to Provide More Nearly Full Capacity per B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-Code Operation Enables STAs to “Steal” AP 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-Only Capacity Model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Peer Stations; Frame Rat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699240" y="2019240"/>
            <a:ext cx="774720" cy="34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5880" y="2025720"/>
            <a:ext cx="609480" cy="336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2025720"/>
            <a:ext cx="762120" cy="336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36376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80440" y="236376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6200" y="240660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x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6080" y="2590920"/>
            <a:ext cx="2741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373040" y="2603520"/>
            <a:ext cx="2741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27240" y="2019240"/>
            <a:ext cx="3975120" cy="34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Fram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19520" y="3168720"/>
            <a:ext cx="762120" cy="336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5880" y="3168720"/>
            <a:ext cx="762120" cy="336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5160" y="3162240"/>
            <a:ext cx="2527200" cy="349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Transfer Attem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3040" y="2744640"/>
            <a:ext cx="2208240" cy="4240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097680" y="2744640"/>
            <a:ext cx="1382760" cy="4240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36259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STAs Cont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38400" y="371952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k STAs Potential New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57360" y="4572000"/>
            <a:ext cx="261288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410000" y="4572000"/>
            <a:ext cx="4048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quilibrium successful frame-transfer balances rate of new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59080" y="249228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135160" y="3719520"/>
            <a:ext cx="684360" cy="165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9520" y="350532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20960" y="388620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78440" y="388620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57360" y="6095880"/>
            <a:ext cx="507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approach suggested by Bob O’Hara (D11_97/7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39920" y="5337000"/>
            <a:ext cx="1353960" cy="40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410000" y="5389560"/>
            <a:ext cx="4048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 (if not in equilibrium then k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-Only Capacity Model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74600" y="2438280"/>
            <a:ext cx="3252960" cy="776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74600" y="3459240"/>
            <a:ext cx="3727440" cy="776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23840" y="4498920"/>
            <a:ext cx="2943360" cy="1498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5456160" y="2438280"/>
            <a:ext cx="242424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TA selects slot n, all others selec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610240" y="3568680"/>
            <a:ext cx="18860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l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s average slot number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638680" y="4648320"/>
            <a:ext cx="2241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W doubles each time attempt fails or blo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610240" y="5243400"/>
            <a:ext cx="2282760" cy="754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954600" y="1905120"/>
            <a:ext cx="744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&gt;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-Only Capacity Model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-Consistent Approx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08320" y="4038480"/>
            <a:ext cx="3954600" cy="776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308320" y="5029200"/>
            <a:ext cx="3747960" cy="776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9800" y="2209680"/>
            <a:ext cx="6761160" cy="1498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295280" y="6172200"/>
            <a:ext cx="594360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guess at value of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o_Colli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not critical; can be refined during it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-Only Capacity Model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 vs. Contending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5880" y="6032520"/>
            <a:ext cx="14572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5360" y="1973160"/>
            <a:ext cx="2727360" cy="3736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34080" y="1982880"/>
            <a:ext cx="2736720" cy="3736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803760" y="5775480"/>
            <a:ext cx="123192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009960" y="1884240"/>
            <a:ext cx="2736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-Only Capacity Model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 vs. Contending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3760" y="5775480"/>
            <a:ext cx="123192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34080" y="2057400"/>
            <a:ext cx="2736720" cy="3736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2727360" cy="3736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971800" y="1955880"/>
            <a:ext cx="2736720" cy="372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095880" y="6032520"/>
            <a:ext cx="14572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-Only Capacity Model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590920"/>
            <a:ext cx="8229600" cy="29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Interplay Among k, CW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o_Colli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t Critical For Large 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slot number used goes to zero for large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es NTT/Lucent use of  ½ aCWmin (D11_98/14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of Collision Dominates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-Only Capacity Model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2514600"/>
            <a:ext cx="1353960" cy="40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3913200" cy="1168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228760" y="3581280"/>
            <a:ext cx="4699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