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 of TG-r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b O’H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rev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pa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on 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win Eng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ri Moel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toria Ponc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l Sanwa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ny Zwe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rev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r" pos="2857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 70 comments thus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r" pos="2457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r" pos="2457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r" pos="2457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ial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r" pos="2457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ial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r" pos="2457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s”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  <a:tabLst>
                <a:tab algn="r" pos="2457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: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rev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r" pos="2857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comments res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r" pos="2457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ed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r" pos="2457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ed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r" pos="2857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questions answered 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rev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changes wer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tion of notification objects in the MIB were changed to comply with SMIv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notification objects were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11Deauthent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11AuthenticateF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atenation of WEP secret key and IV was clarif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s were set on many attributes to minimize storag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11StationID is now depre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b O'Hara</dc:creator>
  <dc:description/>
  <dc:language>en-US</dc:language>
  <cp:lastModifiedBy>Bob O'Hara</cp:lastModifiedBy>
  <cp:revision>0</cp:revision>
  <dc:subject/>
  <dc:title>Report of TGrev</dc:title>
</cp:coreProperties>
</file>