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CCF5EA-CFBD-451E-9324-1F48911F8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the roposals re: data rate - no appreciabl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to note what was not that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is not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ing the General Purpose Wireless LAN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09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 Abramow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38088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 success to date has been primarily in vertical marke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2.4 GHz High Speed could be the enabling technology for the general purpos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perspective must be considered in choosing the H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market research projects conducted with decision makers in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LAN access for workers with portable computers in office environment identified as key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arket research results and customer preferences present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Perspective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Key Barriers to Broader 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 pric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d to wired LA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 Ethernet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is more of concern tha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Packe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my users compl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ith inter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Perspectives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2.4 GHz HS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compatibility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message resonates with network decision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 alternative” customers with significant capacity requirements will migrate to 5 GHz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 for 2.4 GHz  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backward compatibility as an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selection must prioritize ke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