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76600" y="396720"/>
            <a:ext cx="398160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17-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2.4-GHz PH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8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 for Legacy DS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H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-Mode transceiver (exploit CCA  circui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DSSS plus Legacy DSS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HSS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Legacy Header as Precursor to High-Rate D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HY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to coordinate Alternate High-Rate PHY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sacrifice high-rate throughpu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In Multipath &amp;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: 10 Mbps (+ 18 Mbps spin-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 for High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y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s For High Syste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with Legacy DSSS or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3887640" y="2516040"/>
            <a:ext cx="303480" cy="159876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8000" y="2752560"/>
            <a:ext cx="0" cy="310212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1060560" cy="83196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4419720"/>
            <a:ext cx="1752480" cy="1929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52480" y="2209680"/>
            <a:ext cx="762120" cy="609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2666880"/>
            <a:ext cx="129528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657600"/>
            <a:ext cx="1066680" cy="9144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DB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-4x4DBO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19720" y="3733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28800" y="2424240"/>
            <a:ext cx="1324080" cy="181080"/>
          </a:xfrm>
          <a:prstGeom prst="rect">
            <a:avLst/>
          </a:prstGeom>
          <a:solidFill>
            <a:srgbClr val="dadada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N Cod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720" y="24382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19720" y="57913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19720" y="26668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1520" y="2514600"/>
            <a:ext cx="198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5960" y="2836800"/>
            <a:ext cx="63036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836800"/>
            <a:ext cx="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1520" y="44956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0280" y="251460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40280" y="274320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800" y="5091120"/>
            <a:ext cx="1095480" cy="638280"/>
          </a:xfrm>
          <a:prstGeom prst="rect">
            <a:avLst/>
          </a:prstGeom>
          <a:solidFill>
            <a:srgbClr val="a2c1fe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QPSK Sp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97200" y="5091120"/>
            <a:ext cx="1774800" cy="181080"/>
          </a:xfrm>
          <a:prstGeom prst="rect">
            <a:avLst/>
          </a:prstGeom>
          <a:solidFill>
            <a:srgbClr val="dadada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PA Bac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55627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1520" y="51814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1520" y="56386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05320" y="5548320"/>
            <a:ext cx="1927080" cy="181080"/>
          </a:xfrm>
          <a:prstGeom prst="rect">
            <a:avLst/>
          </a:prstGeom>
          <a:solidFill>
            <a:srgbClr val="a2ffa3"/>
          </a:solid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y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5240" y="4513320"/>
            <a:ext cx="731520" cy="35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73440" y="5019840"/>
            <a:ext cx="731880" cy="17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75240" y="56386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6520" y="1488960"/>
            <a:ext cx="1019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n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25880" y="1488960"/>
            <a:ext cx="561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7600" y="1488960"/>
            <a:ext cx="803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135920" y="1488960"/>
            <a:ext cx="841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41911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19112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1520" y="42670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32240" y="2514600"/>
            <a:ext cx="18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75240" y="42670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1520" y="380988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81680" y="1981080"/>
            <a:ext cx="1905120" cy="151776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81680" y="5334120"/>
            <a:ext cx="1905120" cy="106668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Isolation; Coexistence &amp;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81680" y="3733920"/>
            <a:ext cx="1905120" cy="83808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9720" y="2209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2240" y="2286000"/>
            <a:ext cx="187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800600"/>
            <a:ext cx="1905120" cy="30492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49528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42120" y="38098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42120" y="42670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2120" y="27432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42120" y="22860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42120" y="25146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25840" y="197820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1520" y="205740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42120" y="20574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42120" y="56386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5480" y="190512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42120" y="58672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5867280"/>
            <a:ext cx="1054080" cy="4446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1520" y="6095880"/>
            <a:ext cx="5214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19720" y="44197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9720" y="28954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31240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29718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2120" y="32004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39625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-Mbps Data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2120" y="40384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1520" y="403848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19720" y="3352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,13)  F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42120" y="34290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4876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5640" y="586728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32240" y="2743200"/>
            <a:ext cx="18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5240" y="4284720"/>
            <a:ext cx="731520" cy="198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4360" y="4116240"/>
            <a:ext cx="231840" cy="68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6280" y="44956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36520" y="22795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36520" y="25844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Toler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6520" y="28893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36520" y="44132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36520" y="47181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Backoff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mW PCMC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861160" y="258444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360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3760" y="2889360"/>
            <a:ext cx="41274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3760" y="4413240"/>
            <a:ext cx="41274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K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61160" y="471816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~ 2 dB  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OQP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36520" y="38037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61160" y="380376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36520" y="31939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-up Rate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ood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3760" y="3193920"/>
            <a:ext cx="41274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36520" y="50227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te Legacy DS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861160" y="502272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&amp;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3760" y="2279520"/>
            <a:ext cx="41274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3760" y="258444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3760" y="471816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0 Db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3760" y="380376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3760" y="502272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867280" y="198108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9880" y="198108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36520" y="41083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861160" y="410832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3760" y="410832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36520" y="53276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te Legacy FH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1160" y="532764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&amp;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3760" y="5327640"/>
            <a:ext cx="20700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76520" y="586728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10 Mbps with Channel Matched Filter but no MLSE; MLSE could be added to strengthen 18 Mbps mode as technology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36520" y="34988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3760" y="3498840"/>
            <a:ext cx="41274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New PN Codes (cose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osets with Best Autocorrelation Side L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 chosen for best full cross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correlation side lobes are worse problem than crosscorrelation side l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elay-Spread Tolerance to 360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es Different Data-Code-Channe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de, 2 alternating or 4 alter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4 total; 40 with “best” multipath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6197760"/>
            <a:ext cx="34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t definitions ref: Doc 97/117, Cafa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Autocorrelation Side L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0560" y="2203560"/>
            <a:ext cx="838080" cy="2101680"/>
            <a:chOff x="1060560" y="2203560"/>
            <a:chExt cx="838080" cy="2101680"/>
          </a:xfrm>
        </p:grpSpPr>
        <p:sp>
          <p:nvSpPr>
            <p:cNvPr id="156" name=""/>
            <p:cNvSpPr/>
            <p:nvPr/>
          </p:nvSpPr>
          <p:spPr>
            <a:xfrm>
              <a:off x="1060560" y="220356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0560" y="233676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0560" y="2468520"/>
              <a:ext cx="838080" cy="111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0560" y="260208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60560" y="273528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0560" y="2867040"/>
              <a:ext cx="838080" cy="111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0560" y="300024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0560" y="313380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0560" y="326556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0560" y="339876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3530520"/>
              <a:ext cx="838080" cy="111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0560" y="366408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0560" y="379728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0560" y="3929040"/>
              <a:ext cx="838080" cy="1112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0560" y="406224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0560" y="4195800"/>
              <a:ext cx="83808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609480" y="1828800"/>
            <a:ext cx="1762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correlator 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3800" y="3174840"/>
            <a:ext cx="321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3800" y="4572000"/>
            <a:ext cx="321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38680" y="2782800"/>
            <a:ext cx="20685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38680" y="4179960"/>
            <a:ext cx="20685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97280" y="2440080"/>
            <a:ext cx="455400" cy="760320"/>
            <a:chOff x="2897280" y="2440080"/>
            <a:chExt cx="455400" cy="760320"/>
          </a:xfrm>
        </p:grpSpPr>
        <p:sp>
          <p:nvSpPr>
            <p:cNvPr id="178" name=""/>
            <p:cNvSpPr/>
            <p:nvPr/>
          </p:nvSpPr>
          <p:spPr>
            <a:xfrm flipH="1">
              <a:off x="2897280" y="2440080"/>
              <a:ext cx="226800" cy="76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880" y="2440080"/>
              <a:ext cx="226800" cy="76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5360" y="2440080"/>
            <a:ext cx="455760" cy="760320"/>
            <a:chOff x="3735360" y="2440080"/>
            <a:chExt cx="455760" cy="760320"/>
          </a:xfrm>
        </p:grpSpPr>
        <p:sp>
          <p:nvSpPr>
            <p:cNvPr id="181" name=""/>
            <p:cNvSpPr/>
            <p:nvPr/>
          </p:nvSpPr>
          <p:spPr>
            <a:xfrm flipH="1">
              <a:off x="3735360" y="2440080"/>
              <a:ext cx="227160" cy="76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3960" y="2440080"/>
              <a:ext cx="227160" cy="76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97280" y="4192560"/>
            <a:ext cx="455400" cy="379440"/>
            <a:chOff x="2897280" y="4192560"/>
            <a:chExt cx="455400" cy="379440"/>
          </a:xfrm>
        </p:grpSpPr>
        <p:sp>
          <p:nvSpPr>
            <p:cNvPr id="184" name=""/>
            <p:cNvSpPr/>
            <p:nvPr/>
          </p:nvSpPr>
          <p:spPr>
            <a:xfrm flipH="1">
              <a:off x="2897280" y="4192560"/>
              <a:ext cx="226800" cy="37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880" y="4192560"/>
              <a:ext cx="226800" cy="37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97280" y="3201840"/>
            <a:ext cx="455400" cy="379440"/>
            <a:chOff x="2897280" y="3201840"/>
            <a:chExt cx="455400" cy="379440"/>
          </a:xfrm>
        </p:grpSpPr>
        <p:sp>
          <p:nvSpPr>
            <p:cNvPr id="187" name=""/>
            <p:cNvSpPr/>
            <p:nvPr/>
          </p:nvSpPr>
          <p:spPr>
            <a:xfrm flipH="1" flipV="1">
              <a:off x="2897280" y="3201840"/>
              <a:ext cx="226800" cy="37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125880" y="3201840"/>
              <a:ext cx="226800" cy="37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897280" y="2820960"/>
            <a:ext cx="455400" cy="379440"/>
            <a:chOff x="2897280" y="2820960"/>
            <a:chExt cx="455400" cy="379440"/>
          </a:xfrm>
        </p:grpSpPr>
        <p:sp>
          <p:nvSpPr>
            <p:cNvPr id="190" name=""/>
            <p:cNvSpPr/>
            <p:nvPr/>
          </p:nvSpPr>
          <p:spPr>
            <a:xfrm flipH="1">
              <a:off x="2897280" y="2820960"/>
              <a:ext cx="226800" cy="37944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5880" y="2820960"/>
              <a:ext cx="226800" cy="379440"/>
            </a:xfrm>
            <a:prstGeom prst="line">
              <a:avLst/>
            </a:prstGeom>
            <a:ln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666880" y="1828800"/>
            <a:ext cx="914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lob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38480" y="1981080"/>
            <a:ext cx="10666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in lob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irect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14600" y="3505320"/>
            <a:ext cx="1600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utocorrelation side lobe of direct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362320" y="4648320"/>
            <a:ext cx="1600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rosscorrelation side lobe of direct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430440" y="3201840"/>
            <a:ext cx="1370160" cy="3794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352680"/>
            <a:ext cx="1600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sultant signal from correc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5334120"/>
            <a:ext cx="6781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autocorrelation side lobe can reduce the magnitude of the correct output, making is easier for a crosscorrelation side lobe in any incorrect channel to exceed the magnitide of the correct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45400" cy="4140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800600" y="6019920"/>
            <a:ext cx="3276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eviously reported 275 ns was average for “best crosscorrelation”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6324480"/>
            <a:ext cx="35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 ref: Doc 98/175, Bo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Channel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OQPSK Spreading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andwidth while retaining 10-Mbp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s spectral re-growth in PA nonline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ress Spectral Side L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CC protected b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but “Square-Up” Main Spectral 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KK 90%-energy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e 35-dB A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current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3232080" cy="1812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QPSK Sp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1800" y="2800440"/>
            <a:ext cx="1063800" cy="8762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•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25680" y="2440080"/>
            <a:ext cx="68400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5680" y="3506760"/>
            <a:ext cx="68400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14400" y="228600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C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388620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 C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762600" y="2800440"/>
            <a:ext cx="952560" cy="8002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M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83480" y="23623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783480" y="40384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23637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238880" y="358308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66920" y="1962000"/>
            <a:ext cx="4533840" cy="800280"/>
            <a:chOff x="2266920" y="1962000"/>
            <a:chExt cx="4533840" cy="800280"/>
          </a:xfrm>
        </p:grpSpPr>
        <p:sp>
          <p:nvSpPr>
            <p:cNvPr id="218" name=""/>
            <p:cNvSpPr txBox="1"/>
            <p:nvPr/>
          </p:nvSpPr>
          <p:spPr>
            <a:xfrm>
              <a:off x="2266920" y="196200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p Pul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562200" y="196200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 LP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1840" y="236232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857840" y="2114640"/>
              <a:ext cx="647640" cy="495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7480" y="236232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848200" y="196200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der LP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7840" y="236232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266920" y="3638520"/>
            <a:ext cx="4533840" cy="800280"/>
            <a:chOff x="2266920" y="3638520"/>
            <a:chExt cx="4533840" cy="800280"/>
          </a:xfrm>
        </p:grpSpPr>
        <p:sp>
          <p:nvSpPr>
            <p:cNvPr id="226" name=""/>
            <p:cNvSpPr txBox="1"/>
            <p:nvPr/>
          </p:nvSpPr>
          <p:spPr>
            <a:xfrm>
              <a:off x="2266920" y="363852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p Pul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562200" y="363852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 LP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1840" y="4038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857840" y="3790800"/>
              <a:ext cx="647640" cy="495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7480" y="4038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848200" y="3638520"/>
              <a:ext cx="952560" cy="80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der LP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7840" y="4038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97880" y="32004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96080" y="2739960"/>
            <a:ext cx="12952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AW Filter Required on Trans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6197760"/>
            <a:ext cx="432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ing approach ref: Doc 98/203, Webster &amp; An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38560" y="3619440"/>
            <a:ext cx="305280" cy="2210040"/>
          </a:xfrm>
          <a:custGeom>
            <a:avLst/>
            <a:gdLst/>
            <a:ahLst/>
            <a:rect l="0" t="0" r="r" b="b"/>
            <a:pathLst>
              <a:path fill="none" w="848" h="6139">
                <a:moveTo>
                  <a:pt x="0" y="0"/>
                </a:moveTo>
                <a:lnTo>
                  <a:pt x="3" y="639"/>
                </a:lnTo>
                <a:lnTo>
                  <a:pt x="5" y="1278"/>
                </a:lnTo>
                <a:lnTo>
                  <a:pt x="19" y="2205"/>
                </a:lnTo>
                <a:lnTo>
                  <a:pt x="41" y="2845"/>
                </a:lnTo>
                <a:lnTo>
                  <a:pt x="69" y="3005"/>
                </a:lnTo>
                <a:lnTo>
                  <a:pt x="354" y="3005"/>
                </a:lnTo>
                <a:lnTo>
                  <a:pt x="381" y="3293"/>
                </a:lnTo>
                <a:lnTo>
                  <a:pt x="403" y="3933"/>
                </a:lnTo>
                <a:lnTo>
                  <a:pt x="417" y="4892"/>
                </a:lnTo>
                <a:lnTo>
                  <a:pt x="423" y="5499"/>
                </a:lnTo>
                <a:lnTo>
                  <a:pt x="423" y="6139"/>
                </a:lnTo>
                <a:lnTo>
                  <a:pt x="425" y="5499"/>
                </a:lnTo>
                <a:lnTo>
                  <a:pt x="428" y="4892"/>
                </a:lnTo>
                <a:lnTo>
                  <a:pt x="445" y="3933"/>
                </a:lnTo>
                <a:lnTo>
                  <a:pt x="466" y="3293"/>
                </a:lnTo>
                <a:lnTo>
                  <a:pt x="494" y="3005"/>
                </a:lnTo>
                <a:lnTo>
                  <a:pt x="776" y="3005"/>
                </a:lnTo>
                <a:lnTo>
                  <a:pt x="804" y="2845"/>
                </a:lnTo>
                <a:lnTo>
                  <a:pt x="826" y="2205"/>
                </a:lnTo>
                <a:lnTo>
                  <a:pt x="843" y="1278"/>
                </a:lnTo>
                <a:lnTo>
                  <a:pt x="845" y="639"/>
                </a:lnTo>
                <a:lnTo>
                  <a:pt x="848" y="0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438280" y="48769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00 gates I &amp;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4648320"/>
            <a:ext cx="12193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61722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391520" y="54626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0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629400" y="614844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129440" y="614844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0120" y="6148440"/>
            <a:ext cx="311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800600" y="5257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Spectrum to Mod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Amplifier Back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156280" cy="3746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089160" cy="3736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643040" y="5791320"/>
            <a:ext cx="5207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 Tx power requires almost 5-dB backo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for 10-mW PCMCIA is closer to 2-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