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543615-DB85-49C4-ABEF-9EF283299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1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7240" y="609480"/>
            <a:ext cx="7770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593640" y="6446880"/>
            <a:ext cx="895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7240" y="6324480"/>
            <a:ext cx="7847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685800"/>
            <a:ext cx="7772400" cy="13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46th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2590920"/>
            <a:ext cx="7772400" cy="35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03280" indent="-503280" algn="ctr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rsonal Area Network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tative Agend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3280" indent="-503280" algn="ctr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 indent="-50328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y 4-7, 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3280" indent="-50328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trecht, the Nether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3280" indent="-50328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ession starts on Monday, May 4, 10:3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adjournment of the 802.11 Full WG 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Mee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3600" y="1828800"/>
            <a:ext cx="906300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s for this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 in the WPAN Study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781760" cy="58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day May 4, 1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pening of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roductory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oting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g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day May 4, 1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pproval of minutes from Cambridge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view of Con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option of 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ld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day May 4, 1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view objectives of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view functional requirements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scuss requirements for a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esday May 5, 1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view PAR process/temp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view draft 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termine 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eak into working groups for the 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dnesday May 6, 1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orts by PAR working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reate SG report for afternoon ple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rsday May 7, 1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plete work on draft of 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scuss Call for Propo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utput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cation/log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. Gifford</dc:creator>
  <dc:description>Ian Gifford, M/A-COM</dc:description>
  <dc:language>en-US</dc:language>
  <cp:lastModifiedBy>I. Gifford</cp:lastModifiedBy>
  <cp:revision>0</cp:revision>
  <dc:subject>Draft Agenda WPAN SG Utrecht, NL 5/4-8/98</dc:subject>
  <dc:title>doc.: IEEE 802.11-98/169</dc:title>
</cp:coreProperties>
</file>