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C9D347-1FE0-4848-B134-DE9AB752C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 state transition for the 3tap PMA-MLSCE to estimate s(i) transmitted symbol at t=i. It is assumed that a transmitted symbol is binary, the length of a channel impulse response is 3 and the current time is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example, the PMA-MLSCE defines three state vectors S(t) for t=i, i-1 and i-2 which are consisted from symbol candidates s(i)’s and/or decision results D(i)s. Because D(i)s are deterministic, each state vector can take only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where m is the number of symbol candidates in a vector.  Then transitions between the state vectors can be defined as shown in the fig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MA-MLSCE calculates metric, |r(i-k)-S(i-k)h| for all possible state vector values. The calculated metric are summed up along the transitions as a combined metric. The PMA-MLSCE selects a transition which presents the minimum combined metric and outputs the s(i) in the transition as a estimated resul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duce complexity of implementation, it is possible for the PMA-MLSCE to implement the part  surrounded by the dotted line. In this case, the PMA-MLSCE uses two candidate symbols and one decision result to detect s(i). We denote the reduced PMA-MLSCE as n-m PMA-MLSCE, where n and m are tap number fed candidate symbols and decision results, respectively. Based on the notation, the part  surrounded by the dotted line can be expressed as 2-1 PMA-MLSCE. The implementation of 2-1 PMA-MLSCE for QPSK is demonstrated in the next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FC stru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ong as a multipath fading channel is time invariant, received signals produced by the same two sequences are identical. Therefore, by comparing a phase difference between corresponding symbols, frequency offset can be estimated. In order to remove fluctuations caused by Gaussian noise, the phase difference need to be averaged over several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PL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MA-MLSCE calculates replica of received signals, Sh. Using a phase of an error signal between received signal r(i) and the replica, 2th order  PLL tracking phase variations in a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proposed frame format. The PLCP Preamble consists of 124 symbols in a SYNC field and 8 symbols in a SFD (Start Frame Delimiter) field. The PLCP header includes both a 8-symbol header error check filed and a 6-symbol PSDU length word.  The rest 2 symbols in the PLCP header are used for PLCP contro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C filed is basically formed as a repetition of the 64-bit sequence, SEQ64. The SEQ64 can be represented based on the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…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1111 1111 1111 0000 1111 0011 0011 0000 1100 0000 0000 1111 0000 1100 1100 00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also shows a structure of SYNC field. A receiver executes antenna selection, AGC (Automatic Gain Control) setup, AFC (Automatic Frequency Control) setup and channel impulse response estimation through the SYNC f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 channel impulse response estimator. By using a preamble sequence of which correlation function becomes impulse,  a channel impulse response can be obtained by calculating correlation between a received preamble and the preamble sequence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to use the SEQ64 for a preamble. The correlation function of  the SEQ64 is presented at next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correlation function of the SEQ64. It is shown that the correlation function becomes a impulse during 26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present a receiver performance with the PMA-MLSCE and the channel impulse response estim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CCA detection mechanism, we propose to adopt envelope detection mechanism as shown in this figure. When an averaged envelope level of received signals gets over the threshold level (-78dbm), the CCA detector detects that the medium is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2280" y="763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86600" y="95400"/>
            <a:ext cx="22096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8/74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7440" y="1689120"/>
            <a:ext cx="89312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DATA of QPSK modulation</a:t>
            </a:r>
            <a:br>
              <a:rPr sz="2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,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uhiro OKANOUE, Yoshikazu KAKURA, Tomoki OHSAW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-1, Miyazaki, Miyamae-ku, Kawasaki, 216-8555, JAP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1 44 856 22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1 44 856 223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{okanoue,kakura,ohsawa}@ccm.CL.nec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19520" y="328680"/>
            <a:ext cx="24620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40" y="1428840"/>
            <a:ext cx="9875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6549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65496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35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45720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5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358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AW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8072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Fading+G-No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835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6858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0040" y="1682640"/>
            <a:ext cx="83869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7099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Overhead relate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687920" cy="488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7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1) -Basic structu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126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60948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2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 of Anti-Multipath schem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3440" y="26668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-by-Symbol detection based on Maximum Likelihood Sequence Estimation during Channel Impulse Response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alculation amount by using decis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84240" y="2279520"/>
            <a:ext cx="8470800" cy="24512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440" y="1982880"/>
            <a:ext cx="685476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Metric Addition MLSCE (PMA-MLS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457200"/>
            <a:ext cx="80010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 Transition of PMA-MLSC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87520" y="5972040"/>
            <a:ext cx="23684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i): symbo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66920" y="5972040"/>
            <a:ext cx="2976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i-k): Decision result at t=i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00800" y="5943600"/>
            <a:ext cx="2506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i): received signal at t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219320"/>
            <a:ext cx="9001080" cy="453960"/>
            <a:chOff x="457200" y="1219320"/>
            <a:chExt cx="9001080" cy="453960"/>
          </a:xfrm>
        </p:grpSpPr>
        <p:sp>
          <p:nvSpPr>
            <p:cNvPr id="163" name=""/>
            <p:cNvSpPr txBox="1"/>
            <p:nvPr/>
          </p:nvSpPr>
          <p:spPr>
            <a:xfrm>
              <a:off x="457200" y="1219320"/>
              <a:ext cx="90010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for channel impulse response(h) of length 3 and binary symb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29080" y="12812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1746360"/>
            <a:ext cx="8396280" cy="4012920"/>
            <a:chOff x="1143000" y="1746360"/>
            <a:chExt cx="8396280" cy="4012920"/>
          </a:xfrm>
        </p:grpSpPr>
        <p:sp>
          <p:nvSpPr>
            <p:cNvPr id="166" name=""/>
            <p:cNvSpPr/>
            <p:nvPr/>
          </p:nvSpPr>
          <p:spPr>
            <a:xfrm>
              <a:off x="1862280" y="1746360"/>
              <a:ext cx="4035600" cy="394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7008840" y="1770120"/>
              <a:ext cx="4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6562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5988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927080" y="2011320"/>
              <a:ext cx="20858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)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040280" y="2013120"/>
              <a:ext cx="20001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1),s(i)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319800" y="2013120"/>
              <a:ext cx="19162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2),s(i-1),s(i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992240" y="260208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1978200" y="317016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354560" y="247320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354560" y="2955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354560" y="347328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354560" y="4017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838920" y="24861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838920" y="2797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38920" y="31050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838920" y="3416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38920" y="3724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838920" y="40323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838920" y="4343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838920" y="4651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666960" y="2639880"/>
              <a:ext cx="719280" cy="1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68760" y="2817720"/>
              <a:ext cx="718920" cy="83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679920" y="3121200"/>
              <a:ext cx="718920" cy="31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1360" y="3438360"/>
              <a:ext cx="704880" cy="75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91080" y="2674800"/>
              <a:ext cx="1376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1080" y="2692440"/>
              <a:ext cx="1401840" cy="11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38960" y="2971800"/>
              <a:ext cx="1325520" cy="20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41840" y="3186000"/>
              <a:ext cx="1376640" cy="10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38960" y="3287880"/>
              <a:ext cx="1376280" cy="37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54800" y="3665520"/>
              <a:ext cx="133812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00800" y="3591000"/>
              <a:ext cx="1376280" cy="62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1000" y="2511360"/>
              <a:ext cx="687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143000" y="1797120"/>
              <a:ext cx="646200" cy="698400"/>
              <a:chOff x="1143000" y="1797120"/>
              <a:chExt cx="646200" cy="69840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1143000" y="1797120"/>
                <a:ext cx="646200" cy="69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(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0600" y="210672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919680" y="265284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389" y="1796"/>
                  </a:moveTo>
                  <a:lnTo>
                    <a:pt x="389" y="1796"/>
                  </a:lnTo>
                  <a:lnTo>
                    <a:pt x="389" y="1796"/>
                  </a:lnTo>
                  <a:cubicBezTo>
                    <a:pt x="389" y="1481"/>
                    <a:pt x="371" y="1171"/>
                    <a:pt x="337" y="898"/>
                  </a:cubicBezTo>
                  <a:cubicBezTo>
                    <a:pt x="303" y="625"/>
                    <a:pt x="254" y="398"/>
                    <a:pt x="194" y="241"/>
                  </a:cubicBezTo>
                  <a:cubicBezTo>
                    <a:pt x="135" y="83"/>
                    <a:pt x="6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3200" y="327816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0" y="1796"/>
                  </a:moveTo>
                  <a:lnTo>
                    <a:pt x="0" y="1796"/>
                  </a:lnTo>
                  <a:cubicBezTo>
                    <a:pt x="68" y="1796"/>
                    <a:pt x="135" y="1713"/>
                    <a:pt x="195" y="1555"/>
                  </a:cubicBezTo>
                  <a:cubicBezTo>
                    <a:pt x="254" y="1398"/>
                    <a:pt x="303" y="1171"/>
                    <a:pt x="337" y="898"/>
                  </a:cubicBezTo>
                  <a:cubicBezTo>
                    <a:pt x="371" y="625"/>
                    <a:pt x="389" y="315"/>
                    <a:pt x="38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53040" y="3554280"/>
              <a:ext cx="152640" cy="1040040"/>
            </a:xfrm>
            <a:custGeom>
              <a:avLst/>
              <a:gdLst/>
              <a:ahLst/>
              <a:rect l="0" t="0" r="r" b="b"/>
              <a:pathLst>
                <a:path fill="none" w="424" h="2889">
                  <a:moveTo>
                    <a:pt x="0" y="2889"/>
                  </a:moveTo>
                  <a:lnTo>
                    <a:pt x="0" y="2889"/>
                  </a:lnTo>
                  <a:cubicBezTo>
                    <a:pt x="74" y="2889"/>
                    <a:pt x="148" y="2756"/>
                    <a:pt x="212" y="2502"/>
                  </a:cubicBezTo>
                  <a:cubicBezTo>
                    <a:pt x="276" y="2248"/>
                    <a:pt x="330" y="1884"/>
                    <a:pt x="367" y="1445"/>
                  </a:cubicBezTo>
                  <a:cubicBezTo>
                    <a:pt x="404" y="1005"/>
                    <a:pt x="424" y="507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59520" y="2563920"/>
              <a:ext cx="152640" cy="1038600"/>
            </a:xfrm>
            <a:custGeom>
              <a:avLst/>
              <a:gdLst/>
              <a:ahLst/>
              <a:rect l="0" t="0" r="r" b="b"/>
              <a:pathLst>
                <a:path fill="none" w="424" h="2885">
                  <a:moveTo>
                    <a:pt x="424" y="2885"/>
                  </a:moveTo>
                  <a:lnTo>
                    <a:pt x="424" y="2885"/>
                  </a:lnTo>
                  <a:lnTo>
                    <a:pt x="424" y="2885"/>
                  </a:lnTo>
                  <a:cubicBezTo>
                    <a:pt x="424" y="2379"/>
                    <a:pt x="404" y="1881"/>
                    <a:pt x="367" y="1442"/>
                  </a:cubicBezTo>
                  <a:cubicBezTo>
                    <a:pt x="330" y="1004"/>
                    <a:pt x="276" y="640"/>
                    <a:pt x="212" y="387"/>
                  </a:cubicBezTo>
                  <a:cubicBezTo>
                    <a:pt x="148" y="133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998720" y="5189400"/>
              <a:ext cx="1622520" cy="395640"/>
              <a:chOff x="1998720" y="5189400"/>
              <a:chExt cx="1622520" cy="3956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199872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2)-S(i-2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70120" y="518940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4496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275000" y="5189400"/>
              <a:ext cx="1622520" cy="395640"/>
              <a:chOff x="4275000" y="5189400"/>
              <a:chExt cx="1622520" cy="39564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427500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1)-S(i-1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46760" y="5189400"/>
                <a:ext cx="176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24480" y="519588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759720" y="5189400"/>
              <a:ext cx="1200240" cy="395640"/>
              <a:chOff x="6759720" y="5189400"/>
              <a:chExt cx="1200240" cy="395640"/>
            </a:xfrm>
          </p:grpSpPr>
          <p:sp>
            <p:nvSpPr>
              <p:cNvPr id="215" name=""/>
              <p:cNvSpPr txBox="1"/>
              <p:nvPr/>
            </p:nvSpPr>
            <p:spPr>
              <a:xfrm>
                <a:off x="6759720" y="5191200"/>
                <a:ext cx="120024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)-S(i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78840" y="518940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5172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65520" y="3691080"/>
              <a:ext cx="0" cy="1338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4280" y="442584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9000" y="4995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61152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14196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8342280" y="5060880"/>
              <a:ext cx="119700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m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70680" y="5370480"/>
              <a:ext cx="454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166920" y="4262400"/>
              <a:ext cx="113976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673600" y="4668840"/>
              <a:ext cx="113976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633840" y="3944880"/>
              <a:ext cx="334800" cy="32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935680" y="4600440"/>
              <a:ext cx="15876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6640" y="4222800"/>
              <a:ext cx="1376280" cy="604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1371600" y="5562720"/>
            <a:ext cx="2133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 PMA-M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4) - 2-1 PMA-MLSC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64263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5) - AFC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00240" y="1836720"/>
            <a:ext cx="3084480" cy="544680"/>
            <a:chOff x="1200240" y="1836720"/>
            <a:chExt cx="3084480" cy="544680"/>
          </a:xfrm>
        </p:grpSpPr>
        <p:sp>
          <p:nvSpPr>
            <p:cNvPr id="241" name=""/>
            <p:cNvSpPr/>
            <p:nvPr/>
          </p:nvSpPr>
          <p:spPr>
            <a:xfrm>
              <a:off x="12002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64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5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79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57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40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2920" y="212076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20636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15922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65104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5436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103640" y="1836720"/>
            <a:ext cx="3084840" cy="544680"/>
            <a:chOff x="4103640" y="1836720"/>
            <a:chExt cx="3084840" cy="544680"/>
          </a:xfrm>
        </p:grpSpPr>
        <p:sp>
          <p:nvSpPr>
            <p:cNvPr id="254" name=""/>
            <p:cNvSpPr/>
            <p:nvPr/>
          </p:nvSpPr>
          <p:spPr>
            <a:xfrm>
              <a:off x="41036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98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87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1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91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74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71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16680" y="2120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11012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4956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55480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55812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173240" y="2967120"/>
            <a:ext cx="407880" cy="378000"/>
            <a:chOff x="1173240" y="2967120"/>
            <a:chExt cx="407880" cy="378000"/>
          </a:xfrm>
        </p:grpSpPr>
        <p:sp>
          <p:nvSpPr>
            <p:cNvPr id="267" name=""/>
            <p:cNvSpPr/>
            <p:nvPr/>
          </p:nvSpPr>
          <p:spPr>
            <a:xfrm>
              <a:off x="1173240" y="296712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271520" y="316224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384200" y="238428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0560" y="2384280"/>
            <a:ext cx="0" cy="7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587600" y="3149640"/>
            <a:ext cx="2705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71760" y="3360600"/>
            <a:ext cx="407880" cy="378000"/>
            <a:chOff x="1571760" y="3360600"/>
            <a:chExt cx="407880" cy="378000"/>
          </a:xfrm>
        </p:grpSpPr>
        <p:sp>
          <p:nvSpPr>
            <p:cNvPr id="273" name=""/>
            <p:cNvSpPr/>
            <p:nvPr/>
          </p:nvSpPr>
          <p:spPr>
            <a:xfrm>
              <a:off x="1571760" y="336060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670040" y="3556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44920" y="4071960"/>
            <a:ext cx="407880" cy="378000"/>
            <a:chOff x="2644920" y="4071960"/>
            <a:chExt cx="407880" cy="378000"/>
          </a:xfrm>
        </p:grpSpPr>
        <p:sp>
          <p:nvSpPr>
            <p:cNvPr id="276" name=""/>
            <p:cNvSpPr/>
            <p:nvPr/>
          </p:nvSpPr>
          <p:spPr>
            <a:xfrm>
              <a:off x="2644920" y="407196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743200" y="4267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782720" y="238428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55880" y="2384280"/>
            <a:ext cx="0" cy="1698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99080" y="238428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6120" y="3556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2384280"/>
            <a:ext cx="0" cy="188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4267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30320" y="28195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8840" y="5494320"/>
            <a:ext cx="230652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84200" y="3349800"/>
            <a:ext cx="0" cy="2143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2720" y="3755880"/>
            <a:ext cx="0" cy="1749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55880" y="4454640"/>
            <a:ext cx="0" cy="1038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87480" y="46339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5506920"/>
            <a:ext cx="126036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192560" y="5640480"/>
            <a:ext cx="1344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K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4440" y="5880240"/>
            <a:ext cx="7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51480" y="5880240"/>
            <a:ext cx="119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11880" y="5030640"/>
            <a:ext cx="3727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difference per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70520" y="4572000"/>
            <a:ext cx="4754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...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offset during 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86040" y="504504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28640" y="501660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997360" y="5059440"/>
            <a:ext cx="587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826240" y="54356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68640" y="5665680"/>
            <a:ext cx="331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492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1608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1400" y="474660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623"/>
                </a:moveTo>
                <a:lnTo>
                  <a:pt x="0" y="623"/>
                </a:lnTo>
                <a:cubicBezTo>
                  <a:pt x="470" y="623"/>
                  <a:pt x="932" y="594"/>
                  <a:pt x="1339" y="540"/>
                </a:cubicBezTo>
                <a:cubicBezTo>
                  <a:pt x="1746" y="485"/>
                  <a:pt x="2084" y="406"/>
                  <a:pt x="2319" y="311"/>
                </a:cubicBezTo>
                <a:cubicBezTo>
                  <a:pt x="2554" y="217"/>
                  <a:pt x="2678" y="109"/>
                  <a:pt x="267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28600" y="474012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0"/>
                </a:moveTo>
                <a:lnTo>
                  <a:pt x="0" y="0"/>
                </a:lnTo>
                <a:cubicBezTo>
                  <a:pt x="0" y="109"/>
                  <a:pt x="124" y="217"/>
                  <a:pt x="359" y="312"/>
                </a:cubicBezTo>
                <a:cubicBezTo>
                  <a:pt x="594" y="406"/>
                  <a:pt x="932" y="485"/>
                  <a:pt x="1339" y="540"/>
                </a:cubicBezTo>
                <a:cubicBezTo>
                  <a:pt x="1746" y="594"/>
                  <a:pt x="2208" y="623"/>
                  <a:pt x="2678" y="62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011400" y="4741920"/>
            <a:ext cx="1047960" cy="1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0040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1156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93960" y="1168560"/>
            <a:ext cx="2762640" cy="190800"/>
          </a:xfrm>
          <a:custGeom>
            <a:avLst/>
            <a:gdLst/>
            <a:ahLst/>
            <a:rect l="0" t="0" r="r" b="b"/>
            <a:pathLst>
              <a:path fill="none" w="7674" h="530">
                <a:moveTo>
                  <a:pt x="0" y="530"/>
                </a:moveTo>
                <a:lnTo>
                  <a:pt x="0" y="0"/>
                </a:lnTo>
                <a:lnTo>
                  <a:pt x="7674" y="0"/>
                </a:lnTo>
                <a:lnTo>
                  <a:pt x="7674" y="53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125880" y="960480"/>
            <a:ext cx="2087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6) - PLL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86080" y="152244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590840" y="164628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A-M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187020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2440" y="178920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762360" y="1246320"/>
            <a:ext cx="119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04800" y="284328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47720" y="2967120"/>
            <a:ext cx="1932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576520" y="220824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716360" y="2166840"/>
            <a:ext cx="1094040" cy="458640"/>
            <a:chOff x="4716360" y="2166840"/>
            <a:chExt cx="1094040" cy="458640"/>
          </a:xfrm>
        </p:grpSpPr>
        <p:sp>
          <p:nvSpPr>
            <p:cNvPr id="323" name=""/>
            <p:cNvSpPr txBox="1"/>
            <p:nvPr/>
          </p:nvSpPr>
          <p:spPr>
            <a:xfrm>
              <a:off x="4716360" y="2171520"/>
              <a:ext cx="1069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(i)-S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54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78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 txBox="1"/>
          <p:nvPr/>
        </p:nvSpPr>
        <p:spPr>
          <a:xfrm>
            <a:off x="1916280" y="3821040"/>
            <a:ext cx="514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1840" y="2211480"/>
            <a:ext cx="1577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88040" y="3430440"/>
            <a:ext cx="762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76520" y="3521160"/>
            <a:ext cx="0" cy="868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42080" y="3959280"/>
            <a:ext cx="1100160" cy="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03520" y="2421000"/>
            <a:ext cx="576360" cy="8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392880" y="1916280"/>
            <a:ext cx="722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80120" y="2309760"/>
            <a:ext cx="517680" cy="35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70120" y="4303800"/>
            <a:ext cx="372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05160" y="4381560"/>
            <a:ext cx="341280" cy="341280"/>
            <a:chOff x="2405160" y="4381560"/>
            <a:chExt cx="341280" cy="341280"/>
          </a:xfrm>
        </p:grpSpPr>
        <p:grpSp>
          <p:nvGrpSpPr>
            <p:cNvPr id="336" name=""/>
            <p:cNvGrpSpPr/>
            <p:nvPr/>
          </p:nvGrpSpPr>
          <p:grpSpPr>
            <a:xfrm>
              <a:off x="2457360" y="4446720"/>
              <a:ext cx="239760" cy="214200"/>
              <a:chOff x="2457360" y="4446720"/>
              <a:chExt cx="2397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2470320" y="44467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457360" y="44467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405160" y="43815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116080" y="4559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00" y="4827240"/>
            <a:ext cx="349560" cy="349560"/>
            <a:chOff x="3024000" y="4827240"/>
            <a:chExt cx="349560" cy="349560"/>
          </a:xfrm>
        </p:grpSpPr>
        <p:grpSp>
          <p:nvGrpSpPr>
            <p:cNvPr id="342" name=""/>
            <p:cNvGrpSpPr/>
            <p:nvPr/>
          </p:nvGrpSpPr>
          <p:grpSpPr>
            <a:xfrm>
              <a:off x="3043080" y="4843440"/>
              <a:ext cx="309600" cy="309600"/>
              <a:chOff x="3043080" y="4843440"/>
              <a:chExt cx="309600" cy="309600"/>
            </a:xfrm>
          </p:grpSpPr>
          <p:sp>
            <p:nvSpPr>
              <p:cNvPr id="343" name=""/>
              <p:cNvSpPr/>
              <p:nvPr/>
            </p:nvSpPr>
            <p:spPr>
              <a:xfrm>
                <a:off x="3043080" y="499752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97160" y="484344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3024000" y="482724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583000" y="4718160"/>
            <a:ext cx="433800" cy="289440"/>
          </a:xfrm>
          <a:custGeom>
            <a:avLst/>
            <a:gdLst/>
            <a:ahLst/>
            <a:rect l="0" t="0" r="r" b="b"/>
            <a:pathLst>
              <a:path fill="none" w="1205" h="804">
                <a:moveTo>
                  <a:pt x="0" y="0"/>
                </a:moveTo>
                <a:lnTo>
                  <a:pt x="0" y="804"/>
                </a:lnTo>
                <a:lnTo>
                  <a:pt x="1205" y="804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92440" y="5280120"/>
            <a:ext cx="384120" cy="453960"/>
            <a:chOff x="3592440" y="5280120"/>
            <a:chExt cx="384120" cy="453960"/>
          </a:xfrm>
        </p:grpSpPr>
        <p:sp>
          <p:nvSpPr>
            <p:cNvPr id="348" name=""/>
            <p:cNvSpPr/>
            <p:nvPr/>
          </p:nvSpPr>
          <p:spPr>
            <a:xfrm>
              <a:off x="3592440" y="531504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602160" y="528012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189240" y="516564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55920" y="3774960"/>
            <a:ext cx="341280" cy="341280"/>
            <a:chOff x="3355920" y="3774960"/>
            <a:chExt cx="341280" cy="341280"/>
          </a:xfrm>
        </p:grpSpPr>
        <p:grpSp>
          <p:nvGrpSpPr>
            <p:cNvPr id="352" name=""/>
            <p:cNvGrpSpPr/>
            <p:nvPr/>
          </p:nvGrpSpPr>
          <p:grpSpPr>
            <a:xfrm>
              <a:off x="3408480" y="3840120"/>
              <a:ext cx="239760" cy="214200"/>
              <a:chOff x="3408480" y="3840120"/>
              <a:chExt cx="239760" cy="214200"/>
            </a:xfrm>
          </p:grpSpPr>
          <p:sp>
            <p:nvSpPr>
              <p:cNvPr id="353" name=""/>
              <p:cNvSpPr/>
              <p:nvPr/>
            </p:nvSpPr>
            <p:spPr>
              <a:xfrm>
                <a:off x="3421080" y="38401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3408480" y="38401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355920" y="37749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3402000" y="4275000"/>
            <a:ext cx="3477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54280" y="40924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76600" y="3965400"/>
            <a:ext cx="65880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62400" y="499284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410000" y="3789360"/>
            <a:ext cx="342000" cy="342000"/>
            <a:chOff x="4410000" y="3789360"/>
            <a:chExt cx="342000" cy="342000"/>
          </a:xfrm>
        </p:grpSpPr>
        <p:grpSp>
          <p:nvGrpSpPr>
            <p:cNvPr id="361" name=""/>
            <p:cNvGrpSpPr/>
            <p:nvPr/>
          </p:nvGrpSpPr>
          <p:grpSpPr>
            <a:xfrm>
              <a:off x="4429080" y="3805200"/>
              <a:ext cx="309600" cy="309600"/>
              <a:chOff x="4429080" y="3805200"/>
              <a:chExt cx="309600" cy="309600"/>
            </a:xfrm>
          </p:grpSpPr>
          <p:sp>
            <p:nvSpPr>
              <p:cNvPr id="362" name=""/>
              <p:cNvSpPr/>
              <p:nvPr/>
            </p:nvSpPr>
            <p:spPr>
              <a:xfrm>
                <a:off x="442908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316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410000" y="378936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05120" y="39625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589640" y="412128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16560" y="492120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9920" y="388152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145120" y="3789360"/>
            <a:ext cx="349560" cy="349560"/>
            <a:chOff x="5145120" y="3789360"/>
            <a:chExt cx="349560" cy="349560"/>
          </a:xfrm>
        </p:grpSpPr>
        <p:grpSp>
          <p:nvGrpSpPr>
            <p:cNvPr id="370" name=""/>
            <p:cNvGrpSpPr/>
            <p:nvPr/>
          </p:nvGrpSpPr>
          <p:grpSpPr>
            <a:xfrm>
              <a:off x="5164200" y="3805200"/>
              <a:ext cx="309600" cy="309600"/>
              <a:chOff x="5164200" y="3805200"/>
              <a:chExt cx="309600" cy="309600"/>
            </a:xfrm>
          </p:grpSpPr>
          <p:sp>
            <p:nvSpPr>
              <p:cNvPr id="371" name=""/>
              <p:cNvSpPr/>
              <p:nvPr/>
            </p:nvSpPr>
            <p:spPr>
              <a:xfrm>
                <a:off x="516420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828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145120" y="378936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713560" y="4241880"/>
            <a:ext cx="384120" cy="453960"/>
            <a:chOff x="5713560" y="4241880"/>
            <a:chExt cx="384120" cy="453960"/>
          </a:xfrm>
        </p:grpSpPr>
        <p:sp>
          <p:nvSpPr>
            <p:cNvPr id="375" name=""/>
            <p:cNvSpPr/>
            <p:nvPr/>
          </p:nvSpPr>
          <p:spPr>
            <a:xfrm>
              <a:off x="5713560" y="427680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722920" y="424188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10360" y="412740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3160" y="395460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37320" y="388296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34000" y="39625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93760" y="2664000"/>
            <a:ext cx="5925960" cy="331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00960" y="4749840"/>
            <a:ext cx="186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L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N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862760" y="3786120"/>
            <a:ext cx="342000" cy="342000"/>
            <a:chOff x="7862760" y="3786120"/>
            <a:chExt cx="342000" cy="342000"/>
          </a:xfrm>
        </p:grpSpPr>
        <p:grpSp>
          <p:nvGrpSpPr>
            <p:cNvPr id="384" name=""/>
            <p:cNvGrpSpPr/>
            <p:nvPr/>
          </p:nvGrpSpPr>
          <p:grpSpPr>
            <a:xfrm>
              <a:off x="7881840" y="3801960"/>
              <a:ext cx="309600" cy="309600"/>
              <a:chOff x="7881840" y="3801960"/>
              <a:chExt cx="309600" cy="309600"/>
            </a:xfrm>
          </p:grpSpPr>
          <p:sp>
            <p:nvSpPr>
              <p:cNvPr id="385" name=""/>
              <p:cNvSpPr/>
              <p:nvPr/>
            </p:nvSpPr>
            <p:spPr>
              <a:xfrm>
                <a:off x="7881840" y="395604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35920" y="380196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862760" y="378612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220240" y="396252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39160" y="2282760"/>
            <a:ext cx="0" cy="1508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977240" y="214488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40680" y="22874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07360" y="3430440"/>
            <a:ext cx="468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0720" y="1371600"/>
            <a:ext cx="8224560" cy="3429000"/>
            <a:chOff x="990720" y="1371600"/>
            <a:chExt cx="8224560" cy="342900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990720" y="2954160"/>
              <a:ext cx="705492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1004760" y="1371600"/>
              <a:ext cx="82105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V="1">
              <a:off x="1052640" y="221760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80080" y="2462040"/>
              <a:ext cx="4343400" cy="54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2058840" y="518328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mpulse response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29400" y="3121200"/>
            <a:ext cx="0" cy="183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89360" y="3139920"/>
            <a:ext cx="0" cy="12924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97600" y="3130560"/>
            <a:ext cx="0" cy="1292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43280" y="2509920"/>
            <a:ext cx="18511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84680" y="2509920"/>
            <a:ext cx="221760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427640" y="2668680"/>
            <a:ext cx="914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7920" y="4414680"/>
            <a:ext cx="221940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344840" y="44211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92600" y="3633840"/>
            <a:ext cx="343080" cy="285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56160" y="346068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47960" y="3727440"/>
            <a:ext cx="222552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00480" y="355140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0560" y="3271680"/>
            <a:ext cx="341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982960" y="310824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08400" y="3147840"/>
            <a:ext cx="0" cy="122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92920" y="2509920"/>
            <a:ext cx="19447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06096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n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4360" y="4935600"/>
            <a:ext cx="22161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821640" y="477684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35840" y="3139920"/>
            <a:ext cx="0" cy="178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59280" y="390204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314496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52640" y="31719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9880" y="5837400"/>
            <a:ext cx="5046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9000" y="525780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32480" y="5789520"/>
            <a:ext cx="1033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2884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820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5456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4824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713120" y="584532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00760" y="584532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08640" y="5856120"/>
            <a:ext cx="241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924280" y="5856120"/>
            <a:ext cx="57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743360" y="4861080"/>
            <a:ext cx="303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21200" y="5443560"/>
            <a:ext cx="328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378240" y="544356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427640" y="543384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75200" y="544032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26040" y="543096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303960" y="543096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62880" y="4643280"/>
            <a:ext cx="146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39240" y="465300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541760" y="3786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52920" y="379584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435480" y="426708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49520" y="4276800"/>
            <a:ext cx="0" cy="1057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59240" y="53341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738440" y="341784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82720" y="343836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08680" y="3149640"/>
            <a:ext cx="0" cy="133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710480" y="5594400"/>
            <a:ext cx="314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45940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844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71560" y="4943520"/>
            <a:ext cx="1478160" cy="900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626160" y="5369040"/>
            <a:ext cx="151920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75280" y="318276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416560" y="3276720"/>
            <a:ext cx="1539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06880" y="3666960"/>
            <a:ext cx="57960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3666960"/>
            <a:ext cx="56052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467160" y="3392640"/>
            <a:ext cx="195408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48480" y="4498920"/>
            <a:ext cx="343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518160" y="4344840"/>
            <a:ext cx="5126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26280" y="495468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446200" y="37353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09880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982880" y="122076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0408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79404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40120" y="227340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162320" y="2046240"/>
            <a:ext cx="13446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371840" y="5856120"/>
            <a:ext cx="453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function of SEQ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4278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 and SIFS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42000" cy="33656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249120" y="1143000"/>
            <a:ext cx="9388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CCATime+RxTxTurnaroundTime+AirPropagationTime+MACProcess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49120" y="1676520"/>
            <a:ext cx="91216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RxRFDelay+RxPLCPDelay+MACProcessingDelay+RxTxTurnaroun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584360" y="5629320"/>
            <a:ext cx="27813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8.9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05520" y="5638680"/>
            <a:ext cx="2919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7.4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9880" y="1447920"/>
            <a:ext cx="8327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28640" y="2098800"/>
            <a:ext cx="8172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Detection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358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15-5.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93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25-5.3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724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725-5.8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91821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ersus Phas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23240" cy="46004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228600" y="6248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495680" y="61722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9436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Narrow-band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59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W-j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121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lternat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1121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djacent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78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AWG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8835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o-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9595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8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533520"/>
            <a:ext cx="89154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264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7621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4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264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60948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26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zuhiro Okanoue</dc:creator>
  <dc:description/>
  <dc:language>en-US</dc:language>
  <cp:lastModifiedBy>Kazuhiro Okanoue</cp:lastModifiedBy>
  <cp:revision>0</cp:revision>
  <dc:subject/>
  <dc:title>Proposal of QPSK Modulation  for 5GHz-band Wireless LAN  January, 1998  Kazuhiro OKANOUE, Yoshikazu KAKURA, Tomoki OHSAWA  NEC Corporation 4-1-1, Miyazaki, Miyamae-ku, Kawasaki, 216 Japan Tel: +81 44 856 2255 Fax: +81 44 856 2230 E-mail: {okanoue,kakura,o</dc:title>
</cp:coreProperties>
</file>