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C9C1-486F-46AF-A58C-FB67A7F14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F7FB-1EE1-48CF-856A-541B6AF6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139E-6D50-4D3C-9842-6CE6FABDF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1F52-202A-49D2-A307-54C3206E2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8758-E18B-461C-ABB8-E9C35CB7D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88F7-99D0-4A76-9C47-05989ECE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FCD8-230D-44D1-820A-AD7AFCCB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8556B-A398-4276-A7F2-86305636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4E0D-F82F-4998-86C5-17C789B8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DA75-34CD-4AE5-BD34-CC488552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1509-442D-4CA6-9368-0C7BE7AD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0E8B-1060-4293-B019-E65FC604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0CC1-19BD-43D7-95C6-B6B08B5D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9A69-FDC6-4114-B878-300B352B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4475-FF9B-42B6-AE8F-D606BAEA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BD3C-BB13-479C-94C9-42429FCAC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AF23-6520-4EBA-A832-E86CA5476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5424-982C-453B-A3E9-C9034295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443E-A629-44C1-80E3-A0253204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5A82-3060-4C06-B61C-57B5B437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46FE-8F43-4EDA-AEF7-22DBF589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76D4-F93D-45E2-B155-AF5CF679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F9C8-7CA7-4948-8013-CC985827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FE45-CF99-4F68-AAB8-51654DFF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832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71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359C744-AA58-47EF-BB32-7A912DE74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8/8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2200" y="6446880"/>
            <a:ext cx="89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AC2small" descr=""/>
          <p:cNvPicPr/>
          <p:nvPr/>
        </p:nvPicPr>
        <p:blipFill>
          <a:blip r:embed="rId2"/>
          <a:stretch/>
        </p:blipFill>
        <p:spPr>
          <a:xfrm>
            <a:off x="8163000" y="6381720"/>
            <a:ext cx="371520" cy="39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8BD7E37-69BD-4B55-989E-AF8F4CC6F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8/8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2200" y="6446880"/>
            <a:ext cx="89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Proposal for High Data Rate 2.4 GHz PHY</a:t>
            </a:r>
            <a:br>
              <a:rPr sz="3200"/>
            </a:b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Variable Rate</a:t>
            </a:r>
            <a:br>
              <a:rPr sz="3200"/>
            </a:b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Binary Convolutional Coding</a:t>
            </a:r>
            <a:br>
              <a:rPr sz="3200"/>
            </a:b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on QPSK</a:t>
            </a:r>
            <a:endParaRPr b="0" lang="en-US" sz="32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is Heegar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thew B. Shoem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ff"/>
                </a:solidFill>
                <a:latin typeface="Times New Roman"/>
              </a:rPr>
              <a:t>Alantro Commun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AC2" descr=""/>
          <p:cNvPicPr/>
          <p:nvPr/>
        </p:nvPicPr>
        <p:blipFill>
          <a:blip r:embed="rId1"/>
          <a:stretch/>
        </p:blipFill>
        <p:spPr>
          <a:xfrm>
            <a:off x="6429240" y="3419640"/>
            <a:ext cx="1876680" cy="19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PER, 64 Byte Packets, Primary (11Mbps) Rate, Multipath</a:t>
            </a:r>
            <a:endParaRPr b="0" lang="en-US" sz="32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ms = 25, 50, 100, 150, 200, 250, 350, 450, 550 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232000" y="2590920"/>
          <a:ext cx="4678560" cy="373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2000" y="2590920"/>
                    <a:ext cx="467856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4CF6-1BBD-4CB3-87EA-B357FF8F22B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PER, 1000 Byte Packets, Primary (11Mbps) Rate, Multipath</a:t>
            </a:r>
            <a:endParaRPr b="0" lang="en-US" sz="32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ms = 25, 50, 100, 150, 200, 250, 350, 450, 550 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293920" y="2670120"/>
          <a:ext cx="4554720" cy="365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3920" y="2670120"/>
                    <a:ext cx="4554720" cy="36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0428-A3B5-4458-B2A2-A05B07CACA4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PER , 64 Byte Packets, Variable Rate, AWGN, Es/No</a:t>
            </a:r>
            <a:endParaRPr b="0" lang="en-US" sz="3200" spc="-1" strike="noStrike">
              <a:solidFill>
                <a:srgbClr val="ff0033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438280" y="2362320"/>
          <a:ext cx="4316400" cy="366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362320"/>
                    <a:ext cx="4316400" cy="36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0AA0-8A74-422A-B984-11E57008965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PER , 64 Byte Packets, Variable Rate, AWGN, Eb/No</a:t>
            </a:r>
            <a:endParaRPr b="0" lang="en-US" sz="3200" spc="-1" strike="noStrike">
              <a:solidFill>
                <a:srgbClr val="ff0033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133720" y="2438280"/>
          <a:ext cx="4535280" cy="366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438280"/>
                    <a:ext cx="4535280" cy="36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A084-5211-4C68-8B63-65D0FBE5D04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PER , 1000 Byte Packets, Variable Rate, AWGN, Es/No</a:t>
            </a:r>
            <a:endParaRPr b="0" lang="en-US" sz="3200" spc="-1" strike="noStrike">
              <a:solidFill>
                <a:srgbClr val="ff0033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209680" y="2286000"/>
          <a:ext cx="4592880" cy="366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286000"/>
                    <a:ext cx="4592880" cy="36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BDEB-D628-456B-A226-5E02EA21F4A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PER , 1000 Byte Packets, Variable Rate, AWGN, Eb/No</a:t>
            </a:r>
            <a:endParaRPr b="0" lang="en-US" sz="3200" spc="-1" strike="noStrike">
              <a:solidFill>
                <a:srgbClr val="ff0033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265480" y="2122560"/>
          <a:ext cx="4611600" cy="366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5480" y="2122560"/>
                    <a:ext cx="4611600" cy="36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CD3D-B216-434A-AC14-E96DBA2882C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Cell Planning</a:t>
            </a:r>
            <a:endParaRPr b="0" lang="en-US" sz="3200" spc="-1" strike="noStrike">
              <a:solidFill>
                <a:srgbClr val="ff0033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066680" y="1752480"/>
            <a:ext cx="6934320" cy="4343400"/>
            <a:chOff x="1066680" y="1752480"/>
            <a:chExt cx="6934320" cy="4343400"/>
          </a:xfrm>
        </p:grpSpPr>
        <p:sp>
          <p:nvSpPr>
            <p:cNvPr id="170" name=""/>
            <p:cNvSpPr/>
            <p:nvPr/>
          </p:nvSpPr>
          <p:spPr>
            <a:xfrm>
              <a:off x="1066680" y="274320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914480" y="320040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66680" y="373392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66680" y="472428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05120" y="419112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95400" y="518148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05120" y="220968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66680" y="175248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43200" y="274320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91000" y="320040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743200" y="373392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743200" y="472428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81280" y="419112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71920" y="518148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81280" y="220968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43200" y="175248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19720" y="274320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267160" y="320040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19720" y="373392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419720" y="472428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257800" y="419112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48440" y="5181480"/>
              <a:ext cx="1056960" cy="914400"/>
            </a:xfrm>
            <a:prstGeom prst="hexagon">
              <a:avLst>
                <a:gd name="adj" fmla="val 28898"/>
                <a:gd name="vf" fmla="val 115470"/>
              </a:avLst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57800" y="228600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19720" y="175248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95880" y="274320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43680" y="320040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95880" y="373392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95880" y="472428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934320" y="419112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924600" y="518148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34320" y="220968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095880" y="175248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8718-3008-48BD-AC9B-D0C9009B12B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64 state B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ding Gain for Robust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ariable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sonable comple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Adaptive Equaliz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obust multipath tole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bines well with B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sonable comple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Backward Compa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listic upgrade 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s existing RF/Antenna,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Ongoing HDL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42B0-A53D-4630-9821-BAE4F558178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imes New Roman"/>
              </a:rPr>
              <a:t>Transmitter &amp; Receiver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371600" y="2133720"/>
            <a:ext cx="4306680" cy="1541520"/>
            <a:chOff x="1371600" y="2133720"/>
            <a:chExt cx="4306680" cy="1541520"/>
          </a:xfrm>
        </p:grpSpPr>
        <p:sp>
          <p:nvSpPr>
            <p:cNvPr id="96" name=""/>
            <p:cNvSpPr/>
            <p:nvPr/>
          </p:nvSpPr>
          <p:spPr>
            <a:xfrm>
              <a:off x="3525840" y="2133720"/>
              <a:ext cx="1052280" cy="45720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Variable R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BC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22320" y="2376720"/>
              <a:ext cx="32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52720" y="3445200"/>
              <a:ext cx="32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787480" y="3218040"/>
              <a:ext cx="1052640" cy="45720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QPS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odula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73480" y="3148200"/>
              <a:ext cx="1095480" cy="45720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F Upconverter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mplifi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75080" y="3497400"/>
              <a:ext cx="3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608440" y="31276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71600" y="2173680"/>
              <a:ext cx="54432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our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5540400" y="3027600"/>
              <a:ext cx="137880" cy="138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0000" y="0"/>
                  </a:moveTo>
                  <a:lnTo>
                    <a:pt x="0" y="20000"/>
                  </a:lnTo>
                  <a:lnTo>
                    <a:pt x="20000" y="20000"/>
                  </a:lnTo>
                  <a:lnTo>
                    <a:pt x="1000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147760" y="2136960"/>
              <a:ext cx="1050840" cy="45720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nterfa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97160" y="2375280"/>
              <a:ext cx="3477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4582800" y="2373480"/>
              <a:ext cx="176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65680" y="237528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2479680" y="28926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68520" y="2892600"/>
              <a:ext cx="0" cy="56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68520" y="3456360"/>
              <a:ext cx="32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900520" y="4204800"/>
            <a:ext cx="4262400" cy="1891080"/>
            <a:chOff x="2900520" y="4204800"/>
            <a:chExt cx="4262400" cy="1891080"/>
          </a:xfrm>
        </p:grpSpPr>
        <p:sp>
          <p:nvSpPr>
            <p:cNvPr id="113" name=""/>
            <p:cNvSpPr/>
            <p:nvPr/>
          </p:nvSpPr>
          <p:spPr>
            <a:xfrm>
              <a:off x="3295800" y="4451040"/>
              <a:ext cx="1116000" cy="45720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F Pre-Amp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own Conver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972160" y="4676400"/>
              <a:ext cx="3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08920" y="4679640"/>
              <a:ext cx="32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31120" y="4452840"/>
              <a:ext cx="1409760" cy="45720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QPSK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emodulaor/Equaliz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48400" y="5533920"/>
              <a:ext cx="1116000" cy="45720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BC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eco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72320" y="5767200"/>
              <a:ext cx="32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2160" y="43160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696360" y="5567040"/>
              <a:ext cx="466560" cy="5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02440" y="5536800"/>
              <a:ext cx="1116000" cy="45720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AC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nterfa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18440" y="5770440"/>
              <a:ext cx="32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2900520" y="4204440"/>
              <a:ext cx="136800" cy="136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0000" y="0"/>
                  </a:moveTo>
                  <a:lnTo>
                    <a:pt x="0" y="20000"/>
                  </a:lnTo>
                  <a:lnTo>
                    <a:pt x="20000" y="20000"/>
                  </a:lnTo>
                  <a:lnTo>
                    <a:pt x="1000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143760" y="4668480"/>
              <a:ext cx="1764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326640" y="467028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3543480" y="5197320"/>
              <a:ext cx="277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32320" y="5206680"/>
              <a:ext cx="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32320" y="5759280"/>
              <a:ext cx="32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7E0C-5FD3-45FF-9D36-21E9E223441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imes New Roman"/>
              </a:rPr>
              <a:t>Robust Coding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 state BCC (binary convolutional code) with punctured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coded) 1, 2, (coded) 2.75, 5.5, 11, 14.3, 16.5, 17.6, 18.3 and 19.25 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rate: 11 Mbps with +2dB Es/No over 2Mbps DS-PHY (+500% d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5 Mbps with -1.2dB Es/No over 2Mbps DS-PHY (+275% d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coding gain can save power at transm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1916-2EBF-40D7-8C70-7AABBB7ECE1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imes New Roman"/>
              </a:rPr>
              <a:t>Backward Compatibility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PSK mod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ne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 Msps Symbol (Chip)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MHz Band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ing RF, Antenna, M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am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ing pre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compatible, less data/estimation ef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performance pream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335A-8191-4ED4-9846-1BC57820190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imes New Roman"/>
              </a:rPr>
              <a:t>Complexity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es of 76k-95k g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st in terms of state-of-the art technology 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s based on preliminary HDL design (port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management will reduce average power usage (modules with have sleep mode, CM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ical feasibility demonstrated; at least one vendor has already agreed to deploy th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 low complexity solution that is not robust will hurt the possibility of exciting growth in the WLAN market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-we all los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506760" y="1523880"/>
          <a:ext cx="5637240" cy="95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6760" y="1523880"/>
                    <a:ext cx="5637240" cy="9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9950-0EFA-4F73-881D-1F9279DBD02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BCC’s in Wireless Systems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use of BCC’s in wireless communications is not a new id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C’s have been proven effective in wireless systems with multipath, and they have been implemented as commercial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-95 standard for digital CDMA cellular phones uses a 256-state B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SM standard uses a four state punctured B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tellite systems, such as the small disk digital TV systems (e.g., DirectTV &amp; Primestar) always deploy such a B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ddition, BCC’s have been proposed for the 802.11A (5.0 GHz)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81C2-F487-4572-B3D5-530CEF89C0C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Processing Gain</a:t>
            </a:r>
            <a:endParaRPr b="0" lang="en-US" sz="3200" spc="-1" strike="noStrike">
              <a:solidFill>
                <a:srgbClr val="ff0033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717560" y="1940040"/>
          <a:ext cx="5707080" cy="297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1940040"/>
                    <a:ext cx="5707080" cy="29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D645-D560-4BEA-B6E3-D6F51AC45DF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AWGN Performance</a:t>
            </a:r>
            <a:br>
              <a:rPr sz="3200"/>
            </a:b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Detection Complexity</a:t>
            </a:r>
            <a:endParaRPr b="0" lang="en-US" sz="3200" spc="-1" strike="noStrike">
              <a:solidFill>
                <a:srgbClr val="ff0033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746360" y="2274840"/>
          <a:ext cx="5649840" cy="290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360" y="2274840"/>
                    <a:ext cx="5649840" cy="29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8BDB-86FB-474A-A09E-8D315F3A295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PER versus Trms</a:t>
            </a:r>
            <a:endParaRPr b="0" lang="en-US" sz="3200" spc="-1" strike="noStrike">
              <a:solidFill>
                <a:srgbClr val="ff0033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666880" y="2028960"/>
          <a:ext cx="3810240" cy="280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028960"/>
                    <a:ext cx="3810240" cy="28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BCCA-3B37-4DAD-8155-729DE7F1A37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Chris Heegard</dc:creator>
  <dc:description/>
  <dc:language>en-US</dc:language>
  <cp:lastModifiedBy>Bozo T. Clown</cp:lastModifiedBy>
  <cp:lastPrinted>1998-03-11T19:03:54Z</cp:lastPrinted>
  <dcterms:modified xsi:type="dcterms:W3CDTF">1998-03-11T19:10:14Z</dcterms:modified>
  <cp:revision>49</cp:revision>
  <dc:subject/>
  <dc:title>VR-BCC QPSK</dc:title>
</cp:coreProperties>
</file>