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B7D-3BF8-4277-BAAA-886EDC71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D92-9EE0-43FB-813C-84406BC4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D0A-BF22-4630-99A1-B877FABC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778-012E-4C0E-BF9B-3315C6AC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495E-1304-49FC-B7A0-19D23970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CA1-FD4D-4596-A92A-9A71350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5E4-6DD2-459A-8136-9D8755A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7B7-D31E-44A5-913C-8A1D982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4F97-C3BF-4D43-8E5A-736B628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AC3-950B-4F58-8D36-99B7185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956-7221-4A6A-AC83-37ABD42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955-57A2-41FC-AB8E-E88BA3D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CB22-331E-4197-BC1F-2E9B171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D4F4-6AF2-47B3-B52D-45ACE01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5EA-39A3-49F8-AD57-5F12D4E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4E31-0BC5-4FA5-9E89-9BC31A7D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135-E42F-4ED1-85A8-69245BC5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7D7-29C0-44E1-A294-9EDF3858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321-B2C9-433E-ACEC-5F9C3002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D90-E1F5-476D-8993-0019B1B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2D9-F306-4A30-9A49-F61A229C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441-DB02-4A91-A954-6C68408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ACF-C401-4308-8591-9C2AAF19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F11-280D-4149-B406-0C3A4C4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7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F6CDE7-65D7-48DF-84C4-850A0855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9E1A7D-4896-4198-9B7A-599F2C888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</a:t>
            </a:r>
            <a:br>
              <a:rPr sz="4400"/>
            </a:br>
            <a:r>
              <a:rPr b="0" lang="en-US" sz="4400" spc="-1" strike="noStrike">
                <a:solidFill>
                  <a:srgbClr val="868686"/>
                </a:solidFill>
                <a:latin typeface="Times New Roman"/>
              </a:rPr>
              <a:t>(Forward Error Control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Not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each bit of data affect many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ut the noise with the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9718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840" y="289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960" y="3886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733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52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114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76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257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38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019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AEA-632C-49D5-AD75-2F8C5F675F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Signals Rob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energy that differentiates distinc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GN (Additive White Gaussian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95480" y="4114800"/>
            <a:ext cx="2590560" cy="1752480"/>
            <a:chOff x="2895480" y="4114800"/>
            <a:chExt cx="2590560" cy="1752480"/>
          </a:xfrm>
        </p:grpSpPr>
        <p:sp>
          <p:nvSpPr>
            <p:cNvPr id="229" name=""/>
            <p:cNvSpPr/>
            <p:nvPr/>
          </p:nvSpPr>
          <p:spPr>
            <a:xfrm>
              <a:off x="2895480" y="4114800"/>
              <a:ext cx="2590560" cy="17524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240" y="96"/>
                  </a:moveTo>
                  <a:lnTo>
                    <a:pt x="480" y="0"/>
                  </a:lnTo>
                  <a:lnTo>
                    <a:pt x="768" y="144"/>
                  </a:lnTo>
                  <a:lnTo>
                    <a:pt x="864" y="528"/>
                  </a:lnTo>
                  <a:lnTo>
                    <a:pt x="768" y="624"/>
                  </a:lnTo>
                  <a:lnTo>
                    <a:pt x="288" y="864"/>
                  </a:lnTo>
                  <a:lnTo>
                    <a:pt x="96" y="672"/>
                  </a:lnTo>
                  <a:lnTo>
                    <a:pt x="0" y="240"/>
                  </a:lnTo>
                  <a:lnTo>
                    <a:pt x="240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47242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44197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1640" y="44197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05160" y="48769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040" y="53341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5410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160" y="49528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627-D93E-499B-ABB6-76CE3D7B3A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t is intuitively correct that signals that have large energy separation at the input of a filter are better distinguishable at the output of the fil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9320" y="2971800"/>
            <a:ext cx="2971800" cy="2133720"/>
            <a:chOff x="1219320" y="2971800"/>
            <a:chExt cx="2971800" cy="2133720"/>
          </a:xfrm>
        </p:grpSpPr>
        <p:grpSp>
          <p:nvGrpSpPr>
            <p:cNvPr id="240" name=""/>
            <p:cNvGrpSpPr/>
            <p:nvPr/>
          </p:nvGrpSpPr>
          <p:grpSpPr>
            <a:xfrm>
              <a:off x="1371600" y="3124080"/>
              <a:ext cx="2590560" cy="1752480"/>
              <a:chOff x="1371600" y="3124080"/>
              <a:chExt cx="2590560" cy="1752480"/>
            </a:xfrm>
          </p:grpSpPr>
          <p:sp>
            <p:nvSpPr>
              <p:cNvPr id="241" name=""/>
              <p:cNvSpPr/>
              <p:nvPr/>
            </p:nvSpPr>
            <p:spPr>
              <a:xfrm>
                <a:off x="1371600" y="3124080"/>
                <a:ext cx="2590560" cy="175248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240" y="96"/>
                    </a:moveTo>
                    <a:lnTo>
                      <a:pt x="480" y="0"/>
                    </a:lnTo>
                    <a:lnTo>
                      <a:pt x="768" y="144"/>
                    </a:lnTo>
                    <a:lnTo>
                      <a:pt x="864" y="528"/>
                    </a:lnTo>
                    <a:lnTo>
                      <a:pt x="768" y="624"/>
                    </a:lnTo>
                    <a:lnTo>
                      <a:pt x="288" y="864"/>
                    </a:lnTo>
                    <a:lnTo>
                      <a:pt x="96" y="672"/>
                    </a:lnTo>
                    <a:lnTo>
                      <a:pt x="0" y="240"/>
                    </a:lnTo>
                    <a:lnTo>
                      <a:pt x="240" y="9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37335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38280" y="34290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7760" y="34290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1280" y="38862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19160" y="43434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57400" y="44193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39621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666880" y="2971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86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334120" y="3124080"/>
            <a:ext cx="2590560" cy="175284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240" y="96"/>
                </a:moveTo>
                <a:lnTo>
                  <a:pt x="480" y="0"/>
                </a:lnTo>
                <a:lnTo>
                  <a:pt x="768" y="144"/>
                </a:lnTo>
                <a:lnTo>
                  <a:pt x="864" y="528"/>
                </a:lnTo>
                <a:lnTo>
                  <a:pt x="768" y="624"/>
                </a:lnTo>
                <a:lnTo>
                  <a:pt x="288" y="864"/>
                </a:lnTo>
                <a:lnTo>
                  <a:pt x="96" y="672"/>
                </a:lnTo>
                <a:lnTo>
                  <a:pt x="0" y="240"/>
                </a:lnTo>
                <a:lnTo>
                  <a:pt x="240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80988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335268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34290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6576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39625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171840" y="2895480"/>
            <a:ext cx="106668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181480" y="3581280"/>
            <a:ext cx="29718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0760" y="29718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633-F983-4126-ABDA-319D282873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s from the primary goal of 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 (messages from transmitter to recei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ED7-BC20-40A1-9961-6E728D9CD9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rame synchronization in a packe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cket 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ot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unctions help with higher level objectives or for estimation and tracking of channe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C7A-A2F6-4E49-BD58-F90EB93261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to the primary goal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432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4008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D6E-06F1-462A-A4F8-436A145DAE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inguishing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is independen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s with auxiliary functions, yet subtracts from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is a function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 with the primary function, it enhances the utiliz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47D-91BB-4BE6-925A-1E544B6CB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is considered as “overhead” when applied as a “Band-Ai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unications system is designed without coding, it is not robust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C (error control code) is used to “fix”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 of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in rate (“overhea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pproach is a mistake in the design of a fresh syst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B11-A65E-4944-BCB1-5910D43C02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rrectly Design an F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 a data rate (user rate)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large signal set that generates more tha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in T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ously select a subse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from the larg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noise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distinct signal well separated (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172-7318-4F8B-A2BC-5DD239FEA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Overhead” of QPSK as a Coding of Q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4956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= 2 bits/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= 2 bits/symbol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CBF-75FB-4A04-8E12-281EDC0B32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ata stream into small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onto independent dimension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occasionally causes symbol err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=&gt; data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16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96E-CDA2-4D66-B47F-57D83BFD00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17:52Z</cp:lastPrinted>
  <dcterms:modified xsi:type="dcterms:W3CDTF">1998-03-11T19:19:08Z</dcterms:modified>
  <cp:revision>29</cp:revision>
  <dc:subject/>
  <dc:title>FEC is Not Overhead</dc:title>
</cp:coreProperties>
</file>