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219320"/>
            <a:ext cx="7772400" cy="11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2.4-GHz PAR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1998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648320" y="4876920"/>
            <a:ext cx="396072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llows operation into power-amp 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efficiency greatly impro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8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low-cost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4876920"/>
            <a:ext cx="411336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s data bandwidth to spread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dB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3 dB more efficient than DP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79800" cy="31878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6477120" y="1905120"/>
            <a:ext cx="11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operating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029200" y="1905120"/>
            <a:ext cx="11145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K operating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2749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/Interoper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62120" y="167652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 describ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-filter detection of 11-Mchip/s Barke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oper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Legacy DSS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ed Detection of Legacy FH in 10-Mbps pass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10-Mbps transmissions to defer to legacy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non-cooperative measure, where des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easures (DS &amp; FH) also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operates only for slot time before 10-Mbps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mpact on power diss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62120" y="1828800"/>
            <a:ext cx="76201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8 (of 2048) Code Cosets  for De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 in two groups of 4 cose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cyclic channels   (best in multi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K pseudorandom channels  (for un-coordinated B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8 (of 16K) Codes for  Search and 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Strategies for Cod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Frequency Channels for BSA lay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ion of Interference from Closest Neighboring B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09480" y="1828800"/>
            <a:ext cx="7848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Channel Center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10-/18-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10-/18- plus one 2-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If 16-mchip/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10- plus one 2- or 5-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otal 5- and/or 2-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x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ati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533520" y="1752480"/>
            <a:ext cx="7848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Frequency/One-Cod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use of frequency channels  demands sharing capacity (802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Frequency/Many-Cod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use of frequency channels can be shared or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for High System Capa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-Overl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atial-Re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914400" y="441972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-Frequencies/One-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Rejection Stro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kage Rejection We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495680" y="441972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o-Frequencies/Many-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Rejection We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kage Rejection Stro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68580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33520" y="17524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&gt; Signal on same frequency =  CDMA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-in Frequency R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kage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signal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imi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7086600" y="4038480"/>
            <a:ext cx="1389240" cy="1219320"/>
            <a:chOff x="7086600" y="4038480"/>
            <a:chExt cx="1389240" cy="1219320"/>
          </a:xfrm>
        </p:grpSpPr>
        <p:sp>
          <p:nvSpPr>
            <p:cNvPr id="664" name=""/>
            <p:cNvSpPr/>
            <p:nvPr/>
          </p:nvSpPr>
          <p:spPr>
            <a:xfrm>
              <a:off x="7086600" y="4038480"/>
              <a:ext cx="1171440" cy="1219320"/>
            </a:xfrm>
            <a:prstGeom prst="ellipse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7621560" y="4587840"/>
              <a:ext cx="452520" cy="287280"/>
              <a:chOff x="7621560" y="4587840"/>
              <a:chExt cx="452520" cy="287280"/>
            </a:xfrm>
          </p:grpSpPr>
          <p:sp>
            <p:nvSpPr>
              <p:cNvPr id="666" name=""/>
              <p:cNvSpPr/>
              <p:nvPr/>
            </p:nvSpPr>
            <p:spPr>
              <a:xfrm>
                <a:off x="7635960" y="4587840"/>
                <a:ext cx="115920" cy="1238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7621560" y="4603680"/>
                <a:ext cx="4525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7996320" y="4378320"/>
              <a:ext cx="193680" cy="54288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8007480" y="4721400"/>
              <a:ext cx="468360" cy="290160"/>
              <a:chOff x="8007480" y="4721400"/>
              <a:chExt cx="468360" cy="290160"/>
            </a:xfrm>
          </p:grpSpPr>
          <p:sp>
            <p:nvSpPr>
              <p:cNvPr id="670" name=""/>
              <p:cNvSpPr/>
              <p:nvPr/>
            </p:nvSpPr>
            <p:spPr>
              <a:xfrm>
                <a:off x="8021520" y="4721400"/>
                <a:ext cx="115920" cy="1238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8007480" y="4740120"/>
                <a:ext cx="4683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4495680" y="4114800"/>
            <a:ext cx="1219320" cy="1219320"/>
            <a:chOff x="4495680" y="4114800"/>
            <a:chExt cx="1219320" cy="1219320"/>
          </a:xfrm>
        </p:grpSpPr>
        <p:sp>
          <p:nvSpPr>
            <p:cNvPr id="673" name=""/>
            <p:cNvSpPr/>
            <p:nvPr/>
          </p:nvSpPr>
          <p:spPr>
            <a:xfrm>
              <a:off x="4495680" y="4114800"/>
              <a:ext cx="1219320" cy="121932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54760" y="4673520"/>
              <a:ext cx="120600" cy="12384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5035680" y="4692600"/>
              <a:ext cx="452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651200" y="4881600"/>
              <a:ext cx="468360" cy="287280"/>
              <a:chOff x="4651200" y="4881600"/>
              <a:chExt cx="468360" cy="287280"/>
            </a:xfrm>
          </p:grpSpPr>
          <p:sp>
            <p:nvSpPr>
              <p:cNvPr id="677" name=""/>
              <p:cNvSpPr/>
              <p:nvPr/>
            </p:nvSpPr>
            <p:spPr>
              <a:xfrm>
                <a:off x="4665600" y="4881600"/>
                <a:ext cx="120600" cy="12240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4651200" y="4897440"/>
                <a:ext cx="4683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"/>
          <p:cNvGrpSpPr/>
          <p:nvPr/>
        </p:nvGrpSpPr>
        <p:grpSpPr>
          <a:xfrm>
            <a:off x="4648320" y="2590920"/>
            <a:ext cx="2514600" cy="1219320"/>
            <a:chOff x="4648320" y="2590920"/>
            <a:chExt cx="2514600" cy="1219320"/>
          </a:xfrm>
        </p:grpSpPr>
        <p:sp>
          <p:nvSpPr>
            <p:cNvPr id="680" name=""/>
            <p:cNvSpPr/>
            <p:nvPr/>
          </p:nvSpPr>
          <p:spPr>
            <a:xfrm>
              <a:off x="4648320" y="2590920"/>
              <a:ext cx="1328760" cy="1219320"/>
            </a:xfrm>
            <a:prstGeom prst="ellipse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34160" y="2590920"/>
              <a:ext cx="1328760" cy="121932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5256360" y="3139920"/>
              <a:ext cx="452520" cy="289080"/>
              <a:chOff x="5256360" y="3139920"/>
              <a:chExt cx="452520" cy="289080"/>
            </a:xfrm>
          </p:grpSpPr>
          <p:sp>
            <p:nvSpPr>
              <p:cNvPr id="683" name=""/>
              <p:cNvSpPr/>
              <p:nvPr/>
            </p:nvSpPr>
            <p:spPr>
              <a:xfrm>
                <a:off x="5272200" y="3139920"/>
                <a:ext cx="128520" cy="1238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5256360" y="3157560"/>
                <a:ext cx="4525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6443640" y="3149640"/>
              <a:ext cx="130320" cy="12384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424560" y="3170160"/>
              <a:ext cx="452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78640" y="2930400"/>
              <a:ext cx="220680" cy="54288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5692680" y="3273480"/>
              <a:ext cx="468360" cy="291960"/>
              <a:chOff x="5692680" y="3273480"/>
              <a:chExt cx="468360" cy="291960"/>
            </a:xfrm>
          </p:grpSpPr>
          <p:sp>
            <p:nvSpPr>
              <p:cNvPr id="689" name=""/>
              <p:cNvSpPr/>
              <p:nvPr/>
            </p:nvSpPr>
            <p:spPr>
              <a:xfrm>
                <a:off x="5708520" y="3273480"/>
                <a:ext cx="130320" cy="1238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5692680" y="3294000"/>
                <a:ext cx="4683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5405400" y="3214800"/>
              <a:ext cx="287280" cy="9828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872320" y="3236760"/>
              <a:ext cx="527040" cy="82800"/>
            </a:xfrm>
            <a:prstGeom prst="line">
              <a:avLst/>
            </a:prstGeom>
            <a:ln w="12600">
              <a:solidFill>
                <a:srgbClr val="ccccff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005520" y="3357720"/>
              <a:ext cx="468360" cy="290160"/>
              <a:chOff x="6005520" y="3357720"/>
              <a:chExt cx="468360" cy="290160"/>
            </a:xfrm>
          </p:grpSpPr>
          <p:sp>
            <p:nvSpPr>
              <p:cNvPr id="694" name=""/>
              <p:cNvSpPr/>
              <p:nvPr/>
            </p:nvSpPr>
            <p:spPr>
              <a:xfrm>
                <a:off x="6019920" y="3357720"/>
                <a:ext cx="130320" cy="12240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 txBox="1"/>
              <p:nvPr/>
            </p:nvSpPr>
            <p:spPr>
              <a:xfrm>
                <a:off x="6005520" y="3376440"/>
                <a:ext cx="4683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flipV="1">
              <a:off x="6183360" y="3268800"/>
              <a:ext cx="257040" cy="120600"/>
            </a:xfrm>
            <a:prstGeom prst="line">
              <a:avLst/>
            </a:prstGeom>
            <a:ln w="12600">
              <a:solidFill>
                <a:srgbClr val="7b00e4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843520" y="3370320"/>
              <a:ext cx="168480" cy="31680"/>
            </a:xfrm>
            <a:prstGeom prst="line">
              <a:avLst/>
            </a:prstGeom>
            <a:ln w="12600">
              <a:solidFill>
                <a:srgbClr val="7b00e4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 flipH="1">
            <a:off x="5794200" y="4648320"/>
            <a:ext cx="1140120" cy="0"/>
          </a:xfrm>
          <a:prstGeom prst="line">
            <a:avLst/>
          </a:prstGeom>
          <a:ln w="12600">
            <a:solidFill>
              <a:srgbClr val="cccc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454800" cy="389268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2438280" y="28954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Ray Propagation (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133720" y="35812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Space Propagation (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80880" y="1447920"/>
            <a:ext cx="1944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Reliable BSA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648320" y="1906560"/>
            <a:ext cx="0" cy="3121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181480" y="190512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k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7315200" y="4267080"/>
            <a:ext cx="914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e Mar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42120" y="411480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242120" y="510552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70320" y="205740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784920" y="205740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803840" y="205740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2362320" y="1905120"/>
            <a:ext cx="1860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365200" y="1676520"/>
            <a:ext cx="22831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1679400"/>
            <a:ext cx="0" cy="225720"/>
          </a:xfrm>
          <a:prstGeom prst="line">
            <a:avLst/>
          </a:prstGeom>
          <a:ln w="1260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08520" y="19749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622920" y="19749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537320" y="19749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708520" y="28893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08520" y="38037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22920" y="28893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537320" y="28893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22920" y="38037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537320" y="38037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12840" y="1974960"/>
            <a:ext cx="927000" cy="927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27240" y="19749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1640" y="19749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56040" y="1974960"/>
            <a:ext cx="927000" cy="927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670040" y="28893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12840" y="3803760"/>
            <a:ext cx="927000" cy="927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84440" y="2889360"/>
            <a:ext cx="927000" cy="927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498840" y="28893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13240" y="28893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127240" y="38037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041640" y="3803760"/>
            <a:ext cx="927000" cy="927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56040" y="3803760"/>
            <a:ext cx="927000" cy="927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55640" y="2889360"/>
            <a:ext cx="927000" cy="927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977760" y="4865760"/>
            <a:ext cx="402588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Frequency-Channel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-use neighbors at 1.66 relative s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est separation not =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054760" y="4853160"/>
            <a:ext cx="387360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Frequency-Channel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-use neighbors at 1.41 relative s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est separation =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043080" y="2440080"/>
            <a:ext cx="1374840" cy="904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7062840" y="2446200"/>
            <a:ext cx="930240" cy="917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139760" y="1450800"/>
            <a:ext cx="735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vs. 2 Frequency Channels Does Not Ensur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01800" y="4865760"/>
            <a:ext cx="341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Frequency/1-Code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800600" y="4876920"/>
            <a:ext cx="387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Frequency/Many-Code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91440" y="18194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77040" y="18194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391440" y="27338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391440" y="36482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77040" y="27338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181400" y="27338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477040" y="36482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305840" y="36482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305840" y="18194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305840" y="27338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38200" y="27338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09800" y="36482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09800" y="1819440"/>
            <a:ext cx="1238400" cy="1238400"/>
          </a:xfrm>
          <a:prstGeom prst="ellipse">
            <a:avLst/>
          </a:prstGeom>
          <a:noFill/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23800" y="27338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895400" y="36482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95400" y="18194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67000" y="2733840"/>
            <a:ext cx="1238400" cy="1238400"/>
          </a:xfrm>
          <a:prstGeom prst="ellipse">
            <a:avLst/>
          </a:prstGeom>
          <a:noFill/>
          <a:ln w="12600">
            <a:solidFill>
              <a:srgbClr val="cc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24200" y="1819440"/>
            <a:ext cx="1238400" cy="1238400"/>
          </a:xfrm>
          <a:prstGeom prst="ellipse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81000" y="3648240"/>
            <a:ext cx="1238400" cy="1238400"/>
          </a:xfrm>
          <a:prstGeom prst="ellipse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24200" y="3648240"/>
            <a:ext cx="1238400" cy="1238400"/>
          </a:xfrm>
          <a:prstGeom prst="ellipse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52600" y="2733840"/>
            <a:ext cx="1238400" cy="1238400"/>
          </a:xfrm>
          <a:prstGeom prst="ellipse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81000" y="1819440"/>
            <a:ext cx="1238400" cy="1238400"/>
          </a:xfrm>
          <a:prstGeom prst="ellipse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831960" y="5479920"/>
            <a:ext cx="7327800" cy="666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requency channels lessens same-frequency-channel interference (CDMA failure) but does not help same-frequency-channel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685800" y="3808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03800" y="1262160"/>
            <a:ext cx="644400" cy="598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69200" y="1262160"/>
            <a:ext cx="644400" cy="598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03800" y="2433600"/>
            <a:ext cx="644400" cy="598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837400" y="1846440"/>
            <a:ext cx="646200" cy="598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469200" y="2433600"/>
            <a:ext cx="644400" cy="598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690560" y="1268280"/>
            <a:ext cx="644400" cy="59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587760" y="1268280"/>
            <a:ext cx="644400" cy="59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690560" y="2440080"/>
            <a:ext cx="644400" cy="59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639880" y="1854360"/>
            <a:ext cx="644400" cy="59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587760" y="2440080"/>
            <a:ext cx="644400" cy="59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622520" y="3019320"/>
            <a:ext cx="269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f 3 Frequencies on Sam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94320" y="3019320"/>
            <a:ext cx="303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f 2 Frequencies on Different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2392200" y="3324240"/>
            <a:ext cx="4159080" cy="198756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 txBox="1"/>
          <p:nvPr/>
        </p:nvSpPr>
        <p:spPr>
          <a:xfrm>
            <a:off x="868320" y="3781440"/>
            <a:ext cx="1600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per B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10-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.5 Mbps/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 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687840" y="507672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/B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324480" y="4419720"/>
            <a:ext cx="1189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O’H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831960" y="5403960"/>
            <a:ext cx="7327800" cy="10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eeds refinement, but the effect is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kage Assumed 0% for Green and 100% for Red; Interference not Included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/Far Interference Examined in Separate Simulation (Mori/Clar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ext Time: One Simulation to Include Both Near/Far and Leakag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3889440" y="2517840"/>
            <a:ext cx="301680" cy="1596960"/>
          </a:xfrm>
          <a:prstGeom prst="line">
            <a:avLst/>
          </a:prstGeom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8000" y="2754360"/>
            <a:ext cx="0" cy="3100320"/>
          </a:xfrm>
          <a:prstGeom prst="line">
            <a:avLst/>
          </a:prstGeom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1060560" cy="83196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4419720"/>
            <a:ext cx="1752480" cy="1929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52480" y="2209680"/>
            <a:ext cx="762120" cy="609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43200" y="2666880"/>
            <a:ext cx="129528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657600"/>
            <a:ext cx="1066680" cy="9144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DB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ained 4x4-ary DBO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19720" y="37339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2438280"/>
            <a:ext cx="129528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N Cod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720" y="24382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19720" y="57913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19720" y="26668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2960" y="2514600"/>
            <a:ext cx="196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7760" y="2838600"/>
            <a:ext cx="62856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838600"/>
            <a:ext cx="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2960" y="44956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41720" y="25146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41720" y="27432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5105520"/>
            <a:ext cx="1066680" cy="60948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11240" y="51055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55627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2960" y="5181480"/>
            <a:ext cx="34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2960" y="56386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19720" y="55627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.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6680" y="4514760"/>
            <a:ext cx="730080" cy="349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673440" y="5019840"/>
            <a:ext cx="730440" cy="17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76680" y="56386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6520" y="1488960"/>
            <a:ext cx="1019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25880" y="1488960"/>
            <a:ext cx="561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7600" y="1488960"/>
            <a:ext cx="803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135920" y="1488960"/>
            <a:ext cx="841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41911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19112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2960" y="42670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33680" y="251460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76680" y="42670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2960" y="3809880"/>
            <a:ext cx="2851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81680" y="1981080"/>
            <a:ext cx="1739880" cy="151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781680" y="5334120"/>
            <a:ext cx="17398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s Isolation; Coexistence &amp; Interoperability         With Legacy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81680" y="3733920"/>
            <a:ext cx="17398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9720" y="22096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3680" y="2286000"/>
            <a:ext cx="187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800600"/>
            <a:ext cx="17398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3560" y="4952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43560" y="3809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43560" y="42670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43560" y="27432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43560" y="22860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43560" y="25146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25840" y="197820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2960" y="2057400"/>
            <a:ext cx="2851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43560" y="20574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43560" y="56386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6920" y="1905120"/>
            <a:ext cx="57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43560" y="5867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5867280"/>
            <a:ext cx="1054080" cy="4446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2960" y="6095880"/>
            <a:ext cx="521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19720" y="44197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19720" y="28954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atched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31240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3560" y="29718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3560" y="32004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39625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-Mbps Data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40384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2960" y="4038480"/>
            <a:ext cx="2851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19720" y="33526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,13)  F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43560" y="34290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48769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86728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33680" y="274320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6680" y="4286160"/>
            <a:ext cx="730080" cy="196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6160" y="4118040"/>
            <a:ext cx="230040" cy="66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7720" y="44956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5600" y="2200320"/>
            <a:ext cx="421308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paths gives more independen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s for diffuse R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better with specular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Channel Detection Performa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4168800" cy="2882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292560" cy="250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019920" y="3276720"/>
            <a:ext cx="10126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rea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7520" y="2743200"/>
            <a:ext cx="453960" cy="0"/>
          </a:xfrm>
          <a:prstGeom prst="line">
            <a:avLst/>
          </a:prstGeom>
          <a:ln w="12600">
            <a:solidFill>
              <a:srgbClr val="969696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17600" y="1969920"/>
            <a:ext cx="45277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preferred 16-bi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s 8- and 16-bit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- and Noiseless Rayleigh-Channel Resul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00840" y="1771560"/>
            <a:ext cx="2403360" cy="19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085160" y="2646360"/>
            <a:ext cx="4032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84920" y="2646360"/>
            <a:ext cx="47952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904080" y="1770120"/>
            <a:ext cx="1241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ide-lob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1440" y="2533680"/>
            <a:ext cx="1641600" cy="1440"/>
          </a:xfrm>
          <a:prstGeom prst="line">
            <a:avLst/>
          </a:prstGeom>
          <a:ln w="12600">
            <a:solidFill>
              <a:srgbClr val="969696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10080" y="3657600"/>
            <a:ext cx="25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&amp; 8.7-Mbps with &amp; without Chan. M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Multipath without Thermal No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3809880"/>
            <a:ext cx="2666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7-, 10- &amp; 18-Mbps Rate Gaussian-Chann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4159080" cy="2625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343400" y="3962520"/>
            <a:ext cx="41497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678040" y="1720800"/>
            <a:ext cx="229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enna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23040" y="1727280"/>
            <a:ext cx="225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ntenna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9800" y="2343240"/>
            <a:ext cx="1054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M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3657600"/>
            <a:ext cx="1125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M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952880"/>
            <a:ext cx="892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4440" y="6005520"/>
            <a:ext cx="13730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a2ffa3"/>
                </a:solidFill>
                <a:latin typeface="Times New Roman"/>
                <a:ea typeface="Times New Roman"/>
              </a:rPr>
              <a:t>64 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76681"/>
                </a:solidFill>
                <a:latin typeface="Times New Roman"/>
                <a:ea typeface="Times New Roman"/>
              </a:rPr>
              <a:t>1000 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71960" y="6343560"/>
            <a:ext cx="311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Probability of Packet Failure vs. Input S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02280" y="6316560"/>
            <a:ext cx="1617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10- &amp; 8.7-Mbps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4840" y="6172200"/>
            <a:ext cx="682560" cy="0"/>
          </a:xfrm>
          <a:prstGeom prst="line">
            <a:avLst/>
          </a:prstGeom>
          <a:ln w="12600">
            <a:solidFill>
              <a:srgbClr val="a2ff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6477120"/>
            <a:ext cx="68256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3054240" cy="1463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921040" cy="1463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133720" y="3352680"/>
            <a:ext cx="3044880" cy="1482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940120" cy="144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057400" y="4724280"/>
            <a:ext cx="3083040" cy="1454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5257800" y="4724280"/>
            <a:ext cx="29304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1752480"/>
            <a:ext cx="6929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 on “Reduced-Complexity”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19320" y="2819520"/>
            <a:ext cx="4206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r bandwidth gives “multipath diversity” as shown here f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Gaussian-Chan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ng in 50-ns Delay Spr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25640" cy="2149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09480" y="4267080"/>
            <a:ext cx="6781680" cy="21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16-DBOK @ 32-Mchip/s Using Channel Matched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G enables operation for &gt;100 ns at cost of ~2K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 adds ~2 dB at cost of ~1K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adds ~1 dB at cost of antenna, Div. Switch (&amp;conn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everage in Carrying Two Chip Designs (Nearly the S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Leverage in PCMCIA Board Design Leaving out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43600" y="3276720"/>
            <a:ext cx="70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chip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010280" y="2590920"/>
            <a:ext cx="70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chip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79600" y="2617920"/>
            <a:ext cx="46022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gain of 1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Opera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 Interference 2-dB Below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 Interference Equal to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PG for CW vs. 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B increase in PG is Factor of two in (free-space) area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620040" y="2038320"/>
            <a:ext cx="1620720" cy="1765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>
            <a:off x="5030640" y="3260880"/>
            <a:ext cx="1595520" cy="1081080"/>
          </a:xfrm>
          <a:prstGeom prst="line">
            <a:avLst/>
          </a:prstGeom>
          <a:ln w="12600">
            <a:solidFill>
              <a:srgbClr val="969696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86360" y="4562640"/>
            <a:ext cx="13716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4960" y="4791240"/>
            <a:ext cx="914400" cy="9144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8400" y="4879800"/>
            <a:ext cx="682920" cy="225720"/>
          </a:xfrm>
          <a:prstGeom prst="line">
            <a:avLst/>
          </a:prstGeom>
          <a:ln w="12600">
            <a:solidFill>
              <a:srgbClr val="969696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550280" y="5267160"/>
            <a:ext cx="71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69080" y="5022720"/>
            <a:ext cx="6714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45160" y="5219640"/>
            <a:ext cx="5400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00760" y="5800680"/>
            <a:ext cx="5400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05640" y="5386320"/>
            <a:ext cx="208080" cy="30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10320" y="537696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602400" y="5283360"/>
            <a:ext cx="141480" cy="122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13640" y="5695920"/>
            <a:ext cx="950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673680" y="5664240"/>
            <a:ext cx="141480" cy="1317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5829480" y="2373480"/>
            <a:ext cx="95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829480" y="2449440"/>
            <a:ext cx="950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829480" y="2525760"/>
            <a:ext cx="95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829480" y="2602080"/>
            <a:ext cx="95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5680" y="2398680"/>
            <a:ext cx="412920" cy="184320"/>
          </a:xfrm>
          <a:prstGeom prst="line">
            <a:avLst/>
          </a:prstGeom>
          <a:ln w="1260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2880" y="2602080"/>
            <a:ext cx="488880" cy="0"/>
          </a:xfrm>
          <a:prstGeom prst="line">
            <a:avLst/>
          </a:prstGeom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0840" y="2449440"/>
            <a:ext cx="304920" cy="30492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73480" y="2550960"/>
            <a:ext cx="0" cy="10800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22360" y="2602080"/>
            <a:ext cx="108000" cy="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97160" y="2525760"/>
            <a:ext cx="152280" cy="152280"/>
          </a:xfrm>
          <a:prstGeom prst="ellipse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5410080"/>
            <a:ext cx="860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Walsh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49520" y="256212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373480" y="2738520"/>
            <a:ext cx="0" cy="317520"/>
          </a:xfrm>
          <a:prstGeom prst="line">
            <a:avLst/>
          </a:prstGeom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0960" y="2602080"/>
            <a:ext cx="489240" cy="0"/>
          </a:xfrm>
          <a:prstGeom prst="line">
            <a:avLst/>
          </a:prstGeom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10000" y="2676600"/>
            <a:ext cx="8380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eband 16-DBOK Tx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28960" y="1819440"/>
            <a:ext cx="762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-bit data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5280" y="1752480"/>
            <a:ext cx="8604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-bits data select 1 Walsh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981080" y="3048120"/>
            <a:ext cx="708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6-chip PN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719520" y="2459160"/>
            <a:ext cx="7840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I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28880" y="3255840"/>
            <a:ext cx="860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Q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25880" y="2867040"/>
            <a:ext cx="565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905440" y="23335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905440" y="27907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905440" y="32479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905440" y="37051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11960" y="202896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511960" y="210492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511960" y="218124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11960" y="225756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29480" y="2104920"/>
            <a:ext cx="0" cy="42732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740560" y="240984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740560" y="248616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740560" y="256212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740560" y="263844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667560" y="2324160"/>
            <a:ext cx="609480" cy="38088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02600" y="2552760"/>
            <a:ext cx="488880" cy="0"/>
          </a:xfrm>
          <a:prstGeom prst="line">
            <a:avLst/>
          </a:prstGeom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7440" y="2062080"/>
            <a:ext cx="803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-bits data orthog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667560" y="2705040"/>
            <a:ext cx="609480" cy="38088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are phas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269120" y="2890800"/>
            <a:ext cx="774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-bit data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2600" y="2857680"/>
            <a:ext cx="488880" cy="0"/>
          </a:xfrm>
          <a:prstGeom prst="line">
            <a:avLst/>
          </a:prstGeom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76640" y="4238640"/>
            <a:ext cx="19270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implementation of 16 complex correl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446720" y="1832040"/>
            <a:ext cx="1077840" cy="2000160"/>
            <a:chOff x="4446720" y="1832040"/>
            <a:chExt cx="1077840" cy="2000160"/>
          </a:xfrm>
        </p:grpSpPr>
        <p:sp>
          <p:nvSpPr>
            <p:cNvPr id="219" name=""/>
            <p:cNvSpPr/>
            <p:nvPr/>
          </p:nvSpPr>
          <p:spPr>
            <a:xfrm>
              <a:off x="4533840" y="185112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95960" y="19270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5960" y="2155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95960" y="23842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95960" y="2612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5960" y="28414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5960" y="30700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5960" y="3298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95960" y="35272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67360" y="20415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67360" y="25020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67360" y="2936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67360" y="34034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8760" y="31654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38760" y="2273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10160" y="27306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4446720" y="1832040"/>
              <a:ext cx="93672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87920" y="2238480"/>
            <a:ext cx="1077840" cy="2000160"/>
            <a:chOff x="4687920" y="2238480"/>
            <a:chExt cx="1077840" cy="2000160"/>
          </a:xfrm>
        </p:grpSpPr>
        <p:sp>
          <p:nvSpPr>
            <p:cNvPr id="237" name=""/>
            <p:cNvSpPr/>
            <p:nvPr/>
          </p:nvSpPr>
          <p:spPr>
            <a:xfrm>
              <a:off x="4775040" y="225756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23335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37160" y="25621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37160" y="27907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37160" y="3019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37160" y="3247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37160" y="34765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37160" y="37051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37160" y="39337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08560" y="24480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08560" y="29084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08560" y="3343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08560" y="3809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79960" y="3571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79960" y="26798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1360" y="31370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687920" y="2238480"/>
              <a:ext cx="93672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254480" y="3247920"/>
            <a:ext cx="565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81400" y="2232000"/>
            <a:ext cx="0" cy="225360"/>
          </a:xfrm>
          <a:prstGeom prst="line">
            <a:avLst/>
          </a:prstGeom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4000" y="2533680"/>
            <a:ext cx="834840" cy="2819520"/>
            <a:chOff x="324000" y="2533680"/>
            <a:chExt cx="834840" cy="2819520"/>
          </a:xfrm>
        </p:grpSpPr>
        <p:sp>
          <p:nvSpPr>
            <p:cNvPr id="257" name=""/>
            <p:cNvSpPr/>
            <p:nvPr/>
          </p:nvSpPr>
          <p:spPr>
            <a:xfrm>
              <a:off x="324000" y="253368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4000" y="2712960"/>
              <a:ext cx="40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3040" y="2832120"/>
              <a:ext cx="40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000" y="289080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301320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3040" y="289080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2560" y="301320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4000" y="3254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254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3040" y="3254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52560" y="3254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8760" y="337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8280" y="337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7800" y="337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57320" y="337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400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76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52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828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304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780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256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57320" y="39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6200" y="40910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960" y="40910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720" y="40910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0480" y="40910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96920" y="4091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992160" y="4091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87400" y="4091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82640" y="4091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684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04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60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80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636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56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112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332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588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9064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4284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9540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4760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00160" y="3983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904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380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856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332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808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4284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7600" y="326376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3800" y="290052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320" y="290052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42840" y="290052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3320" y="2722680"/>
              <a:ext cx="0" cy="102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4000" y="307512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520" y="319248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3040" y="319248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52560" y="307512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3800" y="308448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42840" y="308448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00" y="3432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432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040" y="355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52560" y="355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760" y="355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8280" y="355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00" y="3432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57320" y="3432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040" y="3441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3800" y="3441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8560" y="3441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3441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42840" y="3441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7600" y="3441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4000" y="36115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520" y="3733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3040" y="36115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52560" y="3733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8760" y="3733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8280" y="36115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7800" y="3733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57320" y="36115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9040" y="362124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8560" y="362124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8080" y="362124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7600" y="362124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000" y="3795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520" y="39132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3040" y="39132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2560" y="3795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8760" y="39132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8280" y="3795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7800" y="3795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57320" y="39132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40" y="380520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8560" y="380520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3320" y="380520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380520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47600" y="380520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4000" y="41529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760" y="41529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520" y="41529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8280" y="41529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3040" y="42750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7800" y="42750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2560" y="42750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57320" y="42750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6200" y="42750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960" y="42750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720" y="42750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0480" y="42750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096920" y="4152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992160" y="4152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87400" y="4152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82640" y="4152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684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4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160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380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636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856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112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588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9064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4284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540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4760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00160" y="41623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000" y="43340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8760" y="43340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3520" y="44546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280" y="44546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3040" y="43340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7800" y="43340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2560" y="44546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57320" y="44546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6200" y="44546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960" y="44546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5720" y="43340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0480" y="43340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096920" y="4334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992160" y="4334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87400" y="4454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82640" y="4454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684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904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160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636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56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12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588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808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9064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9540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760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00160" y="43434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000" y="45133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760" y="45133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3520" y="46324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8280" y="46324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3040" y="46324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7800" y="46324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52560" y="45133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57320" y="45133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6200" y="463248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960" y="463248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5720" y="451332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480" y="451332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096920" y="46324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992160" y="46324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87400" y="45133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640" y="45133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684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904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160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636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856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112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332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588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808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9064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9540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4760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00160" y="45226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4000" y="46944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8760" y="4811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3520" y="46944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8280" y="4811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3040" y="46944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7800" y="4811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52560" y="46944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57320" y="4811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6200" y="48117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0960" y="46944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5720" y="48117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80" y="46944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096920" y="46944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992160" y="48117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87400" y="46944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82640" y="48117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684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160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636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112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588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9064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540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00160" y="4703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4000" y="48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8760" y="4995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48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8280" y="4995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3040" y="4995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7800" y="48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52560" y="4995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57320" y="48736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6200" y="499572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0960" y="487368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720" y="499572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0480" y="487368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096920" y="4995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992160" y="48736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87400" y="4995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82640" y="48736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684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160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636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112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332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588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9064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9540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00160" y="4883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4000" y="5054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8760" y="51735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3520" y="51735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8280" y="5054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3040" y="5054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800" y="51735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52560" y="51735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7320" y="50547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6200" y="51735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960" y="50547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5720" y="50547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0480" y="51735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096920" y="5173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992160" y="50547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887400" y="50547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82640" y="5173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684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160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380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636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112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332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588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9064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4284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9540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00160" y="50641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4000" y="52322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760" y="53532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53532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8280" y="52322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040" y="53532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7800" y="52322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52560" y="52322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57320" y="535320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6200" y="53532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960" y="52322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5720" y="52322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0480" y="535320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096920" y="52322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992160" y="5353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87400" y="5353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82640" y="52322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684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160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380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636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112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588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9064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4284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540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00160" y="52419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 txBox="1"/>
          <p:nvPr/>
        </p:nvSpPr>
        <p:spPr>
          <a:xfrm>
            <a:off x="2944800" y="4049640"/>
            <a:ext cx="8827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aseband Constrained 4x4-ary DBOK Tx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573200" y="3497400"/>
            <a:ext cx="6825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344600" y="3726000"/>
            <a:ext cx="453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76200" y="3943440"/>
            <a:ext cx="289080" cy="4104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81120" y="3990960"/>
            <a:ext cx="22860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16200" y="3876840"/>
            <a:ext cx="243000" cy="22860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36800" y="3943440"/>
            <a:ext cx="0" cy="9828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86040" y="3990960"/>
            <a:ext cx="10620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76320" y="3933720"/>
            <a:ext cx="122400" cy="114480"/>
          </a:xfrm>
          <a:prstGeom prst="ellipse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41520" y="3960720"/>
            <a:ext cx="60480" cy="57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68560" y="3990960"/>
            <a:ext cx="41112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36800" y="3657600"/>
            <a:ext cx="0" cy="21276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716200" y="5478480"/>
            <a:ext cx="6825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N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76200" y="4629240"/>
            <a:ext cx="289080" cy="4104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81120" y="4676760"/>
            <a:ext cx="22860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16200" y="4562640"/>
            <a:ext cx="243000" cy="22860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36800" y="4629240"/>
            <a:ext cx="0" cy="9828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86040" y="4676760"/>
            <a:ext cx="10620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76320" y="4619520"/>
            <a:ext cx="122400" cy="114480"/>
          </a:xfrm>
          <a:prstGeom prst="ellipse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41520" y="4646520"/>
            <a:ext cx="60480" cy="57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68560" y="4676760"/>
            <a:ext cx="41112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36800" y="4343400"/>
            <a:ext cx="0" cy="21276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76200" y="5467320"/>
            <a:ext cx="289080" cy="4140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81120" y="5514840"/>
            <a:ext cx="22860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16200" y="5400720"/>
            <a:ext cx="243000" cy="22860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36800" y="5467320"/>
            <a:ext cx="0" cy="9828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86040" y="5514840"/>
            <a:ext cx="10620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76320" y="5457960"/>
            <a:ext cx="122400" cy="114480"/>
          </a:xfrm>
          <a:prstGeom prst="ellipse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41520" y="5484960"/>
            <a:ext cx="60480" cy="57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68560" y="5514840"/>
            <a:ext cx="41112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36800" y="5181480"/>
            <a:ext cx="0" cy="21276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76200" y="6229440"/>
            <a:ext cx="289080" cy="4104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81120" y="6276960"/>
            <a:ext cx="22860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16200" y="6162840"/>
            <a:ext cx="243000" cy="22860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936800" y="6229440"/>
            <a:ext cx="0" cy="9828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6040" y="6276960"/>
            <a:ext cx="10620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76320" y="6219720"/>
            <a:ext cx="122400" cy="114480"/>
          </a:xfrm>
          <a:prstGeom prst="ellipse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41520" y="6246720"/>
            <a:ext cx="60480" cy="57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68560" y="6276960"/>
            <a:ext cx="41112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36800" y="5943600"/>
            <a:ext cx="0" cy="21276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344600" y="4411800"/>
            <a:ext cx="453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344600" y="5249880"/>
            <a:ext cx="453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573200" y="4183200"/>
            <a:ext cx="6825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573200" y="5021280"/>
            <a:ext cx="6825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20760" y="5811840"/>
            <a:ext cx="6825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nstra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62120" y="4927680"/>
            <a:ext cx="324000" cy="30492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cc99"/>
                </a:solidFill>
                <a:latin typeface="Symbol"/>
                <a:ea typeface="Symbo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2478240" y="4668840"/>
            <a:ext cx="183960" cy="27936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490840" y="5214960"/>
            <a:ext cx="164880" cy="30492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494080" y="5227560"/>
            <a:ext cx="222120" cy="105408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95520" y="3997440"/>
            <a:ext cx="222120" cy="93024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2952720" y="4937040"/>
            <a:ext cx="324000" cy="30492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cc99"/>
                </a:solidFill>
                <a:latin typeface="Courier New"/>
                <a:ea typeface="Courier New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92600" y="5083200"/>
            <a:ext cx="56880" cy="0"/>
          </a:xfrm>
          <a:prstGeom prst="line">
            <a:avLst/>
          </a:prstGeom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82840" y="5083200"/>
            <a:ext cx="35244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05000" y="5257800"/>
            <a:ext cx="0" cy="27000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29400" y="4514760"/>
            <a:ext cx="89856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155000" y="4363920"/>
            <a:ext cx="1063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620040" y="4591080"/>
            <a:ext cx="609480" cy="30492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383600" y="4592520"/>
            <a:ext cx="835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38880" y="4743360"/>
            <a:ext cx="28908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620040" y="5048280"/>
            <a:ext cx="609480" cy="30492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620040" y="5505480"/>
            <a:ext cx="609480" cy="30492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620040" y="5962680"/>
            <a:ext cx="609480" cy="304920"/>
          </a:xfrm>
          <a:prstGeom prst="rect">
            <a:avLst/>
          </a:prstGeom>
          <a:noFill/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29400" y="4971960"/>
            <a:ext cx="89856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5429160"/>
            <a:ext cx="89856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5886360"/>
            <a:ext cx="89856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238880" y="5200560"/>
            <a:ext cx="28908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38880" y="5657760"/>
            <a:ext cx="28908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238880" y="6114960"/>
            <a:ext cx="289080" cy="0"/>
          </a:xfrm>
          <a:prstGeom prst="line">
            <a:avLst/>
          </a:prstGeom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155000" y="4821120"/>
            <a:ext cx="1063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7155000" y="5278320"/>
            <a:ext cx="1063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155000" y="5735520"/>
            <a:ext cx="1063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383600" y="5049720"/>
            <a:ext cx="835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383600" y="5506920"/>
            <a:ext cx="835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383600" y="5964120"/>
            <a:ext cx="835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81960" y="3238560"/>
            <a:ext cx="135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639200" y="4000680"/>
            <a:ext cx="135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8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47640" y="2222640"/>
            <a:ext cx="3440160" cy="19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HY Pream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LL Settl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Correlators for Rx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-Filter Assist for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 for CSMA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Time = SIFS = 9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102360" y="1555920"/>
            <a:ext cx="13842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92280" y="1555920"/>
            <a:ext cx="542304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Pre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308240" y="1866960"/>
            <a:ext cx="4114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, Select Antenna, Load CMF, Pick Timing,SFD  ~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07000" y="2019240"/>
            <a:ext cx="48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79320" y="2021040"/>
            <a:ext cx="55260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02440" y="201924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11720" y="2021040"/>
            <a:ext cx="45432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642000" y="1866960"/>
            <a:ext cx="4572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808520" y="2139840"/>
            <a:ext cx="3865680" cy="43322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5803920" y="5054760"/>
            <a:ext cx="2133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ing with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714240" y="4137120"/>
            <a:ext cx="1720800" cy="21398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863640" y="5308560"/>
            <a:ext cx="14605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-Mbps Data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ing with 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36720" y="6141960"/>
            <a:ext cx="1143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ize (by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127920" y="6310440"/>
            <a:ext cx="1143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ize (by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247920" y="630864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2440080" y="3821040"/>
            <a:ext cx="2425680" cy="2606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2973240" y="5749920"/>
            <a:ext cx="1076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 Bob O’H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144960" y="3992400"/>
            <a:ext cx="1523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 Throughput for 500- kbps/STA traffic using 10-Mbps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Cafarella</dc:creator>
  <dc:description>John Cafarella, Micrilor</dc:description>
  <dc:language>en-US</dc:language>
  <cp:lastModifiedBy>John Cafarella</cp:lastModifiedBy>
  <cp:revision>0</cp:revision>
  <dc:subject/>
  <dc:title>Update of Micrilor Proposal</dc:title>
</cp:coreProperties>
</file>