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46-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1360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 TGb ball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er’s report TGb bal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1 held March 12, 1998, 9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voters at s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non-voters leaving the ro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ballots ca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lid ballo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 ballo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vo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er’s report TGb ballo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74640" y="1523880"/>
            <a:ext cx="66294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er’s report TGb ballo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2 held March 12, 1998, 11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voters at s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non-voters leaving the ro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ballots ca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lid ballo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 ballo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vo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er’s report TGb ballo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74640" y="1523880"/>
            <a:ext cx="66294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hip of TGb Tel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cel D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art K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petr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