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ables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Area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ponse from an 802.11 perspectiv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of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ppears to be no new functionalit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perhaps a new standard is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ly PAN can use much of the knowledge embodied in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-to-device cable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n application is not really a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re is new functionalit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a new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ince it is not a LAN, does it fall under 802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, of course any PHY could be built up into a LA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very least PAN requires the definition of a new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constraining the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bytes/s - real-time-video is too broad of a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desires to develop a standard for personal area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is unsure whether to operate as part of 802.11, or submit a new PAR request to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requests input and assistance from 802.11 to help answer tha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Sp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bytes/s … real-time-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PAN Desired Fun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of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-to-device cable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of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d hoc networks meet PAN’s ad hoc LA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infrastructure networks meet PAN’s infrastructure LA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-to-de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re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networks are overkill for such a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ndard interface for such dev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very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802.11 devices meet W/PAN’s LAN Spe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tegration of 802.11 devices increases, a natural course of action wi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will drop rapidly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will drop rapidly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size will drop rapidly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10BT Ethernet adapter now retails for about $15 (retail); cell phones (StarTac, Nippondenso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802.11 devices meet W/PAN’s LAN Spe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G is currently focused on higher speed LANs that will lik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more, and consume even mor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at least in the short t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with a real volume-sales market that needs product, 802.11 mfgrs could also focus on building smaller, lower power, shorter range 802.11 products that meet W/PAN’s needs on an accelerated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andards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Standards captu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ake it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win Engwer</dc:creator>
  <dc:description>Darwin Engwer, Netwave</dc:description>
  <dc:language>en-US</dc:language>
  <cp:lastModifiedBy>Darwin Engwer</cp:lastModifiedBy>
  <cp:revision>0</cp:revision>
  <dc:subject>Thoughts on WPANs from an 802.11 Point of View</dc:subject>
  <dc:title>Thoughts on WPANs</dc:title>
</cp:coreProperties>
</file>