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3352680" y="8838720"/>
            <a:ext cx="177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EE440A-625D-42DF-AF26-F11611B55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Line 9"/>
          <p:cNvSpPr/>
          <p:nvPr/>
        </p:nvSpPr>
        <p:spPr>
          <a:xfrm>
            <a:off x="685800" y="88390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826200" y="87994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98320" y="363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4635720" y="36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1.16xx-99/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4271760" y="8839080"/>
            <a:ext cx="16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name, Aff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8D5552-4EF5-4101-97C9-ED915092A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eee802.org/16/subm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64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nsert Document Title Her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Mentor Presentation Template (Rev. 0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ccording to the format “IEEE 802.16-YY-#####-RR-FFFF”, per &lt;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eee802.org/16/submit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a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s re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ocument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ploa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n the format 2012-01-01. Tell the truth. Automatic numbering is prohibite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uthor Name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elephone Number (optional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ffiliation*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email address (recommended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ddress Line 1 (optional)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ddress Line 2 (optional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&lt;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http://standards.ieee.org/faqs/affiliation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ite the specific document number of the appropriate Call for Contributions, the ballot number, etc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If this presentation accompanies a base 802.16 contribution, cite i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escription of w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is requested of the 802.16 Working Group or subgroup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It represents only the views of the participants listed in the “Source(s)”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bylaws/sect6-7.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opman/sect6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18880"/>
            <a:ext cx="8686800" cy="48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6 Presentation Cover Sheet Instructions</a:t>
            </a:r>
            <a:br>
              <a:rPr sz="32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the cover sheet for all presentations at IEEE 802.16 WG meeting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format i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uitable for formal contributions, which must be submitted with the IEEE 802.16 WG Document Submission Templa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http://ieee802.org/16/submit.html&gt;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1) Fill in the cover page information. Remove the square brackets. Leave the disclaimers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) Add presentation materials in your own forma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gos and other unnecessary commercial graphics are not permitted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 only the fonts “Times” (or “Times New Roman”), “Arial” (or “Helvetica”) and “Symbol,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nce these fonts need not be embedded in PDF files. You may use other fonts only i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cessa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your presentatio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5) Delete this instruction page from your submissio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6) Submit the presentation following the instructions in the Call for Contributions or the 802.16 Document Submission Instructions &lt;http://ieee802.org/16/submit.html&gt;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7:00:55Z</dcterms:created>
  <dc:creator>Roger Marks</dc:creator>
  <dc:description/>
  <dc:language>en-US</dc:language>
  <cp:lastModifiedBy>Roger Marks</cp:lastModifiedBy>
  <cp:lastPrinted>1998-02-10T13:28:06Z</cp:lastPrinted>
  <dcterms:modified xsi:type="dcterms:W3CDTF">2011-12-30T01:21:46Z</dcterms:modified>
  <cp:revision>68</cp:revision>
  <dc:subject/>
  <dc:title>No Slide Title</dc:title>
</cp:coreProperties>
</file>