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1EB6-17D8-48C5-8DF3-95396315A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0C2D-A091-4AAC-8E32-A84ACD749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6CC4-1BA0-4278-AD2D-7CF5B8D34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6BF8-98DD-4CCE-BEE8-AF5F1B31C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3D57-B104-40AE-B675-B46A78CC0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CA61-938C-44B9-A188-C15E5DFFE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81D7-D8B4-4A5B-AD1B-D325292AD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A0DA-46B6-492B-AD51-5775954B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16BB-5D2B-4E13-9374-5B6C32BA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7113-9C69-41E3-875D-28C805C3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D9D7-942E-460B-A6CF-89049B11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E3C8-0D58-442C-8F54-6937AF14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049E2-991F-464F-BB18-039B2CE8A4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410080" y="5259240"/>
            <a:ext cx="1394640" cy="563040"/>
            <a:chOff x="5410080" y="5259240"/>
            <a:chExt cx="1394640" cy="563040"/>
          </a:xfrm>
        </p:grpSpPr>
        <p:sp>
          <p:nvSpPr>
            <p:cNvPr id="44" name=""/>
            <p:cNvSpPr/>
            <p:nvPr/>
          </p:nvSpPr>
          <p:spPr>
            <a:xfrm>
              <a:off x="6324120" y="5334120"/>
              <a:ext cx="4806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D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5410080" y="5259240"/>
              <a:ext cx="1373400" cy="533520"/>
              <a:chOff x="5410080" y="5259240"/>
              <a:chExt cx="1373400" cy="533520"/>
            </a:xfrm>
          </p:grpSpPr>
          <p:sp>
            <p:nvSpPr>
              <p:cNvPr id="46" name=""/>
              <p:cNvSpPr/>
              <p:nvPr/>
            </p:nvSpPr>
            <p:spPr>
              <a:xfrm>
                <a:off x="5792760" y="5259240"/>
                <a:ext cx="149400" cy="301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410080" y="5562720"/>
                <a:ext cx="1373400" cy="230040"/>
              </a:xfrm>
              <a:custGeom>
                <a:avLst/>
                <a:gdLst/>
                <a:ahLst/>
                <a:rect l="l" t="t" r="r" b="b"/>
                <a:pathLst>
                  <a:path w="865" h="145">
                    <a:moveTo>
                      <a:pt x="0" y="0"/>
                    </a:moveTo>
                    <a:lnTo>
                      <a:pt x="864" y="0"/>
                    </a:lnTo>
                    <a:lnTo>
                      <a:pt x="720" y="48"/>
                    </a:lnTo>
                    <a:lnTo>
                      <a:pt x="816" y="96"/>
                    </a:lnTo>
                    <a:lnTo>
                      <a:pt x="672" y="144"/>
                    </a:lnTo>
                    <a:lnTo>
                      <a:pt x="0" y="14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flipH="1" flipV="1">
                <a:off x="6021360" y="5411520"/>
                <a:ext cx="379440" cy="74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5487480" y="5486400"/>
              <a:ext cx="872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edi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5410080" y="1982880"/>
            <a:ext cx="1394640" cy="562680"/>
            <a:chOff x="5410080" y="1982880"/>
            <a:chExt cx="1394640" cy="562680"/>
          </a:xfrm>
        </p:grpSpPr>
        <p:sp>
          <p:nvSpPr>
            <p:cNvPr id="51" name=""/>
            <p:cNvSpPr/>
            <p:nvPr/>
          </p:nvSpPr>
          <p:spPr>
            <a:xfrm>
              <a:off x="6324120" y="2057400"/>
              <a:ext cx="4806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D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5410080" y="1982880"/>
              <a:ext cx="1373400" cy="533160"/>
              <a:chOff x="5410080" y="1982880"/>
              <a:chExt cx="1373400" cy="533160"/>
            </a:xfrm>
          </p:grpSpPr>
          <p:sp>
            <p:nvSpPr>
              <p:cNvPr id="53" name=""/>
              <p:cNvSpPr/>
              <p:nvPr/>
            </p:nvSpPr>
            <p:spPr>
              <a:xfrm>
                <a:off x="5792760" y="1982880"/>
                <a:ext cx="149400" cy="301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410080" y="2286000"/>
                <a:ext cx="1373400" cy="230040"/>
              </a:xfrm>
              <a:custGeom>
                <a:avLst/>
                <a:gdLst/>
                <a:ahLst/>
                <a:rect l="l" t="t" r="r" b="b"/>
                <a:pathLst>
                  <a:path w="865" h="145">
                    <a:moveTo>
                      <a:pt x="0" y="0"/>
                    </a:moveTo>
                    <a:lnTo>
                      <a:pt x="864" y="0"/>
                    </a:lnTo>
                    <a:lnTo>
                      <a:pt x="720" y="48"/>
                    </a:lnTo>
                    <a:lnTo>
                      <a:pt x="816" y="96"/>
                    </a:lnTo>
                    <a:lnTo>
                      <a:pt x="672" y="144"/>
                    </a:lnTo>
                    <a:lnTo>
                      <a:pt x="0" y="14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H="1" flipV="1">
                <a:off x="6021360" y="2134800"/>
                <a:ext cx="379440" cy="74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5487480" y="2209680"/>
              <a:ext cx="872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edi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982880" y="1677960"/>
            <a:ext cx="1368360" cy="37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54480" y="2057400"/>
            <a:ext cx="1293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354480" y="1601640"/>
            <a:ext cx="1293840" cy="74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869080" y="1601640"/>
            <a:ext cx="1216080" cy="454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1676520"/>
            <a:ext cx="1219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82880" y="1297080"/>
            <a:ext cx="1368360" cy="37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2880" y="915840"/>
            <a:ext cx="1368360" cy="37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3354480" y="839520"/>
            <a:ext cx="1369800" cy="4554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81080" y="534960"/>
            <a:ext cx="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687240"/>
            <a:ext cx="0" cy="227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666880"/>
            <a:ext cx="8229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44-X - DTE Power via MDI Powered Device (PD) relationship to the ISO/IEC Open Systems Interconnection (OSI) reference model and the IEEE 802.3 CSMA/CD LAN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82880" y="4954680"/>
            <a:ext cx="1368360" cy="37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54480" y="5334120"/>
            <a:ext cx="1293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354480" y="4878000"/>
            <a:ext cx="1293840" cy="745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5867280" y="4878360"/>
            <a:ext cx="1219320" cy="453960"/>
            <a:chOff x="5867280" y="4878360"/>
            <a:chExt cx="1219320" cy="453960"/>
          </a:xfrm>
        </p:grpSpPr>
        <p:sp>
          <p:nvSpPr>
            <p:cNvPr id="72" name=""/>
            <p:cNvSpPr/>
            <p:nvPr/>
          </p:nvSpPr>
          <p:spPr>
            <a:xfrm>
              <a:off x="5869080" y="4878360"/>
              <a:ext cx="1216080" cy="453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867280" y="4921200"/>
              <a:ext cx="1219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1982880" y="4573440"/>
            <a:ext cx="1368360" cy="37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82880" y="4192560"/>
            <a:ext cx="1368360" cy="37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3354480" y="4116240"/>
            <a:ext cx="1293840" cy="4557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81080" y="3811680"/>
            <a:ext cx="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352680" y="3963960"/>
            <a:ext cx="0" cy="227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5972040"/>
            <a:ext cx="8381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44-X - DTE Power via MDI Power Sourcing Equipment (PSE) relationship to the ISO/IEC Open Systems Interconnection (OSI) reference model and the IEEE 802.3 CSMA/CD LAN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4648320" y="3887280"/>
            <a:ext cx="1218960" cy="1445040"/>
            <a:chOff x="4648320" y="3887280"/>
            <a:chExt cx="1218960" cy="1445040"/>
          </a:xfrm>
        </p:grpSpPr>
        <p:sp>
          <p:nvSpPr>
            <p:cNvPr id="81" name=""/>
            <p:cNvSpPr/>
            <p:nvPr/>
          </p:nvSpPr>
          <p:spPr>
            <a:xfrm>
              <a:off x="4649760" y="4878360"/>
              <a:ext cx="1216080" cy="453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HY/MA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649760" y="4497480"/>
              <a:ext cx="1216080" cy="377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A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649760" y="4116240"/>
              <a:ext cx="1216080" cy="378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4648320" y="3887280"/>
              <a:ext cx="0" cy="22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5867280" y="3963600"/>
              <a:ext cx="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648320" y="611280"/>
            <a:ext cx="1218960" cy="1444680"/>
            <a:chOff x="4648320" y="611280"/>
            <a:chExt cx="1218960" cy="1444680"/>
          </a:xfrm>
        </p:grpSpPr>
        <p:sp>
          <p:nvSpPr>
            <p:cNvPr id="87" name=""/>
            <p:cNvSpPr/>
            <p:nvPr/>
          </p:nvSpPr>
          <p:spPr>
            <a:xfrm>
              <a:off x="4649760" y="1601640"/>
              <a:ext cx="1216080" cy="454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HY/MA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649760" y="1220760"/>
              <a:ext cx="1216080" cy="378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A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649760" y="839880"/>
              <a:ext cx="1216080" cy="377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763560"/>
              <a:ext cx="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4648320" y="61128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876920" y="806400"/>
            <a:ext cx="1523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d-Span P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92760" y="2058840"/>
            <a:ext cx="149400" cy="301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62720" y="2362320"/>
            <a:ext cx="1373040" cy="230040"/>
          </a:xfrm>
          <a:custGeom>
            <a:avLst/>
            <a:gdLst/>
            <a:ahLst/>
            <a:rect l="l" t="t" r="r" b="b"/>
            <a:pathLst>
              <a:path w="865" h="145">
                <a:moveTo>
                  <a:pt x="0" y="0"/>
                </a:moveTo>
                <a:lnTo>
                  <a:pt x="864" y="0"/>
                </a:lnTo>
                <a:lnTo>
                  <a:pt x="720" y="48"/>
                </a:lnTo>
                <a:lnTo>
                  <a:pt x="816" y="96"/>
                </a:lnTo>
                <a:lnTo>
                  <a:pt x="672" y="144"/>
                </a:lnTo>
                <a:lnTo>
                  <a:pt x="0" y="14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79720" y="2330280"/>
            <a:ext cx="872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di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2362320"/>
            <a:ext cx="1373040" cy="230040"/>
          </a:xfrm>
          <a:custGeom>
            <a:avLst/>
            <a:gdLst/>
            <a:ahLst/>
            <a:rect l="l" t="t" r="r" b="b"/>
            <a:pathLst>
              <a:path w="865" h="145">
                <a:moveTo>
                  <a:pt x="864" y="0"/>
                </a:moveTo>
                <a:lnTo>
                  <a:pt x="0" y="0"/>
                </a:lnTo>
                <a:lnTo>
                  <a:pt x="144" y="48"/>
                </a:lnTo>
                <a:lnTo>
                  <a:pt x="48" y="96"/>
                </a:lnTo>
                <a:lnTo>
                  <a:pt x="192" y="144"/>
                </a:lnTo>
                <a:lnTo>
                  <a:pt x="864" y="144"/>
                </a:lnTo>
                <a:lnTo>
                  <a:pt x="86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85840" y="2133720"/>
            <a:ext cx="480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354480" y="2133720"/>
            <a:ext cx="1369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3354480" y="1220400"/>
            <a:ext cx="1369800" cy="531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92200" y="2330280"/>
            <a:ext cx="872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di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82880" y="1754280"/>
            <a:ext cx="1368360" cy="377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2880" y="1373040"/>
            <a:ext cx="1368360" cy="37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82880" y="992160"/>
            <a:ext cx="1368360" cy="37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81080" y="763560"/>
            <a:ext cx="0" cy="227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3352680" y="611280"/>
            <a:ext cx="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2971800"/>
            <a:ext cx="8001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44-X - DTE Power via MDI mid-span PSE relationship to the ISO/IEC Open Systems Interconnection (OSI) reference model and the IEEE 802.3 CSMA/CD LAN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344840" y="2211120"/>
            <a:ext cx="379440" cy="74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59240" y="1601640"/>
            <a:ext cx="1216080" cy="45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57800" y="1644480"/>
            <a:ext cx="1219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54440" y="2133720"/>
            <a:ext cx="480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6021360" y="2211120"/>
            <a:ext cx="455760" cy="74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88040" y="2590920"/>
            <a:ext cx="836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954680" y="1447920"/>
            <a:ext cx="83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802040" y="1295280"/>
            <a:ext cx="1141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726080" y="1220760"/>
            <a:ext cx="1825560" cy="9111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1447920"/>
            <a:ext cx="839880" cy="915840"/>
          </a:xfrm>
          <a:custGeom>
            <a:avLst/>
            <a:gdLst/>
            <a:ahLst/>
            <a:rect l="l" t="t" r="r" b="b"/>
            <a:pathLst>
              <a:path w="529" h="577">
                <a:moveTo>
                  <a:pt x="0" y="576"/>
                </a:moveTo>
                <a:lnTo>
                  <a:pt x="0" y="0"/>
                </a:lnTo>
                <a:lnTo>
                  <a:pt x="528" y="0"/>
                </a:lnTo>
                <a:lnTo>
                  <a:pt x="528" y="9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00600" y="1295280"/>
            <a:ext cx="1144440" cy="1068480"/>
          </a:xfrm>
          <a:custGeom>
            <a:avLst/>
            <a:gdLst/>
            <a:ahLst/>
            <a:rect l="l" t="t" r="r" b="b"/>
            <a:pathLst>
              <a:path w="721" h="673">
                <a:moveTo>
                  <a:pt x="0" y="672"/>
                </a:moveTo>
                <a:lnTo>
                  <a:pt x="0" y="0"/>
                </a:lnTo>
                <a:lnTo>
                  <a:pt x="720" y="0"/>
                </a:lnTo>
                <a:lnTo>
                  <a:pt x="720" y="19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29080" y="2286000"/>
            <a:ext cx="720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P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4280040"/>
            <a:ext cx="75596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The PSE Sublayer sits below the PHY/MDI, hence this interface is an ‘un-powered’ MDI. The PSE sublayer in turn then provides a Powered MDI. Following this model it seems that a Mid-Span insertion box can be modelled as shown abov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0T09:45:09Z</dcterms:created>
  <dc:creator>David Law</dc:creator>
  <dc:description/>
  <dc:language>en-US</dc:language>
  <cp:lastModifiedBy>3Com Staff</cp:lastModifiedBy>
  <cp:lastPrinted>2000-09-20T11:00:32Z</cp:lastPrinted>
  <dcterms:modified xsi:type="dcterms:W3CDTF">2000-09-27T09:31:30Z</dcterms:modified>
  <cp:revision>13</cp:revision>
  <dc:subject/>
  <dc:title>No Slide Title</dc:title>
</cp:coreProperties>
</file>