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3F54-E665-4A28-820D-FEA1FCE9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F6EA-8DB8-4F1C-967B-58DA4917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DC3-A0D7-4FBE-A895-AC0604EC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47DA-6236-456E-A5A8-5C8B9C05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DEF-2C06-40F1-8EDB-0D719F57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4FF-BE9E-43BC-AF06-031051CC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430-6711-41CA-A5D3-83AEF06B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5E9F-5DEF-46A4-AC24-3567AEB1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AB9C-4523-45A0-AE68-F8C2D043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DEC6-AF5A-4353-82E3-6A605630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596-96EA-4A79-BF62-CD198AC5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8AF3-20B4-4839-9B59-D3481B4A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762120"/>
            <a:ext cx="7696080" cy="5486400"/>
          </a:xfrm>
          <a:custGeom>
            <a:avLst/>
            <a:gdLst/>
            <a:ahLst/>
            <a:rect l="l" t="t" r="r" b="b"/>
            <a:pathLst>
              <a:path w="4848" h="3552">
                <a:moveTo>
                  <a:pt x="4848" y="3552"/>
                </a:moveTo>
                <a:lnTo>
                  <a:pt x="0" y="355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b2b2b2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762120"/>
            <a:ext cx="7848720" cy="5562360"/>
          </a:xfrm>
          <a:custGeom>
            <a:avLst/>
            <a:gdLst/>
            <a:ahLst/>
            <a:rect l="l" t="t" r="r" b="b"/>
            <a:pathLst>
              <a:path w="4848" h="3552">
                <a:moveTo>
                  <a:pt x="4848" y="3552"/>
                </a:moveTo>
                <a:lnTo>
                  <a:pt x="0" y="3552"/>
                </a:lnTo>
                <a:lnTo>
                  <a:pt x="0" y="0"/>
                </a:lnTo>
              </a:path>
            </a:pathLst>
          </a:custGeom>
          <a:noFill/>
          <a:ln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49520"/>
            <a:ext cx="23414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rch 11 - 15, 200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51080" y="6400800"/>
            <a:ext cx="289584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TE Power via MDI T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8A26-6EED-4E7D-A24A-2A3F859771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7620120" y="6095880"/>
            <a:ext cx="1295280" cy="609840"/>
          </a:xfrm>
          <a:custGeom>
            <a:avLst/>
            <a:gdLst/>
            <a:ahLst/>
            <a:rect l="l" t="t" r="r" b="b"/>
            <a:pathLst>
              <a:path w="480" h="384">
                <a:moveTo>
                  <a:pt x="144" y="240"/>
                </a:moveTo>
                <a:lnTo>
                  <a:pt x="144" y="0"/>
                </a:lnTo>
                <a:lnTo>
                  <a:pt x="288" y="0"/>
                </a:lnTo>
                <a:lnTo>
                  <a:pt x="288" y="48"/>
                </a:lnTo>
                <a:lnTo>
                  <a:pt x="480" y="48"/>
                </a:lnTo>
                <a:lnTo>
                  <a:pt x="480" y="288"/>
                </a:lnTo>
                <a:lnTo>
                  <a:pt x="0" y="384"/>
                </a:lnTo>
                <a:lnTo>
                  <a:pt x="0" y="336"/>
                </a:lnTo>
                <a:lnTo>
                  <a:pt x="432" y="240"/>
                </a:lnTo>
                <a:lnTo>
                  <a:pt x="144" y="24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8248680" y="6229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8318520" y="615312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8318520" y="6292800"/>
            <a:ext cx="8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8166240" y="6292800"/>
            <a:ext cx="792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Disconnect detection ad hoc mee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201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de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is Cullin, Fred , Roger, Dave, Yair, Stev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n Dove, Thong, Scott, 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8040" y="1811160"/>
            <a:ext cx="7772400" cy="42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ope of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monstrate technical and economical feasibility of PSE based ac disconnect detection and determined if there is impact on previous functions in the draf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98040" y="293400"/>
            <a:ext cx="7759800" cy="56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ing to be perform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efine black box test set up parameters in which will be used by PD vendors to evaluate potential problems and will be reported to the ad hoc when found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Send over the reflector to adhoc memebers the standard circuit for all testing (Yair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Yair,Dave,Thong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ests will done in order to confirm Table 12 by checking min/max parameters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udio interference with existence phones, LCD – RF interference (Roger,Scott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Resources: Phone, Single port PSE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mmunity tests (check specifically at line frequency) (Roger,Yair(high power PD)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Resources: Phone, Single port PSE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FT test (2 port tests) (Roger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N55024 (Scott), EN55022/CISPR22/FCC NB30/MPT 1570 (2 port tests) (Roger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Resources: Phones, 4 ports PSE min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ensitivity to line frequency and ringing interference with CAT 3 cable (Yair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Use florescent turn on/turn off to test sensitivity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Resources: Phones, Ring generators, 1 ports PSE min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o define the pulse spectrum of the ac signal (Yair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Resources: Simulations, single port)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est how over-current affected by the ac disconnect pulses(Yair, Dave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Resources: Simulations, Lab tests, single port)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valuate the impact of two Midspan PSE’s with ac disconnect scheme. (Dan Dove)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How port to port cross regulation, cross talk affected by the ac circuit. (Yair)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Resources:  Lab tests, 3 port min look at the centered one 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heck Roger tasks for 1000BT (Roger to pass to Broadcom?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ffects of PD load transient. (Yair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Resources: Lab test, single port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ffect on feedback loop of SMPS (Yair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Resources: Simulations, single port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sses the benefits of sampling the ac pulses on specific timings (Yair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mplementation issue – no need to analyz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 analyze the PD input ac impedance without DC current (Yair, Dave,Fred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Resources:  Simulations, confirm with 2-3 phones, single port 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o set the optimum probing frequency range (narrow th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range) Yair, Fred, Thon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Resources:  Simulations, confirm with 2-3 phones, single port )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st for PSE output voltage step.(Dave, Yair,Thong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(Resources:  Simulations, single port 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6200" y="3265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Need to spec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2800" y="1298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876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able 5, Item 3: Specify ac amplitude min and max under no PD condition at the RJ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876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Disconnect detection ac voltage source min series impedance? Possibly the max to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876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Specify the frequency and toler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7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PSE port output voltage shall not exceed 60V during disconnect detection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876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Disconnect threshold min =0.7xV_open  , 0.8xV_open max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876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Disconnect detection time: as specified by TPMDO or 400ms max, when ac disconnect alternative is used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876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Min number of ac pulses above vth before disconn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876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Spec pulse width, rise time, fall time, spectrum and toleranc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876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Pulse behavior, (burst?, can be off at times, must turn off after disconnect? Here possibly non-numerical spec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spec a test circuit schematics that emulates the PD max/min for must disconnect, and must remain powered condi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d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Spec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c max over a freq band and the  dc bias it is tested at, we need this with 37v-57v spec This should take into account the min/max L, C per table 1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zero dc condition (yair- not spec re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PSRR of the PD at the ac disconnect frequency.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8400" y="196920"/>
            <a:ext cx="77724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88840" y="963720"/>
            <a:ext cx="7632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ee on test methodology, set-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above, post on the web as soon as we got resu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et tomorrow to decide the test setup and mytholog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ve to setup reflector disconnect ad-ho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testing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ne by end of April or delay interi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-on – who will do the 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abo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ent results - work to be completed prior to May Interim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“testing time line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5T20:27:33Z</dcterms:created>
  <dc:creator>Steven B.Carlson</dc:creator>
  <dc:description/>
  <dc:language>en-US</dc:language>
  <cp:lastModifiedBy>YairD</cp:lastModifiedBy>
  <cp:lastPrinted>2000-07-19T21:23:22Z</cp:lastPrinted>
  <dcterms:modified xsi:type="dcterms:W3CDTF">2002-03-14T15:44:15Z</dcterms:modified>
  <cp:revision>158</cp:revision>
  <dc:subject/>
  <dc:title>September 2000 DTE Power Agenda</dc:title>
</cp:coreProperties>
</file>